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AC1-651F-4407-99A5-8865F1E2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8D5-6059-4DF3-BFFE-55A866E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5A9-0D05-4765-94E8-E783AD6F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9CE-EFE2-47D7-AAF9-DCA427F9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799B-28EC-4BAC-861A-EA8F4638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B0E3-A734-4194-85C9-62F5464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A2C-ECDD-499A-A1E5-4ADF18C9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727-DDA4-4A43-8A8A-E507AFBD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747-5CCE-48C8-B8CD-282935DF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A76-B42E-44D4-922E-53B9B12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2E28-2593-4A47-8589-89FAC22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AAB-408B-4A8A-A967-95C0466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1AA-347F-4CC5-AB91-E2BD20C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B500-877A-4EB5-A0A3-7D13CA9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E3DA-D781-4FE1-8286-8CDA6AC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816-C4F6-43CF-A552-7EBA886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65F1-5909-48E5-8737-7723600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25C-8E83-4488-99BC-961E116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3F7-4AFA-4FB3-8517-4BDD34C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792-F883-4CCD-AE1E-4DB40838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6DA-C861-4779-B0C0-C323B44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41D-1B8B-462F-8174-1F43A5F2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26F-AD44-4511-9B9B-A20E1AE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CDA-A189-40BB-BA74-B3337B1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9CE-690D-4631-B25A-186C1C1FFABF}" type="slidenum">
              <a:rPr b="0" lang="zh-CN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82F-B6FD-49E6-972A-447F1A32E63B}" type="slidenum">
              <a:rPr b="0" lang="zh-CN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:/My%20Documents/my%20documents/kejianku/kejians/Abraham%20Lincoln.ppt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8288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9U1</a:t>
            </a: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（教学案）</a:t>
            </a:r>
            <a:endParaRPr b="0" lang="en-US" sz="8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641840"/>
            <a:ext cx="248472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词组或句子用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Language points</a:t>
            </a:r>
            <a:r>
              <a:rPr b="0" lang="pt-BR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Montreal, a port in the province of Quebec, is the second largest city in Canada, and also the second largest French-speaking city in the world, Paris being the larges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句中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aris being the largest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用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r eyes __________ the opposite wall, she did not answer immediately.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的眼睛盯着对面的墙，她没有立即回答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8954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独立主格结构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3581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xed on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anada is one of the largest countries in the world, 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second only t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Russia, and has always been famous for its fantastic natural scene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ond to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ond only to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仅次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ond to none   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41911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最佳的，得第一，独一无二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mong the most impressive athletes were the swimmers, but all of the athletes were worthy of praise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2096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复习倒装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本句为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放句首，主句要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倒装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eg.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二十人出席了会议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_______________________________________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for short            ······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的缩写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Canada has vast areas of wilderness, from the Arctic north,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average winter temperatures are usually minus 20 degrees centigrade, to the 8,892-kilometre-long border with the USA in the south,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which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is said to be the longest border in the world not defended by an army or the police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438280"/>
            <a:ext cx="876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复习定语从句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My favorite room is the tidy study with a fireplace, ___ we can watch TV and enjoy the nice scenery outside.           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A. where      B. when        C. that        D. which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The soldiers had to sleep in their wet clothes, </a:t>
            </a:r>
            <a:r>
              <a:rPr b="1" lang="zh-CN" sz="2800" spc="-1" strike="noStrike" u="sng">
                <a:solidFill>
                  <a:srgbClr val="336666"/>
                </a:solidFill>
                <a:uFillTx/>
                <a:latin typeface="Arial"/>
              </a:rPr>
              <a:t>_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__ most uncomfortable. 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A. which I think it was     B. which I think was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66"/>
                </a:solidFill>
                <a:latin typeface="Arial"/>
              </a:rPr>
              <a:t>C. which I think           D. that I think w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76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原句回放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n autumn, maple leaves turn a beautiful red and the tree itself supplies Canada’s most famous food—maple syrup—which 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goe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perfectly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with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pancakes. (L5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47716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A go with B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 ①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协调       ②同时存在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eg: Her dress doesn’t go with the shoes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【课堂教与学】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重点单词用法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There are many wild animals in the forests and on the freezing lands in the north, and fish are abundant in the seas and rivers.</a:t>
            </a:r>
            <a:r>
              <a:rPr b="0" lang="zh-CN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81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freezing adj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极冷的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严寒的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e.g. freezing cold;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The temperature remained below freezing all day. 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温度整天都在冰点以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frozen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冰冻的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frozen foo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The lake was frozen over until late spring. 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那湖全让冰封住了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到晚春才解冻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The seedling was frozen to death. 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幼苗被冻死了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freeze v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abundant a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丰富的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充裕的 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abundance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Indonesia is abundant in petroleum deposits. 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印尼的石油蕴藏量丰富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There is abundant firewood in the forest. 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森林里有充裕的薪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2)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Toronto, the largest city in Canada, ranks among the most multicultural cities in the world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rank  vt. &amp; vi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将…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归为某个等级；排列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等级；军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rank with/among/as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列为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rank next to sb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仅次于某人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Among the most impressive athletes were the swimmers, but all of the athletes were worthy of praise.</a:t>
            </a:r>
            <a:r>
              <a:rPr b="0" lang="zh-CN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2767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My mothe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impressed me with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the importance of hard work.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我母亲使我明白了努力工作的重要性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= My mothe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impressed the importance of hard work on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me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Her smiles have given me a deep impression.   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她的笑给我留下了很深的印象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The picture left/made a deep impression on me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那幅图片给我留下了深刻的印象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7080" y="198108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impressive  adj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给人深刻印象的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impress  vt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有印象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impression  n.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印象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3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▲ worth / worthy / worthwhil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固定句式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b / Sth be worth sth / doing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b / Sth be worthy of sth / being done / to be done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worthwhile to do sth / doing sth.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h/To do sth / Doing sth is worthwhil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The rest are content to sit in their armchairs and watch.</a:t>
            </a:r>
            <a:r>
              <a:rPr b="0" lang="zh-CN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7524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ontent  vt.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满足；使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安心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n.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内容；目录；含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dj.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满足的；满意的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ontent oneself with sth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满足于…  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be (well) content with sth. (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满足于…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be content to do sth.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满足于做…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We should never __________________book knowledge only.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我们切不可满足于仅仅有一点书本知识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he is not content to be a housewife.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她不满足于做个家庭主妇。</a:t>
            </a:r>
            <a:r>
              <a:rPr b="0" lang="zh-CN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343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ent ourselves with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5. 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i="1" lang="zh-CN" sz="3200" spc="-1" strike="noStrike">
                <a:solidFill>
                  <a:srgbClr val="336666"/>
                </a:solidFill>
                <a:latin typeface="Arial"/>
              </a:rPr>
              <a:t>Many people owe their love of sport to the perfect weather conditions 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owe…to…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欠某人…；把…归于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Pay me the money you owe me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把你欠的钱还我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He owes his success more to himself than to his parents.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他认为他的成功是靠自己而不是靠父母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【原句回放】 </a:t>
            </a:r>
            <a:r>
              <a:rPr b="1" lang="zh-CN" sz="3200" spc="-1" strike="noStrike">
                <a:solidFill>
                  <a:srgbClr val="336666"/>
                </a:solidFill>
                <a:latin typeface="Arial"/>
              </a:rPr>
              <a:t>It is like an underground city, covering an area of more than 20 football pitches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1952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Cover v. 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覆盖，铺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反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:expose);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掩盖，掩饰，藏匿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;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占据（时间，空间）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;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包括，涉及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       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走过（路程）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;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看过…页书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;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够付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开支等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),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弥补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损失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对…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进行新闻采访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,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报道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Eg. Lies cannot cover facts./ cover a mistake / cover one’s tracks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销声匿迹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   </a:t>
            </a:r>
            <a:r>
              <a:rPr b="1" i="1" lang="zh-CN" sz="2800" spc="-1" strike="noStrike">
                <a:solidFill>
                  <a:srgbClr val="336666"/>
                </a:solidFill>
                <a:latin typeface="Arial"/>
              </a:rPr>
              <a:t>Cover the expense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5-08-13T12:41:14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