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4FD-2B17-4E2B-88E9-5F5D20EF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DBD-EAD4-4BC4-ABC1-FFBF7DFF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829-12F8-4C9E-AE64-14A3E07E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AE0-FE08-4181-900F-55B83241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8324-3A15-42D6-B79B-71BFBEBE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CE8D-E522-439C-A5A7-3ACBD66A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78F2-6C4B-4CC6-B5C1-723BBC72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7BF1-8E37-4699-B3DF-E7C1A557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0607-C0B4-4BB0-A866-3A473D5F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413B-2E82-438A-AF1A-754ACA0B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B819-D0C5-4047-8713-B3F91C69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D03-2922-4BD4-9E40-8D5B370D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D750-85C6-42B3-98BC-A918E791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D5CC-A4E3-44D7-BD05-947F34AC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B5CB-616B-4903-810C-1A8BBA54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6B73-DFEB-4C17-9993-CFFC61F8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580E-2184-4040-B885-89B898DD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681-463E-4C85-BE6E-09DCB934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112-2ACF-4088-81BB-D3530D49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0D0-08E1-4F1B-A39C-D40D0030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C6E-F737-4C0D-954C-28188A41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01B-1B93-47CA-8CE1-EDECC0B2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108-10C6-4BFA-AFC2-B11B5A86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BA3-F517-4C08-8D48-40487AAC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9DAA-274E-46AB-8382-13CC36E8D9F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72EF-583F-4ED6-8390-1DAF8AC38A8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:/My%20Documents/my%20documents/kejianku/kejians/Abraham%20Lincoln.ppt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182880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9U3</a:t>
            </a:r>
            <a:r>
              <a:rPr b="1" lang="zh-CN" sz="8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（教学案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641840"/>
            <a:ext cx="248472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5335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原句回放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flag, ----, is based on a national flag dating back to the 13th century,---. (P3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096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[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考点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]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cc3300"/>
                </a:solidFill>
                <a:latin typeface="Times New Roman"/>
              </a:rPr>
              <a:t>1). date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8195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to have existed a particular length of time or since a particular time: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追溯到……时间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This tradition dates back to medieval ti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2670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3300"/>
                </a:solidFill>
                <a:latin typeface="Times New Roman"/>
              </a:rPr>
              <a:t>2). base sth on sth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76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If you base something on facts or ideas, you use those facts or ideas to develop it: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以……基础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The film is based on a short story by Thomas Mann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3). a national flag </a:t>
            </a: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Times New Roman"/>
              </a:rPr>
              <a:t>dating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back to the 13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In this sentence, ing-form is used as an attribut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67652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湖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wild flowers looked like a soft orange blanket _____ the desert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covering     B. covered    C. cover     D. to 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析：从句意看，应是主动，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vering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n’t respond to any e-mails _______ personal information, no matter how official they look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searching B. asking C. requesting D. ques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析：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项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eques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主动，符合题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2590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4572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7960" y="1066680"/>
            <a:ext cx="13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[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考例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380880"/>
            <a:ext cx="8610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原句回放】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The most common one is that red stands    for blood, or things that are physical, while white represents the spiritual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P3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[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考点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]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cc3300"/>
                </a:solidFill>
                <a:latin typeface="Times New Roman"/>
              </a:rPr>
              <a:t>whi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429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cc3300"/>
                </a:solidFill>
                <a:latin typeface="Times New Roman"/>
              </a:rPr>
              <a:t>despite the fact that; although:   </a:t>
            </a:r>
            <a:r>
              <a:rPr b="1" i="1" lang="zh-CN" sz="3200" spc="-1" strike="noStrike">
                <a:solidFill>
                  <a:srgbClr val="cc3300"/>
                </a:solidFill>
                <a:latin typeface="Times New Roman"/>
              </a:rPr>
              <a:t>尽管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ile I fully understand your point of view, I do also have some sympathy with Michael'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8006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while (BU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410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m is very confident while Katy's shy and quie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76212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cost of living in Glasgow is among the lowest in Britain,  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 the quality of life is probably one of the highest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since          B. when          C. as             D. 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简析：此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并列连词，意思为“然而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江苏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accept that he is not perfect, I do actually like the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le      B. Since       C. Before     D. U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简析：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思为“尽管”，引导让步状语从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1676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4114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0"/>
            <a:ext cx="15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[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考例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【知识点讲解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Language points</a:t>
            </a:r>
            <a:r>
              <a:rPr b="0" lang="pt-BR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1) symbolize  vt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象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dove symbolizes peace.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)                   n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符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象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ymbolic  adj.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符号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象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扩展：“象征，代表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dove __________/ __________/ _________ peace.    (v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dove is ______________ peace.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ymbol   n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1844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1341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鸽子象征和平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24000" y="3500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ands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3357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pre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0" y="407664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ymboli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4653000"/>
            <a:ext cx="30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 symbol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compromise n.&amp; vi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妥协，折中，让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ake a compromise wi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……妥协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mpromise with sb.on..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某人就……妥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y compromis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妥协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ach a compromis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达成妥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e ready and willing to make compromises between your needs and those of your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刻准备好并乐意在自己与伴侣的需求之间作出让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submit v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服从；递交；呈递（文件等）；投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submit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服从于；屈从于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submit oneself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甘受…；服从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submit...to..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提交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substitute v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替换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replace; take the place 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…替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; n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代替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代替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 substitute for..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代替者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substitute A for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substitute B with/by 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代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substitute 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代替；取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5. bound adj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定会；受…约束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e bound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定或注定做…；有责任或义务做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hina is bound to consume enormous amounts of raw materials as it devel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We are bound to obey the law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有义务遵守法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【课堂教与学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重点单词用法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3333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1) justice    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合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a sense of justic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义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reat sb. (sth.) with justic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n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公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公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us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dj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平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正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合理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 just punishmen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正的惩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) Justly  adv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正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当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应得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30720" y="137124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秉公对待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-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989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justi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原句回放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se flags are more than just pieces of cloth sewn together at random with thread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752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[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考点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]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cc3300"/>
                </a:solidFill>
                <a:latin typeface="Times New Roman"/>
              </a:rPr>
              <a:t>1). More than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的相关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14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More than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＋名词”表示“不仅仅”。如：</a:t>
            </a:r>
            <a:br>
              <a:rPr sz="3200"/>
            </a:br>
            <a:r>
              <a:rPr b="1" i="1" lang="zh-CN" sz="3200" spc="-1" strike="noStrike">
                <a:solidFill>
                  <a:srgbClr val="cc3300"/>
                </a:solidFill>
                <a:latin typeface="Times New Roman"/>
              </a:rPr>
              <a:t>1) Jason is more than a lecturer; he is a writer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114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6767ff"/>
                </a:solidFill>
                <a:latin typeface="Times New Roman"/>
                <a:ea typeface="Times New Roman"/>
              </a:rPr>
              <a:t>拓展</a:t>
            </a:r>
            <a:r>
              <a:rPr b="1" lang="zh-CN" sz="3200" spc="-1" strike="noStrike">
                <a:solidFill>
                  <a:srgbClr val="6767ff"/>
                </a:solidFill>
                <a:latin typeface="Times New Roman"/>
              </a:rPr>
              <a:t>]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在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More...than...”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中，肯定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more”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后面的而否定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than”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后面的，意思为“与其说……不如说……”。如：</a:t>
            </a:r>
            <a:br>
              <a:rPr sz="3200"/>
            </a:br>
            <a:r>
              <a:rPr b="1" i="1" lang="zh-CN" sz="3200" spc="-1" strike="noStrike">
                <a:solidFill>
                  <a:srgbClr val="cc3300"/>
                </a:solidFill>
                <a:latin typeface="Times New Roman"/>
              </a:rPr>
              <a:t>2) Hearing the loud noise, the boy was more surprised than frightened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883908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3300"/>
                </a:solidFill>
                <a:latin typeface="Times New Roman"/>
              </a:rPr>
              <a:t>2). sew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的相关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verb [I/T] 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to join together or attach (esp. pieces of cloth) by putting thread through it with a needle 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缝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860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e sewed her outfit by hand.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ould you sew on these buttons?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had to sew up (= repair) a hole in my j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8098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3) pieces of cloth and thread sewn toge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956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sewn: a past participle used as an attribu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Eg.  a building built on the co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85800"/>
            <a:ext cx="899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(200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prize of the game show is $30000 and an all expenses ______ vacation to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aying     B. paid   C. to be paid     D. being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简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ai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过去分词，表示被动和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n't use words, expressions, or phrases_______ only to people with specific knowled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ing know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having been know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o be know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简析：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项不能作定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过去分词，表示被动和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1600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9880" y="-720"/>
            <a:ext cx="143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[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考例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原句回放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fore the Revolution, there had been great unrest in France because people had no freedom . (P3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209680"/>
            <a:ext cx="8991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1). </a:t>
            </a:r>
            <a:r>
              <a:rPr b="1" i="1" lang="zh-CN" sz="3200" spc="-1" strike="noStrike">
                <a:solidFill>
                  <a:srgbClr val="cc3300"/>
                </a:solidFill>
                <a:latin typeface="Times New Roman"/>
              </a:rPr>
              <a:t>unrest 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disagreements or fighting between different groups of people;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动荡，骚乱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40384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t is feared that the civil unrest we are now witnessing in this country could lead to full-scale civil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680" y="1676520"/>
            <a:ext cx="13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[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考点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]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2). Grammar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this sentence, there is a grammar point—the usage of past perfect tense. A perfective tense used to express action completed in the past; "`I had finished' is an example of the past perfect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04812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00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_________ more that 5,000 English words when he entered the university at the age of 15?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A. has learned  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would have learned 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learned  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had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析：考查了时态问题，关键是要抓住时间状语和上下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35053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0240" y="2362320"/>
            <a:ext cx="13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[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考例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原句回放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ed symbolizes the bravery, revolution, strength and blood of the French, which were all needed to change the country. (P3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362320"/>
            <a:ext cx="83818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[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考点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]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1). </a:t>
            </a:r>
            <a:r>
              <a:rPr b="1" i="1" lang="zh-CN" sz="3200" spc="-1" strike="noStrike">
                <a:solidFill>
                  <a:srgbClr val="cc3300"/>
                </a:solidFill>
                <a:latin typeface="Times New Roman"/>
              </a:rPr>
              <a:t>strengthen    verb [I or T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to make something stronger or more effective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使强壮、加强、巩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They have been strengthening their border defenses in preparation for war.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His battle against cancer has strengthened his belief in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2). Attributive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808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Attributive: A word or word group, such as an adjective, that is placed adjacent to the noun it modifies without a linking verb; for example, pale in the pale girl. While a clause is used as an attributive, it is called attributive cl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44640"/>
            <a:ext cx="91440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[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考例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江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owner of the cinema needed to make a lot of improvements and employ more people to keep it running, ______ meant spending tens of thousands of pounds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who        B. that       C. as            D. 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代前面的主句，引导非限制性定语从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5-08-10T11:46:21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