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736-968D-4D33-9904-2E1DF796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065-6593-4DAD-A9CC-A6DF5CAA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ACF-1873-4388-96C2-379F12B2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298-6929-4BC0-A791-64EB333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6721-37AC-4932-A90B-7B5DD75F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1B9-3477-4F97-BFF0-3E3F6C3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D1E-AD77-4A72-ADC7-EA533A8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0385-9E0C-43F6-9853-B562CEB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E560-29AB-4D7C-AF52-A9364931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774-68BD-4403-AFDC-65EA29D9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6B8F-CD04-45B3-9BC5-048B7E8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286-56F1-48AC-85E4-1B3D5F1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FC59-2FC9-41D5-BAAB-CD66FA2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3F0-CD32-4E28-8D34-77096C7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CC9-3843-4C92-9BF1-AF7412D0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1D51-FECA-45AC-BCB4-49FE86C6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06C-4712-4D1E-9B18-E88EE326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775-6BCB-404C-9DF0-8946C18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76A-9FBD-4132-BC3A-B0D74A4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E4E-FF92-4DC1-85CA-8EB1604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73A-88EB-46DC-9247-3EB313C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A20-BC4C-4439-8614-D76CEF7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063-3E7B-44F4-BC0C-EB930FB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848-70E1-4CB1-A3F0-2A1E1A2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402A-4BA4-47F7-8519-161F0EF0BE4D}" type="slidenum">
              <a:rPr b="0" lang="zh-CN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632F-8DD8-4BC3-8636-EED4658032BC}" type="slidenum">
              <a:rPr b="0" lang="zh-CN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:/My%20Documents/my%20documents/kejianku/kejians/Abraham%20Lincoln.ppt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8288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9U2</a:t>
            </a: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（教学案）</a:t>
            </a:r>
            <a:endParaRPr b="0" lang="en-US" sz="8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641840"/>
            <a:ext cx="248472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While the pace of change in the modern world gets faster and faster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eople are becoming more and more aware of the need of preserve the world’s heritage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the pace of change 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社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变化的步伐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_______________________________________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跟上社会变化的步伐是很困难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句中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be aware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作“意识到”解，后可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短语或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从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 suddenly became aware of (= started to notice) him looking at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ncrease one’s awareness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n 1458, the Turks defeated the Greeks and 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seized control of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Athens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划线短语的意思是 夺取对……的控制权，另一含义相同的短语是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exercise control over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is drunk with power and exercises control over the king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他醉心于权利，对国王实施控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［拓展］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take /be in control of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掌管，控制；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lose control of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对……失去控制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be/get out of control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失去控制；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under the control of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处于……控制之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The Roman alphabet is a Greek invention, as is the marathon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2096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陈述句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+as/so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（通常后接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be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do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主语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该句型表示对前者的肯定陈述同样适用于后者，“…也是如此”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这部电影很乏味，其音乐也是如此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The film is so boring, ______________________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No one has had a greater influence on Western civilization than the ancient Greeks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4382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形容词或副词的比较级与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not, never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之类的否定词连用，表示最高级含义。意为“再没有比…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..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更…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的了”。常见句式有：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no/not/never/nothing …+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比较级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no/not/never/nothing….+v. +a/an +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比较级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  <a:ea typeface="宋体"/>
              </a:rPr>
              <a:t>单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时间比任何东西都珍贵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______________________ than time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n fact, repairs were so clumsy that they made some of the buildings less secure than they had been before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9703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本句中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so….that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引导结果状语从句，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that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只起连接作用，且从句中不缺少任何成分。如果从句中缺少主语或宾语，则需要用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so…as…/such…as…/the same ….as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来引导定语从句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【课堂教与学】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重点单词用法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In particular, we </a:t>
            </a:r>
            <a:r>
              <a:rPr b="1" lang="zh-CN" sz="3200" spc="-1" strike="noStrike" u="sng">
                <a:solidFill>
                  <a:srgbClr val="336666"/>
                </a:solidFill>
                <a:uFillTx/>
                <a:latin typeface="Arial"/>
              </a:rPr>
              <a:t>associate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 ancient Greek civilization with the capital city of Athens, the greatest symbol of which is the Acropolis.</a:t>
            </a:r>
            <a:r>
              <a:rPr b="0" lang="zh-CN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971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ssociate A with B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联系在一起；由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联想到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 be associated with B  A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有关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ssociate with sb.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与某人交往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We should not sacrifice environmental protection to __________ economic growth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. concentrate     B. promote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. associate       D. accumulate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2. 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King Henry VIII accused her of having </a:t>
            </a:r>
            <a:r>
              <a:rPr b="1" i="1" lang="zh-CN" sz="3200" spc="-1" strike="noStrike" u="sng">
                <a:solidFill>
                  <a:srgbClr val="336666"/>
                </a:solidFill>
                <a:uFillTx/>
                <a:latin typeface="Arial"/>
              </a:rPr>
              <a:t>affairs,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 and sent her to the tower on 2 May 1536.</a:t>
            </a:r>
            <a:r>
              <a:rPr b="0" lang="zh-CN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current/foreign/world affairs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外交事务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国际事务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state of affairs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事态，情势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put one’s affairs in order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料理自己的事务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His death </a:t>
            </a:r>
            <a:r>
              <a:rPr b="1" lang="zh-CN" sz="3200" spc="-1" strike="noStrike" u="sng">
                <a:solidFill>
                  <a:srgbClr val="336666"/>
                </a:solidFill>
                <a:uFillTx/>
                <a:latin typeface="Arial"/>
              </a:rPr>
              <a:t>sentence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 was withdrawn at the last minute, though, and he spent thirteen years more in the Tower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051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pass/pronounce sentence on sb.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宣布对某人的判决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erve one’s sentence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某人服刑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under sentence of death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判处死刑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entence sb. to sth.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判处某人…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那名男子因偷窃被判入狱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The man was _______________ for theft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In addition, getting these historic sites recognized by the rest of the world is helpful for preserving and repairing them, as it stresses to everyone their extreme importance and value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4382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uffer from stress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受到压力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under the stress of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在…的压力下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tress sth. /that…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强调…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tress sb. out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使某人极度焦虑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当你感到疲惫焦虑时，抽出时间笑一笑，那名人们对你的感觉就会不一样了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When you are _______________, take time to put on a smile, and people will react to you differently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9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ressed out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5. 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In a gesture to help preserve history, the Greek government </a:t>
            </a:r>
            <a:r>
              <a:rPr b="1" i="1" lang="zh-CN" sz="3200" spc="-1" strike="noStrike" u="sng">
                <a:solidFill>
                  <a:srgbClr val="336666"/>
                </a:solidFill>
                <a:uFillTx/>
                <a:latin typeface="Arial"/>
              </a:rPr>
              <a:t>appointed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 a committee in 1975 to undertake a complete repair of the Acropolis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286000"/>
            <a:ext cx="838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point sh. to sth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委派某人任某职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point sb. to do sth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定某人做某事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被任命为市长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was ___________________ the mayor of the city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80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Poor repair work has to be mended, especially on some sections which are lying around loose, or which might fall down.</a:t>
            </a:r>
            <a:r>
              <a:rPr b="0" lang="zh-CN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195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end vt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修理，解决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end one’s ways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改过自新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end with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用…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修补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词组或句子用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Language points</a:t>
            </a:r>
            <a:r>
              <a:rPr b="0" lang="pt-BR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5-08-13T13:18:53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