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D4E-FE18-47AB-85E4-51443381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C01-B99E-40AA-9EF4-569508A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8AD-8DC3-420A-8CAB-8FE7EA5F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3E2-9A18-45A8-8C66-0D779D1D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D2A-982A-4712-A9AB-12BF09A3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B38-DC86-4392-A26B-1A89013F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099-27DB-4498-A57A-A9625B6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C21-6187-45BB-AC06-82B2D4B0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AE9-EDEF-4FCC-AFCD-204C88A1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A7C-D2EB-4E7C-BC71-2A108B08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44D-AFBD-4B7E-A516-AC088DF8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6F3-9B98-40BA-B04D-1F549C8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2D2C-4D88-4A76-AABA-1A764237E3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w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M7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The world online</a:t>
            </a:r>
            <a:br>
              <a:rPr sz="4400"/>
            </a:b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Words and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resp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vi.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gare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responded 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im until his death. 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account of event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responds 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rs.  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ritish job of Lectur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responds roughly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US Associate Prof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符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;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似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信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往信件；通信；相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者，通信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j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符合的，相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308920" y="-720"/>
            <a:ext cx="5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符合，一致；相应；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628280" y="883440"/>
            <a:ext cx="397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玛格丽特和他保持通信直到他去世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948760" y="17517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你说的情况跟她说的相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66560" y="304704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英国的讲师职位大致相当于美国的副教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873320" y="411480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rrespond to/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819520" y="4648320"/>
            <a:ext cx="281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rrespon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600200" y="5029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knowl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knowledged 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de a mis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knowledged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 had made a mis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e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knowledged 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est singer in the world.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acknowledged his help in her letter. 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you acknowledge his letter?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承认，认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感谢，告知收到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349080" y="227880"/>
            <a:ext cx="50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t.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承认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鸣谢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打招呼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告知已收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59920" y="15231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他承认他做错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482280" y="236124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她被认为是世界上最好的歌唱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279240" y="3123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她在信中对他的帮助表示谢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542960" y="3885480"/>
            <a:ext cx="37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你有没有告诉他来信已经收到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712800" y="4648320"/>
            <a:ext cx="796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cknowledge sth/doing sth/having done/that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承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838440" y="5105520"/>
            <a:ext cx="69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cknowledge +n. +as/to be+n./adj.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认为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045600" y="55627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cknowledge s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拓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widely acknowledged that ….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们普遍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cknowledgement of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某事表示感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点迷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用法区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常指公开承认某事的真实情况或自己的过错。 还有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意思，和表示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             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调因外力或良心驱使或经判断而明确承认，多含不情愿或被迫意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还有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acknowledged ___________ ___________ _____________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被打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_______ ________ _________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们普遍认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that he was inno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971800" y="2133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表示感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554840" y="251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告知已收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600720" y="3732840"/>
            <a:ext cx="120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许可进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307160" y="3581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接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3520" y="4876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t     was   widely    acknowled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985680" y="449568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een            def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028840" y="4114800"/>
            <a:ext cx="1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assum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_____________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y is based on a series of wrong assump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assume anything in this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assuming that the present situation is going to contin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ust assume him to be innocent until he is proved guil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320280" y="151560"/>
            <a:ext cx="43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假定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假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责任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承担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担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86160" y="60948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s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805480" y="608760"/>
            <a:ext cx="47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取得（权力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承担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担任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假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呈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407040" y="167544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这一理论是以一系列错误的设想为依据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432960" y="2589840"/>
            <a:ext cx="6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在这种情形下我们无法作任何揣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006160" y="35805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我认为目前的情况将会继续下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755800" y="4418640"/>
            <a:ext cx="47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尚未证实他有罪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就得假定他是清白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830160" y="5257800"/>
            <a:ext cx="60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ssume+n./that/n.+(to be/as)+n./ad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、形成性检测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．根据提示，补全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oal is to track small objects with great __________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精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country is a_____________ in natural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 am here to _________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取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ome money so I can pay my taxes to Uncle S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The mayor gave a television a________________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We need to _____________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评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how well the policy is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What are the q___________________ for an airline pi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Which b_____________ of  toothpaste do you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I am at your c_______________ ------What would you like m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629400" y="914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819520" y="1676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u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438280" y="2133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th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80060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0" y="3200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90920" y="3962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752480" y="4343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438280" y="4800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．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受某人支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退学，退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为重要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新的，现代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00400" y="1371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urn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00400" y="1905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someone’s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00400" y="2514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op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505320" y="3048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8862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p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成性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ADD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置性补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 ___________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.____________ n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e ____________(ad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____________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____________(adj.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_____________(ad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 ___________(v.)   ______________(n.)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_____________(v.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____________(adj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____________(v.)     _____________(n.)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ointment __________(v)   ___________(adj.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 ____________(v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______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反义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 _____________________(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514600" y="457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s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676520" y="914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47920" y="1295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905120" y="1752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828800" y="2133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33720" y="2590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90512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du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876920" y="3048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057400" y="3429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438280" y="3886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e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752480" y="4267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181480" y="4267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514600" y="4724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p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105520" y="4724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2133720" y="5181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295280" y="5562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666880" y="60199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置性补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首字母提示，补全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resident __________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发表演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he nation, he often chooses his words very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eing __________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correct, though, does not equal being up to 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His actions do not ____________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his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 child was a___________ by his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She decided to sound the a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4120" y="4648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64832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361960" y="236232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189320" y="3276720"/>
            <a:ext cx="19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rresp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579840" y="419112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and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cla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v.__________________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claimed that the ring was stolen, not l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claims to be a good pianist.  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laimed damages against the company for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ir crash claimed 120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ody believed his claim that he was inno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ers made a claim for increase of w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made no claim to understand modern art.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来归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8108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宣称、断言、认领、索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57400" y="380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声明、断言、索款、索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76212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62120" y="1600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声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85800" y="2286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他因受伤向公司要求履行损害赔偿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85800" y="3048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灾难导致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人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762120" y="3809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没有人相信他是无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838080" y="4495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提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85800" y="5257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自认为不懂现代艺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用作动词时，往往有如下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称，声称。通常在有怀疑或反对的时候使用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ike claims to have finished all the homework, but no one believes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求，索取（某种正当权益下的称号，财产或金钱等）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e hasn't claimed on the insurance after his car acc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认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致、夺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用作名词时通常有下面这些含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求。要求某项东西时，常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用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er claim for more money wasn't even considered by the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权利（后常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介词）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blind have a claim to a decent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明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is claim to know the president was not belie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comm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commander n.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[C] _____________ [U]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用搭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man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/have comman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(a) good comman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omeone’s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听从您的吩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您要我做什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______________________——what would you like me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精通法语和中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_______________________French and Chi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867280" y="152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指挥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133720" y="685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命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371600" y="1066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指挥、控制、掌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58128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指挥、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876920" y="243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指挥、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18148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精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572000" y="3200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受某人支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676520" y="4114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your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828800" y="5257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s a good comman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t.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用搭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sb. to do s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+that …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虚拟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委员会命令他们停建那栋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ittee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constructing that bui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走近高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my received a command that they _____ to the front immedi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ould march B. must marc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hould march   D. were mar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00200" y="152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命令、指挥、控制、掌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29000" y="21337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anded them to commanded that they (shou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467480" y="3886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dd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.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is preparing to address a meet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was addressed to the wrong house.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aper does not address the real issues.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ddressed her as “Miss Martine”.   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address ourselves more to environmental problems.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19320" y="685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探讨、解决、处理、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说话、称呼（某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143000" y="990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献殷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362320" y="1676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向大会发表演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600200" y="243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这封信写错了地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90720" y="3581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你的论文没有论证实质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952880" y="5943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致力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552480" y="4495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称呼（某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恐怕把包裹上收件人的地址写错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afraid I have __________ _____ _________ wrong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统应被称呼为“总统先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should ___________ ___________ ____________‘Mr. President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忽略细枝末节，着手解决主要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gnored the side issue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 ______ _______ ________the main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505320" y="17524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ddressed     the     par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495680" y="2895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19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ddress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4495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ddressed  himself to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6:52:32Z</dcterms:created>
  <dc:creator/>
  <dc:description/>
  <cp:keywords/>
  <dc:language>en-US</dc:language>
  <cp:lastModifiedBy>Administrator</cp:lastModifiedBy>
  <dcterms:modified xsi:type="dcterms:W3CDTF">2016-10-06T05:17:0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