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4AF-8938-444C-AA30-5BCFB0A7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994-D03B-4FEA-91A6-4CBBC1F8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352-1D01-4FB1-91E0-1C96EA55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390-71F8-4A2F-BBC5-213E4CED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137-6A30-49E1-8AAE-0E74981B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1D9-D1A8-41F8-866F-EC223CAC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0F8-A955-4496-846C-49C3B44F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D67-4685-43A5-AED9-4C033DA8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983-B093-498F-ABCA-6D813131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AEC-117C-4147-B4CF-28AC6856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427-731F-4EC0-9C41-52B47B8A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955-C99B-4B1A-8F2F-557CBB25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5514-B530-4134-8681-B5D406622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7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ojec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ing research on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ep three: using you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copy the words just as you found them is not onl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chea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also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t leg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So remember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n _______of the information you hav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your own _______and make your own __________about what it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a list of the ______     you got your information f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86000" y="28954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53040" y="380988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440" y="42670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143000" y="4780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tt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419720" y="480060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e mor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know about Internet re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e fa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find what you are looking for, an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he better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nform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你准备得越好，你就越有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智若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9640" y="19162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对网络搜索了解的越多，你就会越快的找到你要的东西，也会更好的了解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9640" y="3716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better prepared you are,   the more confident you will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5280" y="530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more a man knows, the more stupid he ap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re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owever,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me things to keep in mi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you use it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 re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keep in mi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 you'll have to practice economy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住要厉行节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on one’s mind/  have sth. on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/keep sth. in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/call sb/sth to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ne’s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up one’s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76720" y="10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记住，牢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55640" y="184464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ep in min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300720" y="3068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某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某物担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16360" y="378936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记得某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某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932360" y="422100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想起某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某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500720" y="465300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改变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572000" y="5157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定决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Fred, who had expected how it would go with his daughter , had a great worry ____ his mind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on     B. in   C. with    D.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---Do you mind my smoking here?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No, thanks   B. No good idea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Yes, please    D. Yes ,bette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The old pictures _______ his childhood to his m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kept            B. brought            C. had            D. 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改变了主意回了家而没有去邮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__________ _________ _________to go home in stead of going to post-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用了很长时间才打定主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___________ me a long time to_________ ___________ _________ 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076720" y="6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19564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924360" y="3284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71640" y="4508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nged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71640" y="57340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796000" y="5661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755640" y="609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771640" y="6093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643280" y="6093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507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ntents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earch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t been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evalu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1__________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._____________; vt. 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tent to do sth.== be willing to do sth ==be ready to do sth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愿意做某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tent with=_______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满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满足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sb. with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满足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ne’s heart’s content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满意足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尽情地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tented smi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足的微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348000" y="112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940360" y="105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547640" y="1557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含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050920" y="220500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满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084720" y="2060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满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708360" y="37893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 satisfi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95280" y="0"/>
            <a:ext cx="9539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requires you to be pati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have to read the information to decid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wh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is linked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are resear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句法分析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re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他们要求他保密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require me of?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这面墙需要修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98900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重主从复合句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引导原因状语从句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ther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引导宾语从句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引导宾语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9280" y="378936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y required him to keep it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619280" y="4724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要求我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11280" y="580536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wall requires repairing/ to be repa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uter requires____ but the manager requires me _____ to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o change; to continu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hanging;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changing; to continu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o change; to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427640" y="292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62064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b  to do s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h of 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at (should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ing/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things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ake into conside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are searc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nsideration  n.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考虑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1773360"/>
            <a:ext cx="864072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consideration f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under conside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ke sth. into conside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0" y="4149720"/>
            <a:ext cx="8783640" cy="19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ve consideration for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under consider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ke sth. into considera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_____ everything into consideration, she decided to work in the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iven       B. Taking         C. Taken         D. 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Have you considered ________him to hel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sk        B. asking      C. to ask       D.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件事正在考虑之中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atter is __________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692360" y="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940360" y="206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079640" y="486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nder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64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6. bother  vi, 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)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烦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打搅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)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使烦恼、难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)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为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操心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)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花费时间、精力（做某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't bother him with my little affair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※--- Do you want me to wait for you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 Don’t b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let this small thing both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other about us---we will join you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n’t even bother to say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other making the bed --- I’ll do it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028000" y="1484280"/>
            <a:ext cx="11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打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924360" y="263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别费事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7738920" y="314172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麻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8242200" y="479736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特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点词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行研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帮你搜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础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仔细搜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779280" y="181620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 research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346560" y="256536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ssist you in your 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779280" y="3068640"/>
            <a:ext cx="26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 based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348360" y="364500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sk 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707640" y="407664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 linke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491280" y="4653000"/>
            <a:ext cx="29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b throu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来归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68360" y="227664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other about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。。。烦恼，担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other to do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特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other+ sth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麻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8893080" cy="71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、形成性检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负责行李的那个人在每件行李上都贴了一个标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the luggag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a lab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iece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来查一下字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找到定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to find the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必须考虑到所有的事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本书对他的研究将有很大的价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ok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to him in his stu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孩子让妈妈帮助解决自己家庭作业中的困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l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moth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s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907640" y="105264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charg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280" y="98100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tac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188360" y="14842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255680" y="2492280"/>
            <a:ext cx="44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ult the dictio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195640" y="3933720"/>
            <a:ext cx="73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all the facts into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410560" y="49417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 of grea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691640" y="595008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rned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4858560" y="5877000"/>
            <a:ext cx="24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 help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词拼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e match was a_____________ because of bad we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I am not sure if I had the q_____________ for the job, but I applied for it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The essay isn't even remotely r____________ to the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Last week, she c__________ (through) all of the shops in the city for a new 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I made an a_________________ to see her in my office on Monday ev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787280" y="476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nd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011640" y="162864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a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188000" y="321300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356720" y="3716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m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923640" y="472428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poin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分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新的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虑进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底部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费心做某事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修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130560" y="14842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 divided i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75640" y="206064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bunch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347280" y="256536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p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632760" y="3068640"/>
            <a:ext cx="514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… into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562200" y="350028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 the bottom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562560" y="4076640"/>
            <a:ext cx="26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other to 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492720" y="458136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建议做某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关系，有影响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属于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出信息的梗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780000" y="1816200"/>
            <a:ext cx="34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s a general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94920" y="2637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commend sb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211640" y="3141720"/>
            <a:ext cx="36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a dif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707640" y="3573360"/>
            <a:ext cx="21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long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356000" y="407664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 an outline of the 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ways do we get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1135757802"/>
          <p:cNvPicPr/>
          <p:nvPr/>
        </p:nvPicPr>
        <p:blipFill>
          <a:blip r:embed="rId1"/>
          <a:stretch/>
        </p:blipFill>
        <p:spPr>
          <a:xfrm>
            <a:off x="685800" y="1828800"/>
            <a:ext cx="1600200" cy="1530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609480" y="4114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astest growing source of information in the world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15537"/>
          <p:cNvPicPr/>
          <p:nvPr/>
        </p:nvPicPr>
        <p:blipFill>
          <a:blip r:embed="rId2"/>
          <a:stretch/>
        </p:blipFill>
        <p:spPr>
          <a:xfrm>
            <a:off x="2666880" y="198108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FAS_MAG"/>
          <p:cNvPicPr/>
          <p:nvPr/>
        </p:nvPicPr>
        <p:blipFill>
          <a:blip r:embed="rId3"/>
          <a:stretch/>
        </p:blipFill>
        <p:spPr>
          <a:xfrm>
            <a:off x="5181480" y="1905120"/>
            <a:ext cx="133848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BD00028_"/>
          <p:cNvPicPr/>
          <p:nvPr/>
        </p:nvPicPr>
        <p:blipFill>
          <a:blip r:embed="rId4"/>
          <a:stretch/>
        </p:blipFill>
        <p:spPr>
          <a:xfrm>
            <a:off x="7315200" y="2278080"/>
            <a:ext cx="10666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600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ast reading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using the Internet to do research, you should keep some steps in m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907560" y="3505320"/>
            <a:ext cx="6403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ep one: choosing a search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ep two: searching fo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ep three: using you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p one: choosing a search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and answ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two search services mentioned in the gu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they both giv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 set some examples of search eng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606240" y="3124080"/>
            <a:ext cx="7968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arch  engines and subject direc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82560" y="4191120"/>
            <a:ext cx="60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 both give us direct li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838080" y="5715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oogle, Yahoo, Lycos and Exc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458200" cy="830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True or false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Search engines are a type of computer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Search engines present evalu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ents because the information has been checked by a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You need to be patient when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ject directories because the links go to the full articles or 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The links of the search engines are not classified by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Subject directories not only present correct information, but also are up to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06000" y="1143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06000" y="1981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6000" y="3124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06000" y="4267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6000" y="50292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622840" y="86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5334120" y="1905120"/>
            <a:ext cx="23619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242840" y="2286000"/>
            <a:ext cx="2155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n’t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1828800" y="3505320"/>
            <a:ext cx="3124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rch 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267080" y="5486400"/>
            <a:ext cx="762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ep two: searching for inform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several things to take into consideration when you are searc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3520" y="2819520"/>
            <a:ext cx="807696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formation get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eople put information o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way you type your key words makes a dif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50:54Z</dcterms:created>
  <dc:creator>walkinnet</dc:creator>
  <dc:description/>
  <cp:keywords/>
  <dc:language>en-US</dc:language>
  <cp:lastModifiedBy>Administrator</cp:lastModifiedBy>
  <dcterms:modified xsi:type="dcterms:W3CDTF">2016-10-06T05:17:45Z</dcterms:modified>
  <cp:revision>35</cp:revision>
  <dc:subject/>
  <dc:title>M7  Unit3  projec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