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221-0DCD-4BAB-9E13-62127673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03E6-6581-45EB-9676-7975897A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E92-ABD1-4E5F-8190-2371D553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DB2A-30B2-4D42-BEE5-630BD746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F565-9F9E-407D-ABA1-004E1504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48D-7921-404A-83D3-0DF6897D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D3C-40C5-43C1-9F48-601B0A4F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374-C45C-4AE1-ADA3-7A6FFD4A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3C03-0D20-4AB0-BA3F-D2F25585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B30-2CE2-4AA7-BF01-7A9D26F4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17F-EEB8-415A-B739-55741605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FB3-7AFB-4F28-9F59-827AC8D1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880A-65C1-4D1E-BC99-15DFF470BF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M7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U2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置性补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做出诊断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检查病人身体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需要紧急治疗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实施手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急救室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径直走向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量体温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感觉筋疲力尽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知道它可能导致的问题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调节灯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2743200" y="457200"/>
            <a:ext cx="6248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make a diagnosis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examine the patient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need urgent treatment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erform operation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the emergency room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go straight to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take one’s temperature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feel worn out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djust the lights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8200" y="5211720"/>
            <a:ext cx="7044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e aware of the problems it can cause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If necessary, the patient will have to go to the X-ray room to have pictures of his or her body parts ta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翻译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此句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句，补充完整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似的用法还有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练一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’ll be glad to take your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If necessary        B. If so       C. If any          D. If eve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Do you ever have the measles,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?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If necessary        B. If so       C. If any          D. If 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304920" y="1066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如果必要的话，病人将不得不去放射科给自己的身体拍片。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219320" y="18288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省略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-242280" y="1828800"/>
            <a:ext cx="89726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t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cessary, the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will have to go to the X-ray room to have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tures of his or her body parts taken.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048120" y="29718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f so, if ever, if any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669040" y="3203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792760" y="4191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We teach students to hold a book at least 30 cm away from their eyes while r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翻译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l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用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. One bag won'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 of the shopping - we'd better take two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 in his arms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Could yo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o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door open, pleas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考链接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We want to rent a bus which can ______ 40 people for our trip to Beijing. (200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全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load         B. hold         C. fill           D.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You have to be a fairly good speaker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eners’ interest for over an h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hold         B. make        C. improve       D. rece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85800" y="68580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我们教育学生在读书的时候，书要离眼睛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至少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0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厘米的距离。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349160" y="2331360"/>
            <a:ext cx="26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一个袋子装不下所有的东西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我们最好带两个。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4693320" y="281880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他把她抱在怀里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495680" y="350424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请让门继续开着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543800" y="3809880"/>
            <a:ext cx="4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6325920" y="50547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We have adjusted all the lights in the classrooms so that each room is well li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jus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_______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________________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英文翻译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chair is too high you c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dj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 to suit you.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作为一个老师，你不得不调整你得教学方法以满足学生的需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S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just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 skirt, took a deep breath and walked into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组扩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make adjustments to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adjust oneself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048400" y="913680"/>
            <a:ext cx="29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168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vt./ vi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适应，调整，校正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142280" y="1219320"/>
            <a:ext cx="19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djustment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952880" y="12193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djustable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0" y="0"/>
            <a:ext cx="2349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38160" tIns="-1137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0" y="0"/>
            <a:ext cx="2349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38160" tIns="-1137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0" y="0"/>
            <a:ext cx="2349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38160" tIns="-1137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3816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3816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1855080" y="2620080"/>
            <a:ext cx="54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如果这把椅子太高的话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你可以调整以适合你的高度。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3781800" y="5333400"/>
            <a:ext cx="167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她整理了一下裙子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做了一个深呼吸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然后走进了房间。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304920" y="3657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s a teacher,you have to adjust your methods to suit the needs of students.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5506560" y="586656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作出调整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3764160" y="6277680"/>
            <a:ext cx="17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使自己适应于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1522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Computer monitors are placed at least 50cm from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I'd like to place an order for some tea with you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She earned her place in the team by training hard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 I came in seventeenth place in the games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) He will get a place at the university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) You place me in a very difficult posi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281320" y="989640"/>
            <a:ext cx="44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168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.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职位；座位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t.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放置；投资；评价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077280" y="1904040"/>
            <a:ext cx="10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我想从贵公司订购一些茶叶。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3812400" y="319968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她由于刻苦训练而在队里取得了地位。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278880" y="42663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我获得了那项比赛的第十七名。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1566360" y="5257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他将在大学里获得一个职位。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059920" y="60951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你使我非常为难。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练一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From thei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the top of the TV Tower, visitors can have a better view of the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stage         B. positio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place        D.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More and more high-rise bulidings have been built in big citi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in search of   B. in place of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for lack of     D. for fea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5183280" y="330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421160" y="3276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．形成性检测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We always keep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      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re paper, in case we ran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muc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nty 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ood 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 It was after he got what he had desire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     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he realized it was not so import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 Penicillin was then produce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     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in order to meet the demands of the ar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arge amou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arge plen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arge quant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arg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 A man escaped from the prison last night. It was a long tim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      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uards discovered what had happened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    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973240" y="2541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4649760" y="2743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021360" y="1600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830240" y="472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2286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 This new type of car is well equipped as the height of its seats is ________ and all its windows and doors are automat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adjustable  B. available   C. adaptable   D.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 The cloth that __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mooth and sof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feels; sells well                 B. feels; is well s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is felt; sells well                  D. is felt; sells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__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licious, the food was soon sold o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asted     B. Being tasted    C. Tasting     D. To t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级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s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另一方面，运动总是安全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告诉他如果我们小心用药，我们就可以从中受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287440" y="4064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2973240" y="1523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34960" y="2844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-11160" y="4570920"/>
            <a:ext cx="839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aking exercise,on the other hand, is always safe.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-12960" y="5602320"/>
            <a:ext cx="9186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 told him that if we are cautious about using medicine,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e can benefit from it.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2:14:29Z</dcterms:created>
  <dc:creator/>
  <dc:description/>
  <cp:keywords/>
  <dc:language>en-US</dc:language>
  <cp:lastModifiedBy>Administrator</cp:lastModifiedBy>
  <dcterms:modified xsi:type="dcterms:W3CDTF">2016-10-06T05:14:44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