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82C-5246-4061-8E90-4BFDAD9C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FED0-7C5A-4F1B-9F84-C9BBB7DA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DA4-49D5-4EC3-9A25-8EF6E8D3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61C-355A-4DE6-81FB-0E70DCF4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943-DB8D-4C34-B79B-F31B781F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60D-E21A-4990-B494-84CF86C0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981-B477-41C1-84CC-1CC058BE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35E-7552-473F-95FB-E451FF36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BE38-85CE-4DEB-B113-517847F3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DC38-FABB-4DBE-AD3D-E6EBC0BD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D403-37C6-46F4-A887-DE616392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4D7C-4DB5-4417-80AD-A7CBD105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48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EBF1-FD5F-4361-9BE4-533AD7F582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u=1300336565,2405104659&amp;fm=3&amp;gp=0"/>
          <p:cNvPicPr/>
          <p:nvPr/>
        </p:nvPicPr>
        <p:blipFill>
          <a:blip r:embed="rId1"/>
          <a:stretch/>
        </p:blipFill>
        <p:spPr>
          <a:xfrm>
            <a:off x="-395280" y="0"/>
            <a:ext cx="9360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96720" y="1557360"/>
            <a:ext cx="914544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7U4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first undergrou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n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形成性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课练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I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词块翻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07640" y="44280"/>
            <a:ext cx="887580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词块翻译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交通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搭载和放下人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远距离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盛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人送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发了地铁系统的发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致了难以置信的交通拥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批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需要筹集大量资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初的通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被拉着穿梭于狭窄的隧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联合，连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隔一段（时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距离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979640" y="4762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ans of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916360" y="90792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ick up and drop off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835280" y="134136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ver long di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556000" y="177012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have the distinction of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908000" y="22017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nvey people to s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068720" y="2700360"/>
            <a:ext cx="50752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ead to the development of the undergroun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645080" y="3497400"/>
            <a:ext cx="35989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use unbelievable traffic j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187280" y="386064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ive approval to s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3276720" y="4427640"/>
            <a:ext cx="55432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quire raising a large amount of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413080" y="4794120"/>
            <a:ext cx="460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initial tu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4573440" y="5270400"/>
            <a:ext cx="36705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pulled through the narrow tu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2411280" y="5586480"/>
            <a:ext cx="460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ink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4213080" y="6021360"/>
            <a:ext cx="460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regular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6720" y="189000"/>
            <a:ext cx="8964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步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承担改善系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归属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拥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建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掌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被用作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空袭指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系统更加便于使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了纪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周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送大量的人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延伸至距伦敦中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英里以外的地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什么不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旅行？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允许某人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701800" y="115920"/>
            <a:ext cx="62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ccelerate the pace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52360" y="83196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undertake the job of improving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530520" y="1336680"/>
            <a:ext cx="42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be possessed b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1770120"/>
            <a:ext cx="42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et up/ con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981080" y="213192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under the authority of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125800" y="25639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be functioned/used a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413080" y="2992320"/>
            <a:ext cx="71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irect the defence against air attack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3708360" y="3543480"/>
            <a:ext cx="4896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ke the system more user-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50920" y="422100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honour of the twenty-fifth anniversary of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773440" y="4649760"/>
            <a:ext cx="637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ransport huge numbers of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324000" y="54421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o twenty-six miles out of central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781440" y="580536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y not take a trip o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844720" y="6234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rmit sb to 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后续性矫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DB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前置性补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) 1. pick up; drop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over long di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rapid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) DAKBE  FGL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1. Lea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. What information did you get about the London Underground from the t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roduction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sons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velopmen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usual func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ula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686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.Fast rea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1: When was the first underground system o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2:What did Charles Holden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3:Why was the Victoria Line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731520" y="1785960"/>
            <a:ext cx="164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18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826920" y="30830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 designed the most famous of the new stations constructed between 1918 and 19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57080" y="518796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was important because it linked with other lines at almost every station ,helping make the system more user-frien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main ideas of the four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457200" y="1268280"/>
            <a:ext cx="82296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ar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reas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hy the first underground in the world was develo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ar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developme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first underground before World War 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ar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unusual us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first underground during World War 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art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xpan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opular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first underground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676520" y="121932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aragraph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752480" y="2438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aragraph 2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752480" y="3581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aragraph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600200" y="4800600"/>
            <a:ext cx="38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aragraph 6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970440" y="12193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is traffic problem led to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4656240" y="24382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 1854, 1863 … 19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4199040" y="320040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ny underground stations functioned a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4427640" y="44197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ystem was enlarged, more lines were added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8380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evelopment of the LU system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920" y="990720"/>
          <a:ext cx="8686800" cy="5457600"/>
        </p:xfrm>
        <a:graphic>
          <a:graphicData uri="http://schemas.openxmlformats.org/drawingml/2006/table">
            <a:tbl>
              <a:tblPr/>
              <a:tblGrid>
                <a:gridCol w="1512720"/>
                <a:gridCol w="717408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 Box 26"/>
          <p:cNvSpPr/>
          <p:nvPr/>
        </p:nvSpPr>
        <p:spPr>
          <a:xfrm>
            <a:off x="1839960" y="3581280"/>
            <a:ext cx="747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e first tunnels were ope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1692360" y="450864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e next section of the underground system was opened in the south of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8"/>
          <p:cNvSpPr/>
          <p:nvPr/>
        </p:nvSpPr>
        <p:spPr>
          <a:xfrm>
            <a:off x="2050920" y="5638680"/>
            <a:ext cx="78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linked up to …, provided …, dug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5"/>
          <p:cNvSpPr/>
          <p:nvPr/>
        </p:nvSpPr>
        <p:spPr>
          <a:xfrm>
            <a:off x="1763640" y="2590920"/>
            <a:ext cx="650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digging was postponed because of the lack of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0"/>
          <p:cNvSpPr/>
          <p:nvPr/>
        </p:nvSpPr>
        <p:spPr>
          <a:xfrm>
            <a:off x="13716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evelopment of the LU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1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0920" y="1600200"/>
          <a:ext cx="8858160" cy="4162320"/>
        </p:xfrm>
        <a:graphic>
          <a:graphicData uri="http://schemas.openxmlformats.org/drawingml/2006/table">
            <a:tbl>
              <a:tblPr/>
              <a:tblGrid>
                <a:gridCol w="1944720"/>
                <a:gridCol w="69134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8-19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 19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49"/>
          <p:cNvSpPr/>
          <p:nvPr/>
        </p:nvSpPr>
        <p:spPr>
          <a:xfrm>
            <a:off x="2484360" y="170028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 public organization was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0"/>
          <p:cNvSpPr/>
          <p:nvPr/>
        </p:nvSpPr>
        <p:spPr>
          <a:xfrm>
            <a:off x="2484360" y="270828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ny new stations were constru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1"/>
          <p:cNvSpPr/>
          <p:nvPr/>
        </p:nvSpPr>
        <p:spPr>
          <a:xfrm>
            <a:off x="2050920" y="3429000"/>
            <a:ext cx="741708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ore people traveled on the underground, so the system was enlarged and more lines were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2"/>
          <p:cNvSpPr/>
          <p:nvPr/>
        </p:nvSpPr>
        <p:spPr>
          <a:xfrm>
            <a:off x="2195640" y="4941720"/>
            <a:ext cx="69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e Jubilee line was opened in honour of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533520" y="99072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of the followings is NOT the unusual use of the underground system during the Second World W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143000" y="2895480"/>
            <a:ext cx="76960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Bomb shel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An anti-aircraft cent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A hospit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Meeting rooms for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ment administr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057400" y="3962520"/>
            <a:ext cx="48006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airplane fa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4920" y="-25560"/>
          <a:ext cx="9109080" cy="6824880"/>
        </p:xfrm>
        <a:graphic>
          <a:graphicData uri="http://schemas.openxmlformats.org/drawingml/2006/table">
            <a:tbl>
              <a:tblPr/>
              <a:tblGrid>
                <a:gridCol w="1901880"/>
                <a:gridCol w="7207200"/>
              </a:tblGrid>
              <a:tr h="1455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 1_______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1945,so more lines were added,this included the 2_______________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1979 the3 ______ line added was the 4_______________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___________ people travel on the underground every day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network of the underground system includes 6_________ lines now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 can buy one of the 7_____________ in order to travel all over the underground system in London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13"/>
          <p:cNvSpPr/>
          <p:nvPr/>
        </p:nvSpPr>
        <p:spPr>
          <a:xfrm>
            <a:off x="0" y="112536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World War I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4608360" y="54936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the victoria l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3851280" y="162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la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2050920" y="2205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Jubil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2700360" y="4300560"/>
            <a:ext cx="25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twel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755640" y="2708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Over the mill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5940360" y="5157720"/>
            <a:ext cx="25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travel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01:40:39Z</dcterms:created>
  <dc:creator>walkinnet</dc:creator>
  <dc:description/>
  <cp:keywords/>
  <dc:language>en-US</dc:language>
  <cp:lastModifiedBy>Administrator</cp:lastModifiedBy>
  <dcterms:modified xsi:type="dcterms:W3CDTF">2016-10-06T05:22:51Z</dcterms:modified>
  <cp:revision>19</cp:revision>
  <dc:subject/>
  <dc:title>M7U4 Reading （1）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