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AA7-AA84-47FE-AE3E-0192D2D4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30F-FA6F-49CF-A666-9C9F0742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0B6-0BFB-44BC-BD0E-64DB5146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3A65-5F52-4929-9745-7C2A4357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4DC-BA45-460A-99F5-C747ADA1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887-F44F-4183-8A28-FF7DF674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90A9-B8EA-44BD-9920-4749F4FB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B36D-F7B7-499C-8919-2071804B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D76-ECBB-4FA6-AE6B-511DC4B6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1C4-F8CC-4152-A698-A94FF1DF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5D9-D90E-4D2B-882E-F85D51F2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D57-4FEF-4AD6-A375-18A4D731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6372-89BA-4AFE-9578-BBD37D3549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7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2  Fit for life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et ou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翻译并归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ou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不同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Don’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lan to the press.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The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rses by the day.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Each time she moved her leg, s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The prisoners we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ork in the gar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342800" y="9144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不要向媒体透露这个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159920" y="160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他们的马按天出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91400" y="27432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每次她一动腿就发出一声呻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594160" y="3962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犯人们被放出来在花园里劳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拓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相关短语填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dow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失望；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渗透；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of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燃放；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u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雨雪）渐渐停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g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开，放手；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loos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开，让自由活动；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o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泄露，透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It snowed for three days before it_________ and we could go out do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Don’t __________ that we saw them coming out of the sh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The farmer opened the gate and ______ the    bull _____ in the pas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The roof ___________ 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The boy grabbed Jack’s coat and would not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The terrorists______ a bomb near the buil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He _______ the team _____ by not trying hard en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082200" y="18684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907280" y="26668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21360" y="34290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069920" y="38098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593440" y="41911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87960" y="49528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t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972520" y="53341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t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526040" y="57913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4346640" y="57913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形成性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级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sounds good ,but we need to ______ in practic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put it out      B. try it out     C. take it out    D. try it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级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阳光对植物有益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shine _______ ________ _________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让我惊讶的事情是他完全不知道害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 _____ ____ is his complete lack of fea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595440" y="1487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44008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966840" y="34290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nef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792760" y="3429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81600" y="44956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1222560" y="44956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toni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897280" y="44956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第一个意识到他们处境的潜在危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as the first _____ ______ _____ ______ _______ of their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件事对我们来时至关重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tter is _______ ______ _______to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的国家拥有丰富的自然资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ountry is ____ _______ _____rich natural resour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810600" y="121932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185080" y="121932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631200" y="12193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13080" y="1600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441520" y="16002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430440" y="2666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955400" y="26668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6098760" y="26668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3202920" y="4114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4042440" y="411480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5868720" y="4191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前置性补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chemist n.________      -adj._____________   2.revolution n.___________ -adj.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possess vt._________     -n.___________     4.acupuncture n._________ -n.____________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针灸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benefit v/n.__________ -adj.___________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potential adj/n___________-adv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circulate v___________ -adj.___________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循环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application n.___________ -v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71440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药剂师，化学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261400" y="9334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897280" y="1371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巨变，改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94320" y="177156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volu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668680" y="213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具有，拥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5261760" y="215280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3171600" y="259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针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688680" y="29908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upunctu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2668680" y="342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益处，好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5262480" y="344808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nef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3265560" y="390528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潜在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可能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1146960" y="428616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t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2668680" y="472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循环，散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5261400" y="474336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ircu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3110760" y="5562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应用，申请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5413320" y="55818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blood n________-vi_______-adj._______   10.abnormal adj.__________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反义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astonish v.__________-adj.________;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effective adj.________-n.________-v.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approval n.____________-v._________    14.accelerate v.____________-n.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arrangement n.__________-v._________   16.addicted adj.__________-v_________ n.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088720" y="78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血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118400" y="78120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l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023520" y="7812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lo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613320" y="1219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不正常的，反常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907640" y="16192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080160" y="213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使吃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995040" y="259092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ton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823120" y="259092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to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3461040" y="3048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有效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5182200" y="29718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838800" y="337176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3278160" y="3809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批准，同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565960" y="39052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3567960" y="4191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加快，使加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1146960" y="466740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3963960" y="5029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安排，布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5870160" y="504828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3430440" y="5486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上瘾，入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5565240" y="550548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918360" y="588636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知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possess   vt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拥有，持有；具有；占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. possessio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占有，拥有；个人财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拥有的东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unt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ses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mineral deposi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个国家拥有丰富矿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ople had to gather up their fe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s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escaped ab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fou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possession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ngerous dru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263760" y="42879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人们不得不收拾他们仅有的财产逃出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357920" y="5638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他被发现持有危险药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拓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相关短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ess (oneself) of___________________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possessed of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ess one's soul__________________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b. be in possession of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h be in the possession of s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=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/have possession of __________________    give possession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298760" y="7063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使某人拥有某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101120" y="12952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具有（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某种品质，能力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979440" y="1752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保持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634640" y="2209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某人拥有某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342800" y="3124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某物归某人所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649760" y="314316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b be in the charg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4619160" y="3657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拥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343044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移交所有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vital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j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不可少的，极其重要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The depart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 a vital role to play 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ing information to visitors and schol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H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t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heerful manner filled the whole team with courage. 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拓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vital to/for…________________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vital that…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vital importance __________________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025880" y="15447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这个部门为来访者和学者提供信息，起着重要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028600" y="281952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他充满生机，欢快的态度使整个队伍充满了勇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233880" y="421020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对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极其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624120" y="474336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是非常重要的（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虚拟语气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843720" y="520056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对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极其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potential  n.[u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能性；潜力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j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潜在的；可能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 the potential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 a world-class music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ok is arguably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enti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sel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拓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e/achieve one’s potential      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he potential for sth./doing sth /to do s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448640" y="20019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他有潜力成为世界级的音乐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479960" y="304812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这本书或可称为一部畅销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14200" y="4343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发挥某人的潜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024200" y="527688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有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的可能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approval  n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批准，通过；赞成，同意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. approve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赞成；批准，认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o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We ha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tained his approval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using his 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Do you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ve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 cho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拓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b’s approval 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one’s approval to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882880" y="20019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我们已经获得许可，使用他的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312200" y="28195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你赞同她的选择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567960" y="3733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求某人的指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16196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批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addicted  adj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瘾的；入迷的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. addictio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沉溺，上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ct  v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沉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入迷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瘾的人，入迷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 s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ddicted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uter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managed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eat his addiction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coh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拓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/become/get addicted to sth ______________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ct oneself to sth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494360" y="26114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他儿子玩电脑游戏上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342800" y="39625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他成功戒了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474160" y="489600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对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上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086000" y="5410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沉溺于，醉心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02:58:19Z</dcterms:created>
  <dc:creator/>
  <dc:description/>
  <cp:keywords/>
  <dc:language>en-US</dc:language>
  <cp:lastModifiedBy>Administrator</cp:lastModifiedBy>
  <dcterms:modified xsi:type="dcterms:W3CDTF">2016-10-06T05:14:1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