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72D-CDE9-485C-B1D7-6A73D129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E0E-FE97-4EA8-8B1C-A4C6D14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EDD-71E6-448F-A09E-1E5B9498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01B-371D-43D8-A593-396EDAC2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646-128B-415F-A718-A455BF01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730-CE5C-4540-A889-E3EC7E1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3C9-3434-4BA2-8D87-85FD7F05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D20B-BEB0-4807-845F-EAC1739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254-C818-49D5-8651-229F43B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186-FC0F-4E0B-899B-24698F8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CC0-339E-4E64-A930-5288F4D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D69-B862-467E-9B1B-E3804916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9A45-3A63-41A4-8100-A415FDEB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1F5E-79B4-4C8B-B264-A252A64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C44-5FE5-49EE-A8AF-8BE45285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EE8-DBC8-45E6-B1CE-B555E0F3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705-DE8F-4C7A-B2D6-695F481B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22B-5C08-4283-8583-AD13AA55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58B-4C35-44AA-8721-300B7BF3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62E-3CC7-41C0-8A12-007186F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C56-410A-40B2-9B3E-805470A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DDC-47D5-41EB-8085-164447D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2D9-7570-4817-9613-27ED00C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51C-2C6C-4744-B9DE-F436CED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400-8F82-483D-B8F9-FF3A263282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9BB-80AC-45A8-8CA4-59B99C5CA2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:/qq/Tencent/QQ/Users/422920842/Local%20Settings/Temp/Rar$DI00.032/banner.swf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omic Sans MS"/>
              </a:rPr>
              <a:t>Project (1)</a:t>
            </a:r>
            <a:br>
              <a:rPr sz="4800"/>
            </a:b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Exploring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hinese medicine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16984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M7 U2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前置性补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When Peter got to the hospital, the first thing the doctor did was check his p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There has been a 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increase in the number of Internet users in recent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The p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of lightning was not well understood until the 18th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The film was so d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that we fell asleep in the middle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Her right leg 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fter being bitten by an in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Joseph could not understand how these two accidents are r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to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ul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343400" y="2057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0968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114800" y="3733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505320" y="46483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e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124080" y="5867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Comic Sans MS"/>
              </a:rPr>
              <a:t>First reading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Please scan the text and find which of the following topics is not mentio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past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current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acceptance in the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</a:rPr>
              <a:t>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9B7475F875EC2BCF34DA247FB5A4CC41"/>
          <p:cNvPicPr/>
          <p:nvPr/>
        </p:nvPicPr>
        <p:blipFill>
          <a:blip r:embed="rId1"/>
          <a:stretch/>
        </p:blipFill>
        <p:spPr>
          <a:xfrm>
            <a:off x="3048120" y="548640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Comic Sans MS"/>
              </a:rPr>
              <a:t>Second Reading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677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:the development of Chinese acupun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21932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7086600" y="17524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1219320" y="175248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0880" y="2438280"/>
            <a:ext cx="327672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tone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ottery nee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410080" y="2438280"/>
            <a:ext cx="28195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etal nee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657600" y="297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343400" y="13716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533520" y="3809880"/>
            <a:ext cx="312408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Needles to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wollen area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105520" y="4038480"/>
            <a:ext cx="358128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ut needles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skin at cer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oints o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09480" y="5867280"/>
            <a:ext cx="3200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65 acu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257800" y="5867280"/>
            <a:ext cx="35053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bout 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cupuncture poi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3733920" y="47242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809880" y="6324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554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: Answer the following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omic Sans MS"/>
              </a:rPr>
              <a:t>1. What medical problems can acupuncture tr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omic Sans MS"/>
              </a:rPr>
              <a:t>2. How does acupuncture reduce and relieve 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图片51"/>
          <p:cNvPicPr/>
          <p:nvPr/>
        </p:nvPicPr>
        <p:blipFill>
          <a:blip r:embed="rId1"/>
          <a:stretch/>
        </p:blipFill>
        <p:spPr>
          <a:xfrm>
            <a:off x="6095880" y="4332240"/>
            <a:ext cx="30481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成性检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CAC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04:45:51Z</dcterms:created>
  <dc:creator>Administrator</dc:creator>
  <dc:description/>
  <cp:keywords/>
  <dc:language>en-US</dc:language>
  <cp:lastModifiedBy>Administrator</cp:lastModifiedBy>
  <dcterms:modified xsi:type="dcterms:W3CDTF">2016-10-06T05:15:03Z</dcterms:modified>
  <cp:revision>18</cp:revision>
  <dc:subject/>
  <dc:title>Project Exploring Chinese medicin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