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926D-76E0-4119-A16A-B7FC925B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4DD1-22E1-49E4-9F41-4B33DB8D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6CBC-D1E6-4A1E-BC46-70A40FAF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AE4C-30BD-44F1-8483-0F98A0EE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72A5-4EF7-4B3A-B41B-2913ADAD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E6BF-E548-4784-8011-E892455A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B9F6-F40E-4F1F-91AE-F6A506BE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1368-4BE4-4DB5-8D47-B1D7A2CB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C9C8-C1F6-4C40-942F-4AB668AF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F29-3EB6-4E05-82AE-C4F1D8C6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9050-30F7-42A3-831F-472CA29F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B7C2-F294-4ADD-A76C-6BFD95C3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A7ED-116C-4EC8-A05B-D76F2FACAC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24440" y="1523880"/>
            <a:ext cx="431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M7 U4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Proje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901080" y="2708280"/>
            <a:ext cx="735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Preventing traffic accid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15228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0" y="15228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notice is aimed at increasing people’s knowledge of the problem.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  n.____________________ v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in aim of the course is to improve students’ communication ski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is being done with the specific aim of help customers’ online shopping.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ortant that you should have a clear goal to aim for/at. _____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04920" y="30481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这门课程的主要目的是提高学生的沟通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295280" y="1447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① 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目标 目的 意图  ② 瞄准 （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ake aim at sb/sth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57200" y="19810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① 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瞄准 对准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② 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旨在 ③ 致力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523880" y="9144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此通告旨在提高人们对这一问题的认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80880" y="4419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做这个研究的特定目的是为了监测客户的动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990720" y="53341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有一个为之奋斗的目标是很重要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This lack of control is an invitation to accidents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i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n. 1)_______ 2)________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i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t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__________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iting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.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商店里的这些商品摆设会招致盗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displays of goods in shop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们邀请了所有的亲戚来参加他们的婚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_________all their relatives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顿诱人的晚餐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4747320" y="30492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缺乏控制就会诱发事故。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288240" y="89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邀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345640" y="89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诱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541600" y="13478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邀请，招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395160" y="19573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有魅力的，诱人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81960" y="3505320"/>
            <a:ext cx="381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e invitation to th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449360" y="510552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nv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037240" y="5562720"/>
            <a:ext cx="42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o attend their we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353040" y="6019920"/>
            <a:ext cx="46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n inviting supper/di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0"/>
            <a:ext cx="8991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me cyclists make the assumption that traffic laws do not apply to them.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  n._________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v.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that the proposal is accepted, when are we going to get the money? 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 v._____________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  n.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143000" y="8380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一些骑自行车的人认为交通法规与他们无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666880" y="1371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假定  假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82880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假定 假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0" y="2971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假定这个建议被采纳，我们什么时候能拿到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828800" y="3505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申请 ； 应用； 涂 ， 敷； 适用于（某人，某种情况）  有效；致力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666880" y="4648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申请（书） ； 应用  用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380880"/>
            <a:ext cx="8610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fic discoveries are often applied to industrial production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rules of safe driving applies to everyone.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has applied to four companies for a post.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m would do very well if only he applied himself to each class.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women like to apply the make-up evenly over the skin. 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It is up to all of us road users to make sure that we avoid accidents by paying attention to road saf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______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is up to sb to do s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____________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保持校园整洁人人有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他负责把我们聚在一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_________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What shall we do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你决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840680" y="1424160"/>
            <a:ext cx="432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注意道路安全避免事故发生取决于我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所有的道路使用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132160" y="2666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由某人决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03120" y="3809880"/>
            <a:ext cx="77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t is up to us all to keep the campus c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33160" y="4952880"/>
            <a:ext cx="59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t is up to him to get us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143360" y="6095880"/>
            <a:ext cx="270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t is up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识拓展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 to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意为“直到，多达”，后接表示数量、程度、时间、地点等的名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idn't know the fac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直到那时，我还不知道事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e-year-old boy can cou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岁的男孩能一直数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4115880" y="220968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up to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58280" y="3809880"/>
            <a:ext cx="18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up to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 to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意为“适于，胜任”，相当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t for 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常用于疑问或否定句中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后面可接名词、代词、动名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on't feel _________________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今天不适于进行长时间的散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y opinion, he is no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依我看，他不能胜任他的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362680" y="2286000"/>
            <a:ext cx="523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up to walking for a long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649040" y="3429000"/>
            <a:ext cx="38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up to his position/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决定，取决于。（常用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is up to sb to do sth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句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事、忙于（不好的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孩子们如此安静，我真不知道他们又在捣什么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ren are so quiet .  I’m wondering what they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287080" y="3200400"/>
            <a:ext cx="178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re up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形成性检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e made up an excuse for his failure in order to avoid__________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be punished   B. being punishe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punish            D. punis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----Will you go to her birthday party this Sunda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No, even if  ____________.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invited  B. invite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inviting           D. to be invi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The problem then_______ ; what shall we do with the remaining material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rises  B. arises  C. raises  D . ar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049560" y="990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583080" y="3581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4040280" y="5181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Nothing is mo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 an ice-cream on a hot day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pleased   B. inter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inviting    D. exci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John opened the door . Th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 had never seen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 girl did stand  B. a girl stoo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did a girl stand  D. stood a gir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. He decided that he would drive all the way home instead of ______ at a hotel for the ni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putting down      B. putting off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putting on          D. putting u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735360" y="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249960" y="1905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192560" y="4419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9907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Watch a video clip: What caused the traffic acciden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2362320" y="228600"/>
            <a:ext cx="5486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atch and th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6019920" y="2590920"/>
            <a:ext cx="3124080" cy="25905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runke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r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英国禁止酒后驾车的公益广告.WMV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30492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The visit was ________ expanding relations between two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imed at       B. carried 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come about  D. gon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If you _____ yourself to the job in hand, you’ll soon finish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request    B. appeal    C. apply    D. clai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352680" y="304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905120" y="22096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此尖刻的评论会诱发激烈的争论。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tat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不确定她是否真的胜任那项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 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26440" y="2590920"/>
            <a:ext cx="760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Such a sharp comment is an invitation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bitter ar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54680" y="487692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I’m not sure whether/if she is really up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the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lvbinbo"/>
          <p:cNvPicPr/>
          <p:nvPr/>
        </p:nvPicPr>
        <p:blipFill>
          <a:blip r:embed="rId1"/>
          <a:srcRect l="0" t="0" r="4540" b="0"/>
          <a:stretch/>
        </p:blipFill>
        <p:spPr>
          <a:xfrm>
            <a:off x="2057400" y="0"/>
            <a:ext cx="3200400" cy="3287880"/>
          </a:xfrm>
          <a:prstGeom prst="rect">
            <a:avLst/>
          </a:prstGeom>
          <a:ln w="0">
            <a:noFill/>
          </a:ln>
        </p:spPr>
      </p:pic>
      <p:sp>
        <p:nvSpPr>
          <p:cNvPr id="48" name="标题 1"/>
          <p:cNvSpPr/>
          <p:nvPr/>
        </p:nvSpPr>
        <p:spPr>
          <a:xfrm>
            <a:off x="1066680" y="5486400"/>
            <a:ext cx="7772400" cy="99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 all must be aware of the potential causes of road accidents and act to prevent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tebulb"/>
          <p:cNvSpPr/>
          <p:nvPr/>
        </p:nvSpPr>
        <p:spPr>
          <a:xfrm>
            <a:off x="228600" y="5638680"/>
            <a:ext cx="533520" cy="762120"/>
          </a:xfrm>
          <a:custGeom>
            <a:avLst/>
            <a:gdLst>
              <a:gd name="textAreaLeft" fmla="*/ 87840 w 533520"/>
              <a:gd name="textAreaRight" fmla="*/ 451440 w 533520"/>
              <a:gd name="textAreaTop" fmla="*/ 77040 h 762120"/>
              <a:gd name="textAreaBottom" fmla="*/ 327600 h 76212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2"/>
          <a:srcRect l="3066" t="0" r="18914" b="0"/>
          <a:stretch/>
        </p:blipFill>
        <p:spPr>
          <a:xfrm>
            <a:off x="5257800" y="0"/>
            <a:ext cx="3886200" cy="3276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4800600" y="358128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rivers of vehic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yc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edestri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1981080" cy="10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sc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0" y="2590920"/>
            <a:ext cx="4648320" cy="28954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should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le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ffic accid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hat’s the meaning of these instruc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1655640" cy="1603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321840" y="2781360"/>
            <a:ext cx="26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 overt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3780000" y="1197000"/>
            <a:ext cx="1584000" cy="1441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3202560" y="2781360"/>
            <a:ext cx="24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hool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3"/>
          <a:stretch/>
        </p:blipFill>
        <p:spPr>
          <a:xfrm>
            <a:off x="6659640" y="1341360"/>
            <a:ext cx="1512720" cy="1419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5685840" y="2781360"/>
            <a:ext cx="346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 turning 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"/>
          <p:cNvPicPr/>
          <p:nvPr/>
        </p:nvPicPr>
        <p:blipFill>
          <a:blip r:embed="rId4"/>
          <a:stretch/>
        </p:blipFill>
        <p:spPr>
          <a:xfrm>
            <a:off x="826920" y="3716280"/>
            <a:ext cx="1656000" cy="16239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324000" y="5373720"/>
            <a:ext cx="27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ound about  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"/>
          <p:cNvPicPr/>
          <p:nvPr/>
        </p:nvPicPr>
        <p:blipFill>
          <a:blip r:embed="rId5"/>
          <a:stretch/>
        </p:blipFill>
        <p:spPr>
          <a:xfrm>
            <a:off x="3851280" y="3860640"/>
            <a:ext cx="1455840" cy="1511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2"/>
          <p:cNvSpPr/>
          <p:nvPr/>
        </p:nvSpPr>
        <p:spPr>
          <a:xfrm>
            <a:off x="3130200" y="5445000"/>
            <a:ext cx="305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 turning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3" descr=""/>
          <p:cNvPicPr/>
          <p:nvPr/>
        </p:nvPicPr>
        <p:blipFill>
          <a:blip r:embed="rId6"/>
          <a:stretch/>
        </p:blipFill>
        <p:spPr>
          <a:xfrm>
            <a:off x="6877080" y="3860640"/>
            <a:ext cx="1655640" cy="15321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4"/>
          <p:cNvSpPr/>
          <p:nvPr/>
        </p:nvSpPr>
        <p:spPr>
          <a:xfrm>
            <a:off x="6376320" y="5516640"/>
            <a:ext cx="27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ight lim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04920" y="68580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28600" y="1752480"/>
            <a:ext cx="784872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he causes of the traffic accidents and how to be safe on the ro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28600" y="3049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the title, what information do you think the reading passage will give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Read the article  and complete the following 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notice was released because 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prevent accidents, drivers sh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78000" y="2057400"/>
            <a:ext cx="771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it is very important to learn how to prot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ourselves from danger on the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455760" y="3962520"/>
            <a:ext cx="63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ay attention to surrounding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80880" y="4495680"/>
            <a:ext cx="57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ot get annoyed in a traffic j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80520" y="4952880"/>
            <a:ext cx="52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ot speak on mobile ph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80160" y="5486400"/>
            <a:ext cx="46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ot drink alcoholic dr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81600" y="594360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ot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prevent accidents, cyclists shou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78720" y="1066680"/>
            <a:ext cx="7608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lways signal at turnings and stay o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rrect side of the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01320" y="2057400"/>
            <a:ext cx="79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walk next to their bicycles on the pa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78720" y="2590920"/>
            <a:ext cx="411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ot carry a passe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78360" y="3124080"/>
            <a:ext cx="747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have a light on your bicycle and check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gularly to make sure it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56120" y="4114800"/>
            <a:ext cx="64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eep the bicycles in good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prevent accidents, pedestrian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4320" y="1905120"/>
            <a:ext cx="837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member to be cautious and look both w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nd listen for cars that they might not be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75480" y="3429000"/>
            <a:ext cx="856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lways cross the road on a crossing and n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un across the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09480" y="4572000"/>
            <a:ext cx="39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bey the traffic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30492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number of accidents and the deaths arising from traffic accidents has increased greatly over the past year.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se ___________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过去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 ___________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过去分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the opportunity arise, I'd love to go to China.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you work on Saturday, should the need arise?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iel arose at d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n.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any matters ____(= caused by) the last mee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sing from     B. arose fro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arising in        D. arisen ou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06668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在过去的一年里，道路事故及由此造成的死亡人数均有增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523880" y="1676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r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181480" y="1676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ri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371600" y="33526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万一有必要，你可以在星期六工作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523880" y="237636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如果有机会（出现）的话，我想去巴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2286000" y="403848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3657600" y="36720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丹尼尔天刚刚亮就起床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3657600" y="426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1:27:49Z</dcterms:created>
  <dc:creator/>
  <dc:description/>
  <cp:keywords/>
  <dc:language>en-US</dc:language>
  <cp:lastModifiedBy>Administrator</cp:lastModifiedBy>
  <dcterms:modified xsi:type="dcterms:W3CDTF">2016-10-06T05:22:2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