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370B-BD3B-4117-B513-0A5F4455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1640-C555-470B-B06A-25538B2D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D743-CD7D-4B92-8893-F1C26C13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448-F006-449F-B636-9658AF87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8915-E7FC-43EA-8842-3E116E9E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F601-436E-46A0-8A9D-FD9BBFF5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3257-8319-4D20-BCB2-1690F140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DCE3-BC21-4B2D-9411-1A30D7E5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B5C1-391B-4AD8-AB14-B821E434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87E-91C4-4D2E-BE15-3025E8E6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6BC2-A75C-403D-A552-8295B151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2D7-9460-466F-BAB2-44A24F1A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88C0-57F8-47FA-B44C-D37F4BC977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7U1  Gramm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easureme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u]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测量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te measurement is very important in sci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c]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尺寸，长度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ct measurements of the room are 3 metres 20 by 2 metres 8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09480" y="17524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精确的测量在科学中是非常重要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09480" y="34290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个房间的准确大小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.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2.8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buy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sit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i.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v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i.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vi.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r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vi.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er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v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vt.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il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v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e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动词              主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系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不及物动词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i.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主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及物动词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t.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主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谓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主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谓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宾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宾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主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谓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间宾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直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43000" y="121896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) answer/ answer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) benefited/ benefit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) decided / decided agai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) paid/pay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) adjust to/ adju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I would advise you to buy Mark 204D for Xiao W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rst of 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is electronic dictionary gives both Chinese to English and English to Chinese translation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i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help him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r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s language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addition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clu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pell check function, pronunciation guide and a list of words with similar and opposite mean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1920" y="456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’s mor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will be convenient for him to carry because of its small siz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rice is reasonable at 650 Yu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concl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 think you may find this model mos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i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Xiao W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形成性检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单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-5      DBDC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-10    BABD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D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52280" y="228600"/>
            <a:ext cx="8763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了娱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子词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育软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种各样的手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家用电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进行一次随意的谈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转向；向…求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2438280" y="2286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r entertai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457200" y="1143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lectronic dic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209680" y="17524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ducational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362320" y="26668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usehold appliance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352680" y="21636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ll kinds of mobile ph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09480" y="3657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ave a casual conver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581280" y="414504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urn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52280" y="228600"/>
            <a:ext cx="8991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很显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据预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…负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常见的习语表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适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一年的保修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尤其，特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为重要的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057400" y="26668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eigh 20 gram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752480" y="32004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e suitabl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057400" y="228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t is obvious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057400" y="6858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t is expect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200400" y="46483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62120" y="40384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ave a one-year guarant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666880" y="11430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nswer for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990720" y="20574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mmon idioms and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505320" y="5135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bove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 And here, near the computers, are educational products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age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翻译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此句用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构。当句中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副词和表达运动方向的副词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位于句首时，句子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_____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但主语为人称代词时不能倒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3520" y="19051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这儿 ，计算机的旁边是教育类产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819520" y="25146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倒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09480" y="31240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re, there, now,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978520" y="36576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时间、地点状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352680" y="41911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完全倒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练一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公交车来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铃响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人冲出去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英语老师站在教室的前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62120" y="12952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re comes the b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2120" y="23623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re goes the b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762120" y="34290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ut rushed the ol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09480" y="44956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the front of our classroom stands our English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Not everything that you hear is very important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ge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翻译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英语中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及它们构成的合成词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______________________________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具有总括意义的形容词和副词，当他们和否定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连用时，构成部分否定，表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意思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914400" y="1828800"/>
            <a:ext cx="57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并非你所听到的一切都重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124080" y="259092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ll, both, each,e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09480" y="3657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plete,completely, always, whole, wholely, entirely, al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762120" y="5867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都，并非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143000" y="53341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练一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非整个计划都需要改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并不总打排球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不是每个人都诚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拓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85800" y="12193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whole plan doesn’t want cha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762120" y="22860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 does not always play volley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836280" y="335268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Not every man is hon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057400" y="4038480"/>
            <a:ext cx="670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英语中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o, none, never, nobody, nothing, neither, no one, nowhere, no longer, no way, not…either, not…any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等与肯定式谓语一起构成全部否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It only weighs 96 grams and measures 104×72×15mm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igh  v.      weight   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hristmas turkey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eighed 16 pou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often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eigh yoursel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eigh the advantages and dis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eigh one's wo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eigh the matter serious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igh dow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uit weighed the branches down. 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weighed down with cares 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133720" y="16765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们的圣诞节火鸡重达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638680" y="2209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常常称体重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987720" y="320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权衡利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191120" y="37339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斟酌某人的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334120" y="42670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认真考虑这件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828800" y="5257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果子压得树枝下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457200" y="6248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因忧虑而心情沉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225720" y="0"/>
            <a:ext cx="959796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   [v.]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asurable adj. -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可测量的；显著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old tree must measure at least30 meters from top to bot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 the height of the ceiling.  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 measured her power with that of a dangerous adversary.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measures his words with caution. 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able improvemen________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3716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那棵古树从顶部到底部测量肯定至少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066680" y="2286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测量天花板的高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828800" y="32004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她靠自己的力量和危险的敌手进行较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80880" y="41911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他小心谨慎地斟酌他的措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648320" y="46483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显著的改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8:27:53Z</dcterms:created>
  <dc:creator/>
  <dc:description/>
  <cp:keywords/>
  <dc:language>en-US</dc:language>
  <cp:lastModifiedBy>Administrator</cp:lastModifiedBy>
  <dcterms:modified xsi:type="dcterms:W3CDTF">2016-10-06T05:09:31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