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813-4B68-4A72-9902-CB352EEC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37C-3505-4EFC-853F-8B1A48B8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9BB-BDBA-415B-BA52-73320E70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293-6794-4ED8-986B-803B9A0C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7C1-4C23-4701-9011-3C06F8D3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75A-D33E-4584-8996-C9727F9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C2B-1ED0-4559-B952-2B4BFD6C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60A-5011-4D1C-A898-B58EB2C7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74E-A172-4331-82AB-7403E41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B84-A3F1-4A51-B130-B08FA157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764-CED5-4F95-8E90-5CEE88B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7A7-C1FC-404B-BF0E-E2495503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799F-76AB-4B40-AA7A-700E71B70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w2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780560" y="1523880"/>
            <a:ext cx="58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M7U3  Gramm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-76320" y="-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语法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04920" y="9907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什么是助动词（用于协助主要动词构成谓语动词 词组的词，自身没有词义，不可单独使用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助动词的功能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时态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态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成疑问句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否定副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用，构成否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句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语气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最常用的助动词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e, do, have and mod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shall, will, should, would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0200" y="7621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uxili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本动词表示状态或客观存在等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词连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约定、义务、命令等未来的动作或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在分词构成各种进行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去分词构成被动语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/has/h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构成完成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47200" y="1600200"/>
            <a:ext cx="61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m/is/are/was/were/be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10200" y="7621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uxili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助动词时的时态、人称和数的变化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o, does, di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种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o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形动词构成疑问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o+not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形动词构成否定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o (+not)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词用于附带问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o 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形动词用于加强语气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ever (Only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do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形动词用于倒装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49360" y="16002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es/di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0200" y="7621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uxili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av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never seen such a strange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n I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av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my hair cut now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often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av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my assistant help me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8280" y="1600200"/>
            <a:ext cx="36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ha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s/h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8600" y="38098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助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ave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去分词构成完成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ave 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去分词表示请或让别人做某事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ave 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形不定词表示请或让某人做某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4. modal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all/should/will/would/can/ could/may/might/must/need/dar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10200" y="7621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uxili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3520" y="312408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发言者的意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诺言、决心、强制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 sh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于询问对方的意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义务，责任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于第二人称疑问句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询问对方意志或请求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ll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形动词用于所有人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意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ould 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形动词表示过去一段时间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4. modal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all/should/will/would/can/ could/may/might/must/need/dar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10200" y="7621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uxili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3124080"/>
            <a:ext cx="8610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n, cou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口语中相当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y, might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许可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n, coul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能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 able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n, cou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怀疑、推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用于疑问句或否定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n, cou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于惯用语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n’t hel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uldn’t help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名词表示不得不、忍不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4. modal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all/should/will/would/can/ could/may/might/must/need/dar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10200" y="7621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uxili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3520" y="312408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) mu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必须、义务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调主观因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have to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调客观因素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导的一般疑问句作否定回答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否定式表示不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止等意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st+have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去分词表示对过去情况的推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st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形动词表示对现在情况的推断。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eedn't+have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去分词表示过去不必做却已经做了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4. modal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all/should/will/would/can/ could/may/might/must/need/dar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0200" y="7621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uxili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3520" y="312408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) d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为情态助动词，一般只能用于疑问句或否定句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助动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ve to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强调客观因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ould rather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宁愿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uld not (help) … but 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能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re supposed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该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d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过去常常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about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要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able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做某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due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期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going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算做某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likely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有可能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meant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算做某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willing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乐意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em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好像要做某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unable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能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 unwilling to 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愿意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209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翻译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You had better ask your doctor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We would rather make our own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I can not help but ask: “Do you love lif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They are supposed to get there before d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Four-star hotels aren't what they used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We were about to set out when the doorbell r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 Representatives from both sides are due to meet Sun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 These are not meant to be realistic, but they’ll give you the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前置性补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没有具体的目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某物下载到你电脑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点击刷新按钮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返回前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代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_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0560" y="1295280"/>
            <a:ext cx="36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without a specific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88320" y="2438280"/>
            <a:ext cx="54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download sth onto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85800" y="3581280"/>
            <a:ext cx="42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lick on the refresh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63560" y="457200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return to the previou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982520" y="525780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ta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92880" y="63388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ma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形成性检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-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DACA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hould;Were;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as confident of/believed in ;did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w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609480" y="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752480" y="1600200"/>
            <a:ext cx="5545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Bye-bye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径直走……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染病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战胜失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得伟大成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自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抛弃他们的梦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守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58280" y="45720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go direct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667960" y="106668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get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2000" y="213372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overcom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3560" y="312408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ccomplish sth 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44640" y="380988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be confident in/believe in one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13080" y="4876920"/>
            <a:ext cx="34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bandon their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87960" y="594360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keep the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新知探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People often have t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vercome failures befo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ca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complish something gre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们常常要战胜很多失败之后才能取得伟大的成就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ge4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fore I made a decision, I thought carefully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ut that away before it gets br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’d die before I apologize to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114720" y="2438280"/>
            <a:ext cx="43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在…之前，以免，不然，（宁可…而）不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67360" y="3789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做的决定都是经过再三考虑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632680" y="478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把它收好，免得砸碎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30800" y="5694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宁死也不向他道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440" y="0"/>
            <a:ext cx="9388800" cy="9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知识拓展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t was some time before I realized the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型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辨析】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en/that/since/befor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It will be two years _______ I graduate from high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It was 2 o’clock at the midnight _____ the robber bu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It was at 2 o’clock at the midnight ________ the rob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urs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It has been ten years_____ we saw each other last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It was not until three days later_____ the missing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s found murde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409200" y="7412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过了很长一段时间我才意识到真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634400" y="1219320"/>
            <a:ext cx="52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t be +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间段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before …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过了…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354840" y="205740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36640" y="25146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716440" y="3352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811680" y="419112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182920" y="46483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6640" y="609480"/>
            <a:ext cx="862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总结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重点句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17080" y="990720"/>
            <a:ext cx="59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t be +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间段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before…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过了…才；没过…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89840" y="1752480"/>
            <a:ext cx="49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t be +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间点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when…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当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925920" y="2666880"/>
            <a:ext cx="52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t be +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间点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that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就是… 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23600" y="350532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t is/has been +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间段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since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自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65640" y="434340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t was not until …that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直到…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477120" y="1600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调句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6477120" y="4191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调句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走近高考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-Did your boss phone you against the next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No, it was a week _______ he gave me a second c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that   B. when  C. before D.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I’m sorry you’ve been waiting so long, but it’ll still be some time _____Brian gets back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before   B. since   C. till    D.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8360" y="1905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02200" y="380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Should you ever find information you want to save on your own computer ,you can download it .(Page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句型精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ould you ever find information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倒装句，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句的省略，其正常语序是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____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里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为“万一，竟然”，用在条件状语从句中表示虚拟。主句用了陈述语气，说明主句谓语动词是一种真实的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2320" y="2590920"/>
            <a:ext cx="58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f you should ever find inform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近高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  _______, I’d have told you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A. If I would have known i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If I had have known it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C. Had I known it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Should I kno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 _____ fired, your health care and other benefits will not be immediately cut off.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Would you be      B. Should you be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C. Could you be       D. Might you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12624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760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0T05:31:27Z</dcterms:created>
  <dc:creator/>
  <dc:description/>
  <cp:keywords/>
  <dc:language>en-US</dc:language>
  <cp:lastModifiedBy>Administrator</cp:lastModifiedBy>
  <dcterms:modified xsi:type="dcterms:W3CDTF">2016-10-06T05:17:2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