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A09-346D-40DC-8286-0F36A202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9EE-68D4-47DC-A537-D7BB15C6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4C9-DFFB-4094-8374-8CEE7FDF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E4A-02A8-4CFD-8049-9CC5B716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0D5-F349-445F-AAFE-A5D83FC8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4E2-7EFA-46E4-A83F-B1634FAB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D3B-FE3D-4283-960F-4D98E0C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401-0E07-4D49-9836-CADB9BC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117-00B9-4231-8298-62286349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803-4445-4D06-B7F3-8B59AA6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157-2C8A-4841-88B6-927D0EA6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40F-A203-4380-8474-9829F3C2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1828800" y="64771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Times New Roman"/>
              </a:rPr>
              <a:t>山东水浒书业有限公司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·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ww.yhfabook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 flipV="1">
            <a:off x="566640" y="533160"/>
            <a:ext cx="7967880" cy="11160"/>
          </a:xfrm>
          <a:prstGeom prst="line">
            <a:avLst/>
          </a:prstGeom>
          <a:ln w="38160">
            <a:solidFill>
              <a:srgbClr val="005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 flipV="1">
            <a:off x="566640" y="533160"/>
            <a:ext cx="7967880" cy="11160"/>
          </a:xfrm>
          <a:prstGeom prst="line">
            <a:avLst/>
          </a:prstGeom>
          <a:ln w="38160">
            <a:solidFill>
              <a:srgbClr val="005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414360" y="90360"/>
            <a:ext cx="44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优化方案系列丛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9">
            <a:hlinkClick r:id="rId2" action="ppaction://hlinksldjump"/>
          </p:cNvPr>
          <p:cNvSpPr/>
          <p:nvPr/>
        </p:nvSpPr>
        <p:spPr>
          <a:xfrm>
            <a:off x="8827920" y="1085760"/>
            <a:ext cx="304920" cy="14986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预习多维感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0">
            <a:hlinkClick r:id="rId3" action="ppaction://hlinksldjump"/>
          </p:cNvPr>
          <p:cNvSpPr/>
          <p:nvPr/>
        </p:nvSpPr>
        <p:spPr>
          <a:xfrm>
            <a:off x="8827920" y="4610160"/>
            <a:ext cx="304920" cy="142236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速效提能演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2">
            <a:hlinkClick r:id="rId4" action="ppaction://hlinksldjump"/>
          </p:cNvPr>
          <p:cNvSpPr/>
          <p:nvPr/>
        </p:nvSpPr>
        <p:spPr>
          <a:xfrm>
            <a:off x="8827920" y="2827440"/>
            <a:ext cx="304920" cy="14983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重点难点探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7"/>
          <p:cNvSpPr/>
          <p:nvPr/>
        </p:nvSpPr>
        <p:spPr>
          <a:xfrm>
            <a:off x="4871880" y="14292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Unit 1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iving with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w2"/>
          <p:cNvPicPr/>
          <p:nvPr/>
        </p:nvPicPr>
        <p:blipFill>
          <a:blip r:embed="rId5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4FCF-62B2-4D07-BFBC-B27DB276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4214880" y="26431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Living with 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043360" y="571680"/>
            <a:ext cx="60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odule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nit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50920" y="692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concluded from the text that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and sound devices will become increasingly 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and sound devices will become more and mor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story of video and sound devices is no shorter than that of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erican played an important role in the development of video and soun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6088680" y="6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422000"/>
            <a:ext cx="8642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ding strategi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698920"/>
            <a:ext cx="83836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2865600"/>
            <a:ext cx="7993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think is the best way to get the most important information in such a long pa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chronolog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按时间顺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4 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1"/>
          <p:cNvSpPr/>
          <p:nvPr/>
        </p:nvSpPr>
        <p:spPr>
          <a:xfrm>
            <a:off x="0" y="117360"/>
            <a:ext cx="7020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Tw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eful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and fill in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6360" y="0"/>
            <a:ext cx="9001440" cy="69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877—The first recording of a human1_____wa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87—Emile Berliner invented a rec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yer that us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 to recor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25—The first public TV broadcasts w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de, in th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29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 public broadcasting began in London</a:t>
            </a: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38—The fir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 TV programme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oad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62—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_were used to broadcast 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67—Regular colour TV broadcasts be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82—The fir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_ were mad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93—Th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______ was b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—Th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was inv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47640" y="907920"/>
            <a:ext cx="61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Tw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eful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and 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47640" y="2395440"/>
          <a:ext cx="5832720" cy="3408480"/>
        </p:xfrm>
        <a:graphic>
          <a:graphicData uri="http://schemas.openxmlformats.org/drawingml/2006/table">
            <a:tbl>
              <a:tblPr/>
              <a:tblGrid>
                <a:gridCol w="1073160"/>
                <a:gridCol w="4759560"/>
              </a:tblGrid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he first recording of a human 1.__________was ma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Emile Berliner invented a record player that used 2._________to record 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矩形 3"/>
          <p:cNvSpPr/>
          <p:nvPr/>
        </p:nvSpPr>
        <p:spPr>
          <a:xfrm>
            <a:off x="4317840" y="333216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3132000" y="522936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76360" y="981000"/>
          <a:ext cx="6191280" cy="5083200"/>
        </p:xfrm>
        <a:graphic>
          <a:graphicData uri="http://schemas.openxmlformats.org/drawingml/2006/table">
            <a:tbl>
              <a:tblPr/>
              <a:tblGrid>
                <a:gridCol w="1222560"/>
                <a:gridCol w="4968720"/>
              </a:tblGrid>
              <a:tr h="47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he first public TV broadcasts were made in the 3.____________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.____________public broadcasting began in Lond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he first 5.____________TV programme was broadca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.____________were used to broadcast T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矩形 3"/>
          <p:cNvSpPr/>
          <p:nvPr/>
        </p:nvSpPr>
        <p:spPr>
          <a:xfrm>
            <a:off x="4284720" y="2276640"/>
            <a:ext cx="12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3311640" y="28526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788000" y="4076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3203640" y="5157720"/>
            <a:ext cx="19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tel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596960" y="920880"/>
          <a:ext cx="6432480" cy="5040360"/>
        </p:xfrm>
        <a:graphic>
          <a:graphicData uri="http://schemas.openxmlformats.org/drawingml/2006/table">
            <a:tbl>
              <a:tblPr/>
              <a:tblGrid>
                <a:gridCol w="1254240"/>
                <a:gridCol w="5178240"/>
              </a:tblGrid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gular colour TV broadcasts began in the 7.____________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he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first8.__________were made availab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he 9.____________was bor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he 10.____________was invent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矩形 3"/>
          <p:cNvSpPr/>
          <p:nvPr/>
        </p:nvSpPr>
        <p:spPr>
          <a:xfrm>
            <a:off x="5651640" y="2060640"/>
            <a:ext cx="10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4932360" y="29973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4429080" y="434988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4356000" y="501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907560"/>
            <a:ext cx="8748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ading strategi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2209680"/>
            <a:ext cx="7705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s so much information organized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close look at the structure of the passage and you’ll find 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re help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ading for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 C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2.  F    3. F   4.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.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47640" y="1125000"/>
            <a:ext cx="6120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Fou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ording to the passage we know that the first public TV broadcasts were made in the 1.____________in 1925 while 2.____________public broadcasting followed shortly afterwards. Many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4140360" y="335772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2916360" y="4005360"/>
            <a:ext cx="15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47640" y="1630080"/>
            <a:ext cx="6120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____________to the development of TV.John Logie Baird constructed the first 4.__________TV in 1928 and 5.____________were used to broadcast TV programme in 196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1979640" y="177336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2700360" y="30686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2195640" y="3716280"/>
            <a:ext cx="18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tel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8440" y="260280"/>
            <a:ext cx="83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people keep in touch in the p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79160" y="83664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-by letter/telegraph/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7520" y="13413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people keep in touch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1840" y="18446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-most by mobile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217440" y="347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10"/>
          <p:cNvPicPr/>
          <p:nvPr/>
        </p:nvPicPr>
        <p:blipFill>
          <a:blip r:embed="rId1"/>
          <a:stretch/>
        </p:blipFill>
        <p:spPr>
          <a:xfrm>
            <a:off x="533520" y="3809880"/>
            <a:ext cx="1485720" cy="148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1"/>
          <p:cNvPicPr/>
          <p:nvPr/>
        </p:nvPicPr>
        <p:blipFill>
          <a:blip r:embed="rId2"/>
          <a:stretch/>
        </p:blipFill>
        <p:spPr>
          <a:xfrm>
            <a:off x="1905120" y="5486400"/>
            <a:ext cx="1565280" cy="117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13"/>
          <p:cNvPicPr/>
          <p:nvPr/>
        </p:nvPicPr>
        <p:blipFill>
          <a:blip r:embed="rId3"/>
          <a:stretch/>
        </p:blipFill>
        <p:spPr>
          <a:xfrm>
            <a:off x="3203640" y="3716280"/>
            <a:ext cx="1439640" cy="136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16"/>
          <p:cNvPicPr/>
          <p:nvPr/>
        </p:nvPicPr>
        <p:blipFill>
          <a:blip r:embed="rId4"/>
          <a:stretch/>
        </p:blipFill>
        <p:spPr>
          <a:xfrm>
            <a:off x="5410080" y="3429000"/>
            <a:ext cx="1382760" cy="1382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19"/>
          <p:cNvPicPr/>
          <p:nvPr/>
        </p:nvPicPr>
        <p:blipFill>
          <a:blip r:embed="rId5"/>
          <a:stretch/>
        </p:blipFill>
        <p:spPr>
          <a:xfrm>
            <a:off x="4724280" y="5600880"/>
            <a:ext cx="1121040" cy="125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21"/>
          <p:cNvPicPr/>
          <p:nvPr/>
        </p:nvPicPr>
        <p:blipFill>
          <a:blip r:embed="rId6"/>
          <a:stretch/>
        </p:blipFill>
        <p:spPr>
          <a:xfrm>
            <a:off x="7391520" y="3581280"/>
            <a:ext cx="14508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11280" y="90972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istory of recording human voice is earlier. It was in 6.____________that Thomas Edison made the first record player which had to be wound up by 7.____________and only last two minutes long. Not until by the late 1960s was the portable cassette players developed along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262728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476360" y="30542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47280" y="980640"/>
            <a:ext cx="62643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__________recorders.From 1980s on,sound and video go 9.__________.With the development of digital technolog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 and video can now be stored on a 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all kinds of portable storage.No one can 10.____________what the future will b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2124000" y="105264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124000" y="213372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2490840" y="494172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e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新知探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Regular public broadcasting followed shortly afterwards, firs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11 May 1928 in New York and on 20August 1929 in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early TV broadcasts were ma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John Baird in the U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翻译并理解以上两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句中分词短语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句中分词短语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140360" y="422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伴随状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564000" y="47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置定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John Logie Baird constructed the first colour TV in 1928, but it was not until 1938 that the first colour TV programme was broad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unti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既能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，也能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肯定句时，前面的动词应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动词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否定句时，前面的动词应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动词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续性还是短暂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He didn’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the clock struck twelve.(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tomorrow. (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No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导的时间时间状语或时间状语从句放在句首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句用部分倒装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00000" y="162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约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洛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贝尔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2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发明了第一台彩色电视机，但是直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3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第一个彩色电视机节目才被播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989800" y="234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66160" y="234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64616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延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646160" y="3048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短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Not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强调句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+is/was +not unti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导的时间时间状语或时间状语从句放在句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hat 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剩余部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dn’t realize the importance of study until he failed to find a prop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调句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导的时间状语从句中的省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从句主语与主句主语一致，且从句中含动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形式时，从句主语与动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一并省略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He didn’t speak until (he was) spoken to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到有人跟他说话他才开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26920" y="2349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until he failed to find a proper job did he realize the importance of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6920" y="342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as not until he failed to find a proper job that he realized the importance of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not until dark ______she found ______she thought was the correct way to solve the problem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hen, that    B. that ; that C. that ; what D. when;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til ________ his sunglasses ________ that he was my old friend,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d he take off; I recogniz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did he take off; did I recogn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he took off; did I recogniz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__________ back home after the experimen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not until midnight did he g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until midnight that he didn’t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not until midnight that he w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until midnight when he didn’t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53080" y="62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3080" y="1773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5308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It took more than two decades, though, until 1951, for regular colour TV broadcasts to begin in the USA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文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句中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意思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时也可用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感冒了，不过不严重 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作连词，引导让步状语从句。相当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可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,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用，但不能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尽管夜深了，他还在工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用于倒装句中，这是相当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导让步状语从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然他岁数小，但却能说很流利的英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430160" y="1125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144120" y="1125360"/>
            <a:ext cx="13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然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18836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28580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826920" y="2133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’m suffering from a cold .Nothing serious,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975960" y="27813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4142160" y="27082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5581080" y="2708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1406160" y="30686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900000" y="3716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ough/Although it was late at night, he was still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6878880" y="4365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1045440" y="4632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虽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971640" y="5373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oung though/as he is, he can speak fluent/perfect Engl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755080" y="836640"/>
            <a:ext cx="51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彩色电视节目到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951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年才得以在美国定期播出，期间经历了二十多年的时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8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They also make TV accessible to people who live far away from cities, and satellite dishes can often be seen distributed throughout the countryside and remote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cessibl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dj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接近的，可进入的，可使用的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)access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）使用、接近。。。的机会（权利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cess[U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机会，权利，通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udents have free access to the library in our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 You need a password to get access to the compute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414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我们学校学生可以自由使用图书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5300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需要密码才能进入电脑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了网络，学生可以利用更丰富的资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 Internet, students can_______ _________ _____richer re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The report is not accessible to the public. 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The Internet makes more and more violent games _______to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. accessible   B. avoidabl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. acceptable  D.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590880" y="2154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118160" y="25653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205800" y="2585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835280" y="342900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public have no access to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6160" y="400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However, most people still benefit from satellite TV, as local TV companies broadcast the signals they get from satellite receivers to the population living near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法分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26920" y="2924280"/>
            <a:ext cx="7632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a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导原因状从，句中含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/that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导的定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get from satellite receiver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修饰先行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ignal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导词，因在从句中作定语而省略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living nearb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做后置定语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e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population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主谓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黑白电视机"/>
          <p:cNvPicPr/>
          <p:nvPr/>
        </p:nvPicPr>
        <p:blipFill>
          <a:blip r:embed="rId1"/>
          <a:stretch/>
        </p:blipFill>
        <p:spPr>
          <a:xfrm>
            <a:off x="76320" y="1219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液晶电视机"/>
          <p:cNvPicPr/>
          <p:nvPr/>
        </p:nvPicPr>
        <p:blipFill>
          <a:blip r:embed="rId2"/>
          <a:stretch/>
        </p:blipFill>
        <p:spPr>
          <a:xfrm>
            <a:off x="6553080" y="4724280"/>
            <a:ext cx="243864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tv"/>
          <p:cNvPicPr/>
          <p:nvPr/>
        </p:nvPicPr>
        <p:blipFill>
          <a:blip r:embed="rId3"/>
          <a:stretch/>
        </p:blipFill>
        <p:spPr>
          <a:xfrm>
            <a:off x="3809880" y="182880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4960" y="5257800"/>
            <a:ext cx="562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velopment of 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514600" y="2743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5715000" y="42670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0" y="37227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lack-and-white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321160" y="17413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lour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574880" y="60199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D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35680" y="8352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es the TV in your hom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"/>
          <p:cNvPicPr/>
          <p:nvPr/>
        </p:nvPicPr>
        <p:blipFill>
          <a:blip r:embed="rId4"/>
          <a:stretch/>
        </p:blipFill>
        <p:spPr>
          <a:xfrm>
            <a:off x="179280" y="0"/>
            <a:ext cx="5112000" cy="86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468360" y="0"/>
            <a:ext cx="46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华文行楷"/>
                <a:ea typeface="华文行楷"/>
              </a:rPr>
              <a:t>Leading-in</a:t>
            </a:r>
            <a:r>
              <a:rPr b="1" lang="en-US" sz="6600" spc="-1" strike="noStrike">
                <a:solidFill>
                  <a:srgbClr val="800080"/>
                </a:solidFill>
                <a:latin typeface="华文行楷"/>
                <a:ea typeface="华文行楷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_______________/v.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易混辨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/symbol/sign/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icture the tree is the________ of life and the snake is the _______of e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you see the 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off the gra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garment in the shop has a price _______ sewn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621800" y="2039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50872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出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006880" y="299736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630160" y="35002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98160" y="40053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518520" y="450864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益处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益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拓展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 benefit from sth 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h benefit sb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=______________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利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的建议使我受益匪浅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从卖房子中赚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美元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词填空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benefit _________ the new tax law m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ganization is voluntary, not ____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91720" y="11970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某人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受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700880" y="1628640"/>
            <a:ext cx="16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某人有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343600" y="213372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of benefi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654520" y="213372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beneficial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782440" y="256536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sb’s benefit=for the benefit of 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977400" y="3284640"/>
            <a:ext cx="59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suggestions benefit me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5222160" y="465300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om/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6229440" y="54450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978120" y="422100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enefited $750 from selling the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engineers foresaw that it would be possible to send electrical signals through the atmosphere without relying on telephone wires.(P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possible to d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(for sb/sth) to do sth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伦敦找到一套便宜的公寓是再也不可能的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 to find a cheap flat in Lon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Studies show that people are more ____ to suffer from back problems if they always sit before computer screens for long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ikely    B. possible    C. probable   D. 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746680" y="155736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做…是可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830520" y="285264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is no longer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253080" y="364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形成性检测  识记短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奉献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促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投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取得突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代晚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人们能够看到电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遥远的地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508720" y="1628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ntribute 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708360" y="213372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e a breakthrough i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76720" y="270828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the late 1920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492360" y="443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mote are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900000" y="378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e TV accessible to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获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发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play  records ____________________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得到，利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为过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调一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059280" y="1557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nefit from/b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419640" y="2133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ind 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708360" y="263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播放唱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572000" y="3213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 available for/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71640" y="443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e sth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f the p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067280" y="5084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eep pace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-3240" y="-1440"/>
            <a:ext cx="916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识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人们收看电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V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eop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遍及农村和偏远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out the countryside and _______ar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受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 from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次记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first ____________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唱片来代替网管的留声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discs as _____________  to tub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手动上发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_____________ up by ha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340000" y="9079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ccessib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084720" y="184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o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97164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nef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059280" y="386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cor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2000" y="4797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ternati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042920" y="5805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u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179280" y="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 video recorder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和影像数字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video ________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享受某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买得起某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sth ____________to 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更好的音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much better sound _____________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数字技术的发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______________ of digital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跟上，赶上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___________ with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.have ____________ to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…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主要手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___________ means of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决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_______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39640" y="33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ing 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924360" y="119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68360" y="206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vailab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85928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763640" y="378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635280" y="4149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692360" y="4653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492360" y="501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in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2843280" y="5516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8820000" cy="416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1.If you could own only one electronic device</a:t>
            </a: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what would you choose</a:t>
            </a: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？</a:t>
            </a: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5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. TV is popular in modern times.  so most of us spend a lot of time enjoying a variety of TV programmes every day. What benefit does TV bring us? Does it have bad effect on us? And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87320" y="785880"/>
            <a:ext cx="68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ep Fiv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116000" y="982800"/>
            <a:ext cx="770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you could own only one electronic devi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choo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矩形 2"/>
          <p:cNvSpPr/>
          <p:nvPr/>
        </p:nvSpPr>
        <p:spPr>
          <a:xfrm>
            <a:off x="1619280" y="3141720"/>
            <a:ext cx="6118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’d like to own a computer because it can store a lot of information and it’s very convenient for us to us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332000" y="836640"/>
            <a:ext cx="35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30305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30305"/>
                </a:solidFill>
                <a:latin typeface="Times New Roman"/>
              </a:rPr>
              <a:t>. TV is popular in modern times.  so most of us spend a lot of time enjoying a variety of TV programmes every day. What benefit does TV bring us? Does it have bad effect on us? And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785880" y="785880"/>
            <a:ext cx="35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taperecorder3"/>
          <p:cNvPicPr/>
          <p:nvPr/>
        </p:nvPicPr>
        <p:blipFill>
          <a:blip r:embed="rId1"/>
          <a:stretch/>
        </p:blipFill>
        <p:spPr>
          <a:xfrm>
            <a:off x="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u=1715610991,2507003262&amp;gp=0"/>
          <p:cNvPicPr/>
          <p:nvPr/>
        </p:nvPicPr>
        <p:blipFill>
          <a:blip r:embed="rId2"/>
          <a:stretch/>
        </p:blipFill>
        <p:spPr>
          <a:xfrm>
            <a:off x="4722840" y="620640"/>
            <a:ext cx="3809880" cy="264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P4"/>
          <p:cNvPicPr/>
          <p:nvPr/>
        </p:nvPicPr>
        <p:blipFill>
          <a:blip r:embed="rId3"/>
          <a:stretch/>
        </p:blipFill>
        <p:spPr>
          <a:xfrm>
            <a:off x="324000" y="3198960"/>
            <a:ext cx="3614760" cy="3038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7594560" y="2205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184640" y="53211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9280" y="249228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 rec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535640" y="393372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velopment of audio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92760" y="115920"/>
            <a:ext cx="77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audio devices do you choose to enjoy mus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First of all, watching TV has the valu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giving people complete relaxation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working hard all day, people can forg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the pressures and challenges of work w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sitting in front of TV. In addition to being relax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TV is entertaining. As is known to all, TV off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variety of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 movies, sports events and music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tisfy people’s demands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. Meanwhile, TV helps to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widen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</a:rPr>
              <a:t> our knowledge and view by covering ne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However, TV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as a bad effect on</a:t>
            </a: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 peop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too.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For one thing</a:t>
            </a: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, it is a big time w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Secondly</a:t>
            </a: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, TV has killed people’s 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undoubtedly. While watching TV,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become receptive and unquestioning. Fi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some TV shows are harmful to child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whose mind may be filled with confus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misleading, and violent ideas. Besides,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Times New Roman"/>
              </a:rPr>
              <a:t>valuable time will be wa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Read the pa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rite a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Underline difficult sentences and      important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397800" y="18900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7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it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54328127417"/>
          <p:cNvPicPr/>
          <p:nvPr/>
        </p:nvPicPr>
        <p:blipFill>
          <a:blip r:embed="rId1"/>
          <a:stretch/>
        </p:blipFill>
        <p:spPr>
          <a:xfrm>
            <a:off x="1981080" y="1371600"/>
            <a:ext cx="933480" cy="847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1332000" y="2349360"/>
            <a:ext cx="64008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ading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The evolution of video and sou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108000" y="260280"/>
            <a:ext cx="3638520" cy="682560"/>
            <a:chOff x="108000" y="260280"/>
            <a:chExt cx="3638520" cy="682560"/>
          </a:xfrm>
        </p:grpSpPr>
        <p:pic>
          <p:nvPicPr>
            <p:cNvPr id="123" name="矩形 1" descr=""/>
            <p:cNvPicPr/>
            <p:nvPr/>
          </p:nvPicPr>
          <p:blipFill>
            <a:blip r:embed="rId1"/>
            <a:stretch/>
          </p:blipFill>
          <p:spPr>
            <a:xfrm>
              <a:off x="108000" y="260280"/>
              <a:ext cx="36385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169920" y="339480"/>
              <a:ext cx="3521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预习多维感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"/>
          <p:cNvSpPr/>
          <p:nvPr/>
        </p:nvSpPr>
        <p:spPr>
          <a:xfrm>
            <a:off x="324000" y="765000"/>
            <a:ext cx="8642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MS Mincho"/>
              </a:rPr>
              <a:t>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ep 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ast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ad the text quickly and choose the bes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hen and where was the first long­distance TV broadcast made?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306468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1"/>
          <p:cNvSpPr/>
          <p:nvPr/>
        </p:nvSpPr>
        <p:spPr>
          <a:xfrm>
            <a:off x="468360" y="3357720"/>
            <a:ext cx="734544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 1925 in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 1926 in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 1928 in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 1928 in both the USA and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1125360"/>
            <a:ext cx="8066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ho might be the inventor of the first TV?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mile Berliner in the U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hilo Farnsworth in the U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ohn Logie Baird in the U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t remains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7740720" y="126828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4920" y="476280"/>
            <a:ext cx="8209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hich of the following is NOT the factor that makes people living far away receive TV programme?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use of satel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distribution of the satellite di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2484360" y="198900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内容占位符 1"/>
          <p:cNvSpPr/>
          <p:nvPr/>
        </p:nvSpPr>
        <p:spPr>
          <a:xfrm>
            <a:off x="324000" y="3860640"/>
            <a:ext cx="80643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local TV companies get th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any companies broadcast the same 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6720" y="1126800"/>
            <a:ext cx="8280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fore the digital record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ow many kinds of materials were used to record sound?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ive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even.        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630288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0:26:18Z</dcterms:created>
  <dc:creator>微软用户</dc:creator>
  <dc:description/>
  <cp:keywords/>
  <dc:language>en-US</dc:language>
  <cp:lastModifiedBy>Administrator</cp:lastModifiedBy>
  <dcterms:modified xsi:type="dcterms:W3CDTF">2016-10-06T05:11:27Z</dcterms:modified>
  <cp:revision>1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