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FD53-D4EA-415C-85EC-2B36C3987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F7BD-C153-4C11-9DC1-1C461A5B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A9D8-011A-4B18-A60D-3B6EE4E9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A242-6A32-4C39-8C9B-1993CA9DC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D7F2-9C15-49D8-B422-D5358A0D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CDC9-3502-42E1-983F-18AFE2EF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2ADB-D14D-4914-83DF-7A944980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4478-8E1D-44D3-949C-661AA5A0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86BD-1CBB-4EFD-8DFA-8D507060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EDB2-063B-4DC2-9622-B90F7BAB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E514-E9FC-40F2-8915-00CB2F1F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D4F4-4729-41D0-85DB-2114407F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8E0A-8230-4A68-BEDB-C5CE912265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2189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7 U4  Public transportation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Words and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所有权，产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quarrel over the o__________ of the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拓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友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者群，读者身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izenship 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授职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manship_____________ hardship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962520" y="152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wn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95880" y="7621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n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066680" y="190512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-ship ①n+-ship …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的职位、地位，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技能，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术  ②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/adj +-ship  …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状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1371600" y="29718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friend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3962520" y="3581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2590920" y="4191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公民权，公民的身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2286000" y="46483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ofesso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276720" y="53341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政治才能，治国之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2286000" y="57913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艰难，困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k u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与他们联合举办了一次慈善音乐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________ ________ ________ them for a charity conce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拓展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….to/with 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连接，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联系起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971800" y="1523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联合，连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828800" y="27432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inked     up          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648320" y="37339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把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和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连接起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990720" y="4800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ink up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. enquiry = inquiry 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         enquirer n 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urder enquiry ________________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fic enquiry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mittee of enquiry____________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few enquiries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询问，打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向某人问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quir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____________________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quir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h of sb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859280" y="69228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调查、询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700360" y="112536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询问者、调查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51280" y="1628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谋杀案调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708360" y="213372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科学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572000" y="2637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调查委员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427640" y="321300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做询问、打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2771640" y="3716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nquire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2771640" y="422100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nquire after 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2916360" y="4724280"/>
            <a:ext cx="29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调查、查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3708360" y="5229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向某人打听某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. handfu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 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只有少数几个人来了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拓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口的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勺的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充满希望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精彩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用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348000" y="404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少数、少量、一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971640" y="1341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nly a handful of people c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556000" y="2565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outh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627280" y="321300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poon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3059280" y="37162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op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2195640" y="436572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ond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195640" y="494172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s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52280" y="380520"/>
            <a:ext cx="8839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. spl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v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过去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过去分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现在分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s we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lit in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wo groups. 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 dress ha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l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ong the seam. 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l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money she won with her bro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 spl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tent. 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4067280" y="333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pl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971640" y="765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pl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292720" y="69228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spl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971640" y="170028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结果被分成了两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042920" y="26370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她的连衣裙沿着缝裂开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985680" y="373392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她把赢的钱与弟弟分享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914400" y="46483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帐篷上撕了一个大口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t sth away from _________________  split on sb to sb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t up with sb____________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t ends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4643280" y="15573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使脱离、使分裂出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780000" y="2060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向某人告发某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635280" y="263700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手，与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断绝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2771640" y="32130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叉的发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. fill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on holiday, so I am filling in for him. 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filling in an application. 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ole has been filled in. 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filled in the rest of the day watching TV.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900000" y="13413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他在度假，所以我暂时代替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826920" y="2349360"/>
            <a:ext cx="59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他在填写申请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900000" y="335772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洞被填平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619280" y="450864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他用看电视来打发那天余下的时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拓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…up with… _______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filled with 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full of ______________________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t one’s fill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780000" y="220500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把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填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3348000" y="278136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充满、填满、装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556000" y="335772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充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3203640" y="3860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吃个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04920" y="30636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.arise  vi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出现，产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起因于，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引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回忆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e , arise ,raise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辨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643280" y="26028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起因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6300720" y="260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由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产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187280" y="126828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rise from/ou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971640" y="2276640"/>
            <a:ext cx="756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ise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se, risen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i.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上升，升起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升高；上涨；站起来。说明主语自身移向较高位置，常用于日、月、云、雾、烟、蒸汽、河水、温度、物价以及人的职位等，无被动语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rise (arose, arisen) vi.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呈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出现；发生， 产生；起身，起立。无被动语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aise vt.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举起，提起；抬高；筹集。说明主语发出的动作是要作用于其它事物的，往往有使物体达到其应有的高度的含义。可用于被动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opportunity __________ I’d love to go to Par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 rises    B raises      C arises     D hap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离开，出发；违背，违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 _____________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已故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部门，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从更本上违背了传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a radical ____________ ____________ trad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851280" y="2602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5724360" y="227664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epa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403280" y="278136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e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2627280" y="3284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ep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771640" y="3789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635280" y="4797360"/>
            <a:ext cx="44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eparture   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51920" y="304560"/>
            <a:ext cx="8991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前置性补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Words fail to __________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表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my fee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_____________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that would have meant a global de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 would rather u______________ some purposeful labour than stay id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he now has the a_____________ over the people she used to take orders fr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This is the shortest r___________ from Boston to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The train moves with an u______________ sp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It was an unpopular decision to p___________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Trains leave at i__________ this w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2895480" y="609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onv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838080" y="11430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Unfortunatel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352680" y="19810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dert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809880" y="2819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utho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4191120" y="3657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u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5029200" y="44956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believ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6095880" y="50292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stp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3429000" y="5867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terv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920" y="23004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. punctual 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 _____________________= _________________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词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__________________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punctual to the minute 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是乘渡轮去那里的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拓展：当交通工具前无限定词修饰时，介词只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;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当前面有冠词或形容词性无主代词限定时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/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bus = _____________/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rain=___________/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ar= _____________/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spaceship=____________    /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851280" y="189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准时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971640" y="5493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n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547640" y="981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unct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1187280" y="14842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unct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1116000" y="2276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分钟不差，非常准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900000" y="32130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e went there by fe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2411280" y="4869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n a b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5148360" y="4869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n the b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2340000" y="53737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n a tr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4500720" y="537372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n the b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2195640" y="580536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 a c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4932360" y="5877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 one’s c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3059280" y="627840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 a spaceshi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5940360" y="6278400"/>
            <a:ext cx="33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 the space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成性检测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翻译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可以让我在银行附近下车吗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rop of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咱们等获取更多信息之后再作决定吧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ostp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066680" y="10666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BDC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762120" y="28195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an you drop me off near the ban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838080" y="49528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et’s postpone making a decision until we have more inform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后续性矫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单选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BC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填空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 the time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翻译句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.John filled in the rest of the day reading a nove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.Accidents always arise from carelessne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新知探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route  n 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成名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获取权力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成功的路径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哪一条是最佳路线？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2895480" y="1447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常规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路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914400" y="3581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ich is the best rou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0" y="2514600"/>
            <a:ext cx="93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e route to fame/achieving power/su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9917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drop off 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est in the book began to drop off. 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们把行李放在旅馆然后去观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拓展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op in/by/round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落后掉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op in on sb ____________________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op in at sp 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op sb a line/note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途退出，辍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_____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ust drop me ______ at the station, pl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out    B. away     C. on            D.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286000" y="1522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中途下车或卸货；减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9907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对这本书的兴趣开始消失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33520" y="18288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 will go sightseeing after dropping off our luggage in the hot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4419720" y="27432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顺便拜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057400" y="32004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rop beh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2819520" y="35812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顺便拜访某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2895480" y="41148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顺便拜访某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3581280" y="45720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给某人写短信、便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3352680" y="5105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rop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2743200" y="5638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onve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vt ______________________ convey sth to sb 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留下印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达观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luggage will be conveyed to the hotel by tax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809880" y="15238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运送，输送，表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962520" y="2057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向某人表达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914400" y="3124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onvey an impression/an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914400" y="47242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你的行李将用出租车来输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28240" y="456840"/>
            <a:ext cx="84582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believ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dj 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火车以令人惊人的速度行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in mo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 ______ _________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孩子聪明得真是令人难以置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____________ _____________ clever the child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762120" y="8380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非常坏的，令人难以置信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838080" y="2590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ith an unbelievable spe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76520" y="38098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unbelievable 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tp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t 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音乐会已经延迟一个小时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cert _________ _______ ______ for an h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拓展：  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推迟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推迟做某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/ _________/ _____________ doing s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267080" y="228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延迟，延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276720" y="152388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as been postpo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066680" y="31240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ostpone…until/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09480" y="42670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ostp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505320" y="42670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5943600" y="42670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ut o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i/vt 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oreroom was choked with furniture. 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ke down ___________________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ke back 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ke off _____________________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ke up 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ke up with __________________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抑制情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气得说不出话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managed to ____________________my t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as really ____________________ when I saw her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the water unable to flow out of the pip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____with leaves, I thin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choked up   B. joined up  C. pressed against  D. add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286000" y="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使）窒息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使）哽咽，堵塞，塞满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.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哽咽声，呛住的声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09480" y="99072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这个储藏室塞满家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2133720" y="144792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勉强咽下，硬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057400" y="17524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抑制（愤怒，悲痛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1828800" y="22096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制止，阻止，使中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1752480" y="251460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堵塞、（因激动而说不出话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+with,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常用被动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2438280" y="30481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塞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905120" y="33526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hoke one’s fe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2666880" y="38098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hoke with 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2362320" y="4267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hoke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2286000" y="4572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hoke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2286000" y="54100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8686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derta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i/vt_______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过去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过去分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承担一个项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承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答应做某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不能担保你会获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not _________ _________ you will _________ ______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809880" y="5335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承担，从事，承诺，答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676520" y="1143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undert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638680" y="1143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undert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971800" y="16765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undertake a task/a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429000" y="22860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undertake to do/tha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133720" y="342900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undertake tha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533520" y="39625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make         a          pro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09:58:49Z</dcterms:created>
  <dc:creator/>
  <dc:description/>
  <cp:keywords/>
  <dc:language>en-US</dc:language>
  <cp:lastModifiedBy>Administrator</cp:lastModifiedBy>
  <dcterms:modified xsi:type="dcterms:W3CDTF">2016-10-06T05:23:34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  <property fmtid="{D5CDD505-2E9C-101B-9397-08002B2CF9AE}" pid="3" name="Version">
    <vt:r8>1</vt:r8>
  </property>
</Properties>
</file>