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0B5-5E11-46F8-87C4-7FCBBCC6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409-46FE-40DB-AE5B-080AB6F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4D8-DD6E-476D-82FF-1E4D892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657-D6FF-4F4F-AF3F-CEC32E37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8C9-16CC-4AD9-B3AE-C119218A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816-017B-4D5A-BC69-2720291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28F-05BB-41F5-9774-615A4A9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B0C-BC46-42E7-8B66-8503A9E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504-FB26-4649-B17E-D2ED8E64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E3B-5711-4429-8902-7DBCB95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001-A39F-459F-93CD-79B97B6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E44-7B60-4234-A571-45805D8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144-BE15-4561-9AF6-41E5D65500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7U1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oject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king a list of advantages and 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性检测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项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ADC  DABDA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译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r casual clothes are not suitable for the importa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e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don’t think women should sacrifice self-independence for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er such a circumstance, he began to be skeptica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 jud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=2591661627,786073329&amp;gp=1"/>
          <p:cNvPicPr/>
          <p:nvPr/>
        </p:nvPicPr>
        <p:blipFill>
          <a:blip r:embed="rId1"/>
          <a:stretch/>
        </p:blipFill>
        <p:spPr>
          <a:xfrm>
            <a:off x="3048120" y="3733920"/>
            <a:ext cx="2971800" cy="25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u=207759471,3078643600&amp;gp=0"/>
          <p:cNvPicPr/>
          <p:nvPr/>
        </p:nvPicPr>
        <p:blipFill>
          <a:blip r:embed="rId2"/>
          <a:stretch/>
        </p:blipFill>
        <p:spPr>
          <a:xfrm>
            <a:off x="6858000" y="4572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2362320" y="865800"/>
            <a:ext cx="3429000" cy="703440"/>
          </a:xfrm>
          <a:prstGeom prst="rect">
            <a:avLst/>
          </a:prstGeom>
          <a:solidFill>
            <a:srgbClr val="ffff00"/>
          </a:solidFill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133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ist some functions of mobile ph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God is girl.mp3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8281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188604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erent functions of mobile ph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aking a phon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2362320" cy="1619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320040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aking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0" y="3962520"/>
            <a:ext cx="2438280" cy="2012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80880" y="6095880"/>
            <a:ext cx="31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215712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57913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urfing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2743200" y="3809880"/>
            <a:ext cx="2133720" cy="1619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2590920" y="57150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ding sh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200579105743846"/>
          <p:cNvPicPr/>
          <p:nvPr/>
        </p:nvPicPr>
        <p:blipFill>
          <a:blip r:embed="rId6"/>
          <a:stretch/>
        </p:blipFill>
        <p:spPr>
          <a:xfrm>
            <a:off x="5638680" y="3886200"/>
            <a:ext cx="2795760" cy="1928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61722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ying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24000" y="2421000"/>
            <a:ext cx="84992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think high school students should use mobile phones in their schools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200912985339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489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187280" y="566100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ffect their st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7_100723115556_1"/>
          <p:cNvPicPr/>
          <p:nvPr/>
        </p:nvPicPr>
        <p:blipFill>
          <a:blip r:embed="rId1"/>
          <a:stretch/>
        </p:blipFill>
        <p:spPr>
          <a:xfrm>
            <a:off x="611280" y="620640"/>
            <a:ext cx="6265800" cy="540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979640" y="62784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mage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325264782608391952"/>
          <p:cNvPicPr/>
          <p:nvPr/>
        </p:nvPicPr>
        <p:blipFill>
          <a:blip r:embed="rId1"/>
          <a:stretch/>
        </p:blipFill>
        <p:spPr>
          <a:xfrm>
            <a:off x="135000" y="0"/>
            <a:ext cx="3573360" cy="386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6050803"/>
          <p:cNvPicPr/>
          <p:nvPr/>
        </p:nvPicPr>
        <p:blipFill>
          <a:blip r:embed="rId2"/>
          <a:stretch/>
        </p:blipFill>
        <p:spPr>
          <a:xfrm>
            <a:off x="4427640" y="1413000"/>
            <a:ext cx="367344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611280" y="4221000"/>
            <a:ext cx="43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84741296266717311"/>
          <p:cNvPicPr/>
          <p:nvPr/>
        </p:nvPicPr>
        <p:blipFill>
          <a:blip r:embed="rId1"/>
          <a:stretch/>
        </p:blipFill>
        <p:spPr>
          <a:xfrm>
            <a:off x="2666880" y="1362240"/>
            <a:ext cx="3810240" cy="413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84741296266717311"/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ith your partners about the advantages and disadvantage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-phones and write them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 1. 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 1.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TR01036265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403280" y="155736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187280" y="191628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90720"/>
            <a:ext cx="91440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ventions have changed our lives, especial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ph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However,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ifferent people have different opinions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me people agree t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ph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made our lives more convenient….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n the contrary, some people hold the opinion t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ph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some disadvantages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n one thing,…On the other hand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my opinion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608040" y="-237960"/>
            <a:ext cx="8887680" cy="1569600"/>
            <a:chOff x="-608040" y="-237960"/>
            <a:chExt cx="8887680" cy="1569600"/>
          </a:xfrm>
        </p:grpSpPr>
        <p:pic>
          <p:nvPicPr>
            <p:cNvPr id="149" name="Picture 7" descr="BAN_065"/>
            <p:cNvPicPr/>
            <p:nvPr/>
          </p:nvPicPr>
          <p:blipFill>
            <a:blip r:embed="rId2"/>
            <a:stretch/>
          </p:blipFill>
          <p:spPr>
            <a:xfrm>
              <a:off x="-608040" y="-237960"/>
              <a:ext cx="7480440" cy="10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8"/>
            <p:cNvSpPr/>
            <p:nvPr/>
          </p:nvSpPr>
          <p:spPr>
            <a:xfrm>
              <a:off x="87840" y="18720"/>
              <a:ext cx="8191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Suggested 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structure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际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点和缺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投票（表决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方便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神贯注于，专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电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浪费宝贵的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不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立关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着平静而稳定的生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额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返回，恢复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置性补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209680" y="60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1066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vantages and disadvantag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03848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5053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h be conven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343400" y="2438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 absorb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57400" y="28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88620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ste preci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905120" y="37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xt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51460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438280" y="4648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ild relationship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876920" y="5029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calm and stable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134800" y="54100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good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047760" y="5867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d onese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3658320" y="6400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ur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TR01036265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403280" y="155736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87280" y="191628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609480"/>
            <a:ext cx="914400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me inventions have changed our lives, especially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llphones . However, different people have different opinions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re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is no doubt th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llph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out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ll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处一）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Further mo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处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 Last but not the least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处三）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s every coin has two sid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llpho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so have some disadvantages.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On one h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坏处一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. On the other h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坏处二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I hold the poi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at…,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由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-536400" y="-536400"/>
            <a:ext cx="8887680" cy="1075680"/>
            <a:chOff x="-536400" y="-536400"/>
            <a:chExt cx="8887680" cy="1075680"/>
          </a:xfrm>
        </p:grpSpPr>
        <p:pic>
          <p:nvPicPr>
            <p:cNvPr id="156" name="Picture 7" descr="BAN_065"/>
            <p:cNvPicPr/>
            <p:nvPr/>
          </p:nvPicPr>
          <p:blipFill>
            <a:blip r:embed="rId2"/>
            <a:stretch/>
          </p:blipFill>
          <p:spPr>
            <a:xfrm>
              <a:off x="-536400" y="-536400"/>
              <a:ext cx="7480440" cy="10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8"/>
            <p:cNvSpPr/>
            <p:nvPr/>
          </p:nvSpPr>
          <p:spPr>
            <a:xfrm>
              <a:off x="159480" y="-279720"/>
              <a:ext cx="819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Suggested 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structure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905120" y="17524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-76320"/>
            <a:ext cx="9296280" cy="75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inventions have changed our lives, especial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ellphones . However, different people have different opinions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er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is no doubt 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ellph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man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ll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t is convenien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us to communicate with others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Besi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ell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re mad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accessible to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sending messages, listening to the music, taking photos, and so 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st but not the lea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ellphones can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be made use of to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surf the Internet and even go s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s every coin has two si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ellpho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have some disadvantage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On one h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ellphones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ve a bad effect o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our study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On the other hand,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y will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not only do great harm to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our hearing,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but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also our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80880" y="457200"/>
            <a:ext cx="8077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hold the po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,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s senior students,  w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are supposed to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raise our awareness of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the disadvantages of cellphones, and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keep away from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them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re is something more important in our lives than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asting our precious tim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laying with cellphone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in this wa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an w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ealize our dream and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rm good relationship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with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0061215135042301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>
            <a:off x="3276720" y="3213000"/>
            <a:ext cx="2519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rojec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611280" y="5157720"/>
            <a:ext cx="79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To phone or not to phone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685800"/>
            <a:ext cx="89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Unit 1  Living with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900000" y="162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a newspaper ar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21720" y="2997360"/>
            <a:ext cx="27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71040" y="4724280"/>
            <a:ext cx="60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first paragrap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1.Structure of th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Tw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Fou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38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30481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828800" y="4191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752480" y="548640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819520" y="1752480"/>
            <a:ext cx="60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   of a Christia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895480" y="285264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up's _________ towards phon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348000" y="407664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 of their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124080" y="5257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of the pa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895480" y="1676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724280" y="266688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505320" y="3886200"/>
            <a:ext cx="353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276720" y="5105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sib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42920" y="26028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幼圆"/>
              </a:rPr>
              <a:t>Carefu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幼圆"/>
              </a:rPr>
              <a:t>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6320" y="102960"/>
            <a:ext cx="4038480" cy="703440"/>
          </a:xfrm>
          <a:prstGeom prst="rect">
            <a:avLst/>
          </a:prstGeom>
          <a:solidFill>
            <a:srgbClr val="ffff00"/>
          </a:solidFill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128040" y="458136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advantages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知探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no matter what the circumstances, when the phone rings, everything stops so that the call can be answere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句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what the circumsta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完整形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句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msta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思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复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情况下，没有人会签署这样的不公平协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56120" y="266544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如，无论在什么情况下，当电话铃声响起时，为了接电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切都得停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00720" y="365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让步状语从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81240" y="3962520"/>
            <a:ext cx="52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matter what the circumstanc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726080" y="4267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情况，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65040" y="52974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der normal circumstances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nobody would sign such an unfair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While these messages always seem important at the time. Most people cannot really remember them the next day.(L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引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意思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法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间，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候，引导状语从句，谓语动词要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人在看报纸时睡着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，然而，用于两种情况的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喜欢喝茶，而他喜欢喝咖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然，尽管“引导让步状语从句，相当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然我承认我喜欢他，但我不愿和他一起工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027520" y="152388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尽管这些短信当时似乎很重要，但大部分人第二天就不太记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短信内容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02860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连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09880" y="2209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让步状语从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31080" y="2514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尽管、虽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76320" y="352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延续性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87000" y="419112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The old man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fell asleep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while he was reading newsp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2360" y="522144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like drinking tea while he likes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160680" y="55260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ugh/al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41720" y="628812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le I admit I like him, I’d like not to work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Meanwhile, real relationships are often sacrificed, and whatever personal peace one has is destroyed whenever the phone rings.(L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crifice sth. for s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bour government chose to sacrifice defence for welfare.___________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crifice sth. to do s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sacrificed a promising career to look after his kids._________________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crifice yourself (for sth.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hers who sacrifice themselves for their children.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crifice (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force were willing to make sacrifices in order to preserve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brought three children up single-handedly, often at great personal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65400" y="1676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党政府选择牺牲防御来换取福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66300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他为了照顾孩子牺牲了一份有前途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85800" y="3581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为了孩子牺牲自己的母亲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53160" y="51055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为了保住工作，工人们愿意做出牺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422960" y="6248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她独自抚养三个孩子成人，往往以巨大的个人利益为代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性检测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assume   must have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vote on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reject  having tight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Since  value seeing   to   oppose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being  sharing 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 circumstances  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 ringing  destroying what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 a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 average 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 communication   rather than  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 personal   is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 stable  living   above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7:40:25Z</dcterms:created>
  <dc:creator/>
  <dc:description/>
  <cp:keywords/>
  <dc:language>en-US</dc:language>
  <cp:lastModifiedBy>Administrator</cp:lastModifiedBy>
  <dcterms:modified xsi:type="dcterms:W3CDTF">2016-10-06T05:09:5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