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845-A5EB-462D-95ED-F16C1706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5C6-E22C-43E3-B687-D74A0C1E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BE4-EF7C-476B-BE16-6624A30C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849-AD09-46F2-A1BA-9D635ED8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10D-B4C4-40F7-977D-66F09E9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CB5-358B-424E-AED3-BFE3447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D45-7606-4417-8560-D27E01F1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9D2-796B-463B-961E-C185DE18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D15-D0B0-4D39-8040-ECD5771B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BBC-BEC7-43F9-81A1-40BF3EB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A59-AD50-4E59-92D4-E65B933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90C-77C0-45D4-8C4D-905EDCF1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621A-7B90-43ED-B49A-C53D49687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" name="Picture 7" descr="w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odule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  Unit1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iving with technology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尝试练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nd is too strong; please wind the window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down    B. in       C. up        D.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sceptical adj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sceptical about/of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________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对一切事情都怀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玛丽对这个解决方法表示怀疑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421160" y="762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760280" y="2284920"/>
            <a:ext cx="20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对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…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表示怀疑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78240" y="3200400"/>
            <a:ext cx="68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n’t be sceptical about/of everything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02280" y="419112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ry was sceptical about/of the solution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385800" y="1752480"/>
            <a:ext cx="16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疑的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vot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______________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's decide by vote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have the vote he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s voted to continue the struggle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voted him our monitor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建议他做那件事。（虚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归纳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te against...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te for..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884320" y="-720"/>
            <a:ext cx="33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投票，选举；提议；投票表决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973120" y="53244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让我们用投票来决定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学生投票决定继续斗争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45588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这儿妇女有选举权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54412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们投票选他为班长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80880" y="38862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 vote that he should do that thing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126400" y="4494960"/>
            <a:ext cx="10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投票反对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989240" y="5028480"/>
            <a:ext cx="18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投票赞成；建议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考链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More than four in 10 voters nationwide said they definitely plann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Bush next year while 38 percent said they would support his re-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vote                 B.vote for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vote against     D.vot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411520" y="1349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reject  vt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n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fraid she would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ject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 because he was a foreig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jected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settling in England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el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j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his baby sister was bo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668400" y="189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拒绝，抛弃，排斥，呕吐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094160" y="2602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jection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05400" y="1832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拒绝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79360" y="3500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放弃、不予考虑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970640" y="5373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冷落的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链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unable to attend the meeting in Moscow ,because the Russ ion authorities had ___    him a vi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enied       B. refuse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ejected     D. op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981080" y="1844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oppose vt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翻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反对与他人一起外出购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语归纳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 s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 oneself to s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774960" y="404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反对，抵制，阻挠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731640" y="33336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ppositio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20800" y="2133720"/>
            <a:ext cx="74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 oppose going shopping with others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456880" y="267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反对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586120" y="3357720"/>
            <a:ext cx="17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使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与之对立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联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对”的词语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介词的词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50920" y="112536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Be against/ object to /be opposed to doing /oppose doing/ resist/disagree with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50920" y="429264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Be used to /pay attention to /lead to /look forward to /devote…to/stick to /turn to/prefer doing to doing/refer t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适当形式填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he villag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ilding of the motor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he seems 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your going abro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In England, you must drive on the _____side of the ro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woman sitt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ete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son beat all 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635280" y="83664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ppos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499640" y="19162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pposed to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0560" y="342900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pposit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716360" y="40766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pposit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354920" y="501336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pponent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语归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立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706920" y="105264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 opposite to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705120" y="220500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on the opposite sid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circumstance 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           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短语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此情况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论如何也不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决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翻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任何情况下我都不背叛我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75280" y="134136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der/in the circumstance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202200" y="242100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der/in no circumstance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95280" y="37893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der no circumstance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uld I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betray my friends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429080" y="33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条件、环境、状况      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前置性补偿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83772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一）单词表中短语识记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保持联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____          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上发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短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_                  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额外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___________ 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581280" y="1371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ep in touch with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057400" y="20574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ind up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752480" y="2666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xt messag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52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r good measur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rid vt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去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去分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分词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语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摆脱掉，除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某人摆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771640" y="-158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除去，免除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771640" y="5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id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43280" y="119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id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843280" y="184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idding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92436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et rid of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08360" y="35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id sb of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117360"/>
            <a:ext cx="871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我能在明天离开孩子们，我会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胖男孩节制饮食来减轻体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高考链接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 matter how low you consider yourself, there is always someone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ou wishing they were that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getting rid of          B.getting along wi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looking up to            D.looking down u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44720" y="90972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f I could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t rid of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the children tomorrow, I would go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8720" y="2349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fat boy went on a diet to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t rid of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weight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636000" y="451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形成性检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n recent years our country has placed great importance on econom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 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general belief that you have about the way you should behave, which influences your beh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island is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by b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The management plan has four main 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I always carry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Frank put the medicine in a top drawer to make sure it would not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k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accessible      B.relativ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acceptable      D.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494240" y="106668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tructio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23880" y="160020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incipl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353400" y="28195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cessibl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7008840" y="33526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mponent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733920" y="380988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tabl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964680" y="4549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选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ADD   CB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10. It‘s not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 suitable</a:t>
            </a: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 for you to join in the party wearing such clot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11. In order for her to get good education,her parents 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ade many sacrif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12. The government decides to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 rid</a:t>
            </a: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 the city 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of</a:t>
            </a: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 corru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have been in to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him for ten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WordArt 4" descr=""/>
          <p:cNvPicPr/>
          <p:nvPr/>
        </p:nvPicPr>
        <p:blipFill>
          <a:blip r:embed="rId1"/>
          <a:stretch/>
        </p:blipFill>
        <p:spPr>
          <a:xfrm>
            <a:off x="1060560" y="1573200"/>
            <a:ext cx="69609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w2"/>
          <p:cNvPicPr/>
          <p:nvPr/>
        </p:nvPicPr>
        <p:blipFill>
          <a:blip r:embed="rId1"/>
          <a:stretch/>
        </p:blipFill>
        <p:spPr>
          <a:xfrm>
            <a:off x="0" y="0"/>
            <a:ext cx="914400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3823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单词词性转换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__________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演变，进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__________v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演变，进化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_________ v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造，修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造，修筑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___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使用的，易到达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v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；存取；接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_________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；使用权；通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__ vt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分布，分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__________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配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___________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储，储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v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储，储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________ 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适应，改编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_______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适应，改编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_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险，保障措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vt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_______    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______   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电的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__________ 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___ vt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04920" y="685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olutio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762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ol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28600" y="1143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nstruc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343400" y="1066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nstructio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920" y="1523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629400" y="1523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cces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352680" y="1905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cces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04920" y="2362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istribut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51055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istributio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0492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torag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724280" y="2819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tor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28600" y="3276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dapt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tio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1814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dap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2860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suranc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548640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sur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152280" y="4191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429000" y="4114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638680" y="4191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lectri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28600" y="4572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ranslatio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886200" y="4572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724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._________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适的，适当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v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适合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________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优雅的，雅致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优雅，雅致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________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督教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督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_________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宗教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__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宗教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_______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典型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类型，品种，模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________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稳定的，稳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稳定性 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533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uitabl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638680" y="533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ui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80880" y="12193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legan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181480" y="12193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legan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04920" y="2057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ristia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191120" y="1981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ristian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y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57200" y="2971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ligiou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419720" y="2895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ligio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57200" y="3886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ypical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962520" y="3886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yp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33520" y="4800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tabl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410080" y="48006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tability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置性补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It has passed through an interesting procedure of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进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Whisky contains a large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alcoh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I bought my son a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__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children of a play by Shakespe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Such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_____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ss would not be correct for a formal occa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I found a job selling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He takes a rather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怀疑的）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ew of love and roma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038480" y="5181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eptical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123000" y="114300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6040" y="16765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centag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571280" y="274320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ptatio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058120" y="36576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sual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800240" y="464832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suranc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知探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keep in touch with______________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uch vt/n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___________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touch the animal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_________________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ouched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what he said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____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n't touch the subject here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_____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关短语归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联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得联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失去联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能接触到之处，能达到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41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被他的话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感动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了。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41840" y="560520"/>
            <a:ext cx="17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保持联系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013920" y="1143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触摸，接触，感动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653440" y="16002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别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那个动物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92600" y="3581280"/>
            <a:ext cx="36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out of touch with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122280" y="4114800"/>
            <a:ext cx="30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 in touch with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199320" y="4572000"/>
            <a:ext cx="27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se touch with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5486040" y="5029200"/>
            <a:ext cx="28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in/in touch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5958360" y="2666160"/>
            <a:ext cx="28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我不愿在这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这个问题。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 vt.&amp;vi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使）推迟，延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推迟做某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 n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延期，延缓，推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de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You need to get those vegetables planted without delay.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apologized to me for his _____ me to hi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 inviting     B. delaying to inv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delay to invite   D. delaying inv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拓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“推迟，延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08400" y="6858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lay doing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438280" y="16765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毫无延迟地，立即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525200" y="2666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你需要立即把这些蔬菜种好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629400" y="32004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952880" y="52578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stpone/put off doing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867280" y="16002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mediately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distribut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t.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.___________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earthquake vict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pecies of butterfly is wid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ed 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our country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upil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ee group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513520" y="6094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tributio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304440" y="167544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他们向地震灾民分发了食品。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55480" y="289476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这种蝴蝶在我国分布很广。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466360" y="4266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老师把学生分成三组。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788640" y="1522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分配，散布；散发，分发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4582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 n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  ___________________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fore/down the wind___________________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gainst the wind________________________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et wind of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_________________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the wind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____________________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翻译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也许会有一次法国之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t/vi.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分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短语归纳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 up____________________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 down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 one’s way______________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 a handle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047040" y="151560"/>
            <a:ext cx="38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风；呼吸；（管弦乐团的）管乐器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143000" y="3048120"/>
            <a:ext cx="53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168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上发条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迂回，蜿蜒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904400" y="3352680"/>
            <a:ext cx="13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ound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019200" y="3352680"/>
            <a:ext cx="13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oun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124880" y="5324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顺风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593160" y="83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逆风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448080" y="1294560"/>
            <a:ext cx="253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听到风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得到消息 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209400" y="1675440"/>
            <a:ext cx="43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16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尤指秘密的事）正在进行，将要发生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278880" y="4342320"/>
            <a:ext cx="30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上发条；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结束（讲话、会议）等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关闭（公司、企业等）；停止营业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把（汽车窗玻璃等）摇上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3276000" y="5486040"/>
            <a:ext cx="365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6320" bIns="76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钟表）慢下来；摇低；干劲减小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237480" y="60188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曲折而行；缠绕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916000" y="64000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转动把手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76440" y="251460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trip to France may be in the wind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8:06:10Z</dcterms:created>
  <dc:creator/>
  <dc:description/>
  <cp:keywords/>
  <dc:language>en-US</dc:language>
  <cp:lastModifiedBy>Administrator</cp:lastModifiedBy>
  <dcterms:modified xsi:type="dcterms:W3CDTF">2016-10-06T05:10:54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