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04A-56C5-4853-8D3B-4801D84C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BC7-53AB-484B-BB66-9D62641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58B-C221-48AF-B22A-3E436B8F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BDB-2E8F-4551-A3CD-642B4281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2D6-D2EA-4B87-9245-ABEA38B3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CA8-CE8B-41B9-858B-FCF964A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C29-1560-4C21-B4E6-E5270EE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189-264E-4BD8-8C92-8E4C6105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B3B-0647-4CB4-AC8C-EAE917F1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39D-128C-42B9-A2CA-F261809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916-80FC-4B7D-B2E1-8ABBEA9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694-0BC4-4D09-88DE-AB60369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B81-FD36-47BF-B4FC-508B5B4083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7U2 Projec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性检测：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—4 CA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浙江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ats are surprisingly long-lived creatures ,some _____a life span of around 20 yea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having    B. had    C. have     D. to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卫生组织推荐针刺疗法为处理四十余种医疗难题的好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46000" y="4648320"/>
            <a:ext cx="810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World  Health Organization recomme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upuncture as a good treatment for over fo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dical 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71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52280" y="228600"/>
            <a:ext cx="89917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前置性补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代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被用来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肿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大部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阻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作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推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消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褪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743200" y="7621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 replac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743200" y="13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 used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8108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well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057400" y="2438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t sth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0" y="2971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majority (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981080" y="3581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lock…fr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14600" y="41148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 addicted to (doing)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981080" y="46483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bscrib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200400" y="51814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commend …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12408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ad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8991720" cy="82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新知探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a dull needle, used for tapping against pressur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:  1) Our team scored 8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s. ____________________________________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 don’t understand you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’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oing this at t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There is very litt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rguing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扩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of view_________on the point of _______________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not much/no point (in) doing s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752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队得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3276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点②意义③时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1911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观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5181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正要做某事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029200" y="5181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o the poin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2280" y="6095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做某事没有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57200" y="41911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他争执没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…used for lett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 of body parts which had swollen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sth. ou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泄露，透出，发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（衣服）放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泄露我失业了，好吗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决定以低租金把那些办公室租出去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链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ccidentally _____ that he had quarreled with his wife and that he hadn’t been home for a couple of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t out     B. took care   C. made sure  D.mad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2209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’t let it out that I have lost my job, will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40000" y="3124080"/>
            <a:ext cx="81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decided to let out the offices at low 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ll    vi. &amp;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ankle swelled up after the f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河水因融雪而上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295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跌倒后，她的脚踝肿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2514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river was swollen with melt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he main needle now used for acupuncture is fine and shar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____________________________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The shears aren’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ar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ough to cut the grass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We were surprised by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shar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ne of her comme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 The cheese is a little to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扩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op in pri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价格的聚降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rn to the lef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向左急转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se of humor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锐的幽默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131000" y="990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今，针灸主要用的针又细又锋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851640" y="1981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把剪刀割草不够锋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62120" y="3429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为她的评论的尖锐口吻感到惊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62120" y="44197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种奶酪对于我来说有点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There are twelve different pulses, six on each wr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 on each wri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，在句子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构成方式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义上相当于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格代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副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定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宾短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______________________________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没有人再说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the meeting was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They decided to buy a car, 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迈克付钱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There were 100 people in the room, ______________________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小的是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男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40100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立主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5348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6840" y="13716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介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4400" y="3124080"/>
            <a:ext cx="55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body having any more to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805280" y="396252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ke to pay the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63320" y="5257800"/>
            <a:ext cx="43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youngest a boy of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A lot of people now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ubscrib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bscribe__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. 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He did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bscribe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y propo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_________________________________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bscrib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eader's Digest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__________________________________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The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bscrib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local charitie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14600" y="1295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赞成，同意；订购，订阅；捐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066680" y="19051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9480" y="3048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不赞同我的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9480" y="4114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订阅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者文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09480" y="5334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向当地慈善机构捐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Today acupuncture has become popular round the world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 have other traditional Chinese medicines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文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have other traditional Chinese medicines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ave other traditional Chinese medicin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. 1) She is tall, as is he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ituation is very different here, as are the problems. ______________________________________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译：对我来说数学很重要，就像英语一样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今天针灸在世界上非常流行，其他传统中药也是如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765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20040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部分倒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7200" y="3581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她个子很高，她母亲也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7200" y="4952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儿的情况不一样，问题也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57200" y="5943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hs is very important to me, as it is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47:19Z</dcterms:created>
  <dc:creator/>
  <dc:description/>
  <cp:keywords/>
  <dc:language>en-US</dc:language>
  <cp:lastModifiedBy>Administrator</cp:lastModifiedBy>
  <dcterms:modified xsi:type="dcterms:W3CDTF">2016-10-06T05:15:1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