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91D-4BDC-4475-8D40-FCF37ABC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7BD-DB91-41F8-9E75-5FE3A61F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40D-4222-480A-8A6F-7126C04C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566-F50D-4E57-811D-0F870590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329-96D9-4922-8679-E1AF2AEF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791-FF46-4A9C-A8F4-7D2111CC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515-E1D8-4E88-8D6D-46DEABC3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1C9-DC50-4D8E-8E13-C4B0CED5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5D6-A931-4FF0-966D-8CB5A425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F9A-4B3A-47B0-BA9A-DBF99B62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BEA-ECCA-4201-BC9A-24BE0465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233-806D-49E6-967A-08066F7E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4521-B0FD-4925-93AF-D7B34B18D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130120"/>
            <a:ext cx="770436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2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wo life-saving medici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nguage point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下列划线短语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 tr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ft.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not y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en brought to tr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give you a tr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erk is emplo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 tr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ut on tri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raud.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arnt how to coo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y trial and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148360" y="765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受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9280" y="1773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传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2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试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22764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试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56360" y="3573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人受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763640" y="4653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摸索，前进，进行各种尝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Not 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spirin saved many people’s lives by reducing fever and helping stop pain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s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ings that aspirin can help with.(L20-2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only …but also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在句首不连接主语时应使用不完全倒装句型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 …but also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两个分句时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句倒装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ls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句不倒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即前倒后不倒。即时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11280" y="227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阿司匹林不仅被证明对于退烧和止疼必不可少，而且还有其他用途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7854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______he himself interested in English but all his students are beginning to show an interest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should learn not only from books, but also by experience.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改为倒装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not only liked reading stories but he could even write some.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改为倒装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_____ interested in football but _____ beginning to show an interest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he teacher himself is ; all his studen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he teacher himself is; are all his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is the teacher himself; are all his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is the teacher himself; all his studen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56000" y="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755640" y="184464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 only should students learn from books, but also they should learn by experience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26920" y="335772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 only did he like reading stories, but also he could ever write some 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700360" y="4149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Lawrence Craven , a doctor from the USA, introduced the idea in 195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in had the potential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uc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s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f heart atta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ecause it helped the blood circulate better. (L20-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构分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的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  n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危险，风险；危险的事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遭受危险； 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风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译并归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不同含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ready for any risks.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land you’ve never seen is a risk.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ave man risked his life in trying to save the child.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risk any money in oil stock.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211640" y="1268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位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24000" y="1989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美国医生劳伦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克雷文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3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提出一个观点，即阿司匹林可能有助于降低心脏病发作的风险，因为它能改善血液循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500720" y="3645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风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084720" y="414972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危险的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403280" y="486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冒失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风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148360" y="5229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冒失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风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，写出下列划线词组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park your car here, you do s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your own ri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eases is spreading, and all children under five a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t ri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the risk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lives and liberties.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 ri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ady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n the risk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taken prisoner by the enemy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are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sk 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it’s too dangerous.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340000" y="1268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担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0" y="2205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处于风险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780000" y="364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靠得住的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95640" y="3141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冒失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风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572000" y="465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冒风险做某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27280" y="5589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冒风险试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However, in 1971, Smith and Willis from the U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d 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pirin could have that effect, and in 1977 a 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ried out in the U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 could prevent strokes, as well. ( L24-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句是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的并列句，其中第二个并列分句是一个复合句。动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句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句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d out in the US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过去分词短语，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修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9640" y="2637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但是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7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，英国医生史密斯和威利斯证实阿司匹林的确有此功效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7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，美国的一项研究表明，阿司匹林还能预防中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292720" y="4869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宾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00000" y="58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0" y="58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译并归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Our internal security has so far proved excel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He proved to be a very useful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Perhaps this book will prove of some use to you in your studies.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I will prove to the world that he was r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He has proved himself as a man.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及时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ime went on, Einstain's theory _____ to be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proved   B.proves   C.is proved  D.was 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_____ during the past century that learning is a lifelong task for human be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is proved   B.proves  C.has proved  D.has been 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55640" y="836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ve+ad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55640" y="1628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ve+(to be)+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63640" y="234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ve+of+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3141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ve+to sb sth=prove sth to s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92720" y="350028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ve(sb/sth) as+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940360" y="429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47636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20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形成性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066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---5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A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1341360"/>
            <a:ext cx="85694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持他走下去的是情况会变好这一信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_____ ______ things will get better is ______ keeps him mov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字定期更新很重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important for the figures ________________ regurla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547640" y="256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lief      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9640" y="3068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24000" y="407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06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置性补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ith the help of the new machine, we are able to produce shoes in large q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t is difficult to overcome an a________ to cigarettes, so it’s better to keep away from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lenty of fresh air is b_________ to good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t's important to draw out a child's p________ 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According to facts in my p___________ he can not possibly be guil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084720" y="90792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antitie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012000" y="155736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2565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e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435640" y="4724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ssessio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11280" y="4149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te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155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t is v______ that we should be kept informed of all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To start the campaign, we have to get the a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I made five a____________ for jobs but got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U______ to sleep at night, I got up to make myself a glass of milk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症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don't appear until a few days after you’re inf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763640" y="11592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al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9640" y="1628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32000" y="2205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61928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ptom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042920" y="3357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99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知探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is article wil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 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wo drugs that started revolutions in medicine. If yo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pen 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y medicine cupboard in the world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 is likely t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ou will find aspirin and penicillin. (L1-3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译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个句子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导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句，修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第二个句子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导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5280" y="3068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篇文章将着重讲述两种引发了医学革命的药物。倘若你打开世界上的任何一个药柜，都可能找到阿司匹林和青霉素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16000" y="450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076720" y="450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ug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796000" y="5013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言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ay much attention 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见搭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’s attention/efforts/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/ up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b./sth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’s mind/min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/ up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b./sth 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’s eyes/gaz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s ___their teacher , with their eyes ___on the paper in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following ; focusing         B.followed;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followed ; focusing         D.following ;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生们一直坐在书桌旁目不转睛的看着老师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56000" y="105264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集中（注意力，精力，努力）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9640" y="206064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思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思集中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435640" y="2492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视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219640" y="3500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11280" y="5516640"/>
            <a:ext cx="7705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tudents sat at the desks, with their eyes focused on the teacher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言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u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Open up or we’ll break the door down.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After a few drinks, he began to open up a bit.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He never opens up his shop on Sunday.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pen one’s heart/mind to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open air  _____________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open to  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one’s eyes open _____________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ire on/upon/at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995640" y="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19280" y="981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打开（门，容器等），开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2920" y="1989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畅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2852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营业，开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651640" y="33577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诚相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916360" y="386064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户外，在露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195640" y="4365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放的，易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924360" y="4941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留心，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708360" y="5445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early 3500 years ago, peop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we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ves or drank a kind of te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a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ses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special che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 reduc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body pains and f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L8-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词分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复合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简单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列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谓语动词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eav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ess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al chemic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du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dy pains and fe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时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he entered her bedroom, she found that her diamond necklace was stolen, which was presented by her husb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o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这个复合句使用非谓语动词改写成简单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11280" y="119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将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5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前，人们咀嚼一种含有特殊化学物质的树叶或饮用这种树叶制成的茶，以减轻身体疼痛或退烧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635280" y="234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简单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76364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ewed o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804000" y="2565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19280" y="29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a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492360" y="3213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ve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68360" y="3284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124000" y="3645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目的状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0200" y="55897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ering her bedroom, she found her diamond necklace presented by her husband sto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言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w vt.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He chews gum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嚼口香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He chewed over the problem for several days before making his deci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对这个问题详细考虑了好多天才作出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He was chewing on his meat as he found it hard to swallow.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He took my offer after chewing on it. 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is medic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ok p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1899 when the compan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Hoffmann worked 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gan giving the medici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owder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hysicians to use with patients. (L13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英译汉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924360" y="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咀嚼，咬，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34000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咀嚼，咬，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5640" y="3141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仔细考虑，斟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95280" y="5445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该药进行的首批试验发生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9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。当时，霍夫曼供职的公司开始将这种药以粉末分发给医师，在病人身上使用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言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l: 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所提供的语境翻译并归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不同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ials show that smoking will do harm to people.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blindness is a great trial to him.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on trial for armed robbery.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rites about the trials of life on the American frontier.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24000" y="198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试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55640" y="2924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伤脑筋的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4360" y="4005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审判，审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06728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磨难，艰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1:19:19Z</dcterms:created>
  <dc:creator>Administrator</dc:creator>
  <dc:description/>
  <cp:keywords/>
  <dc:language>en-US</dc:language>
  <cp:lastModifiedBy>Administrator</cp:lastModifiedBy>
  <dcterms:modified xsi:type="dcterms:W3CDTF">2016-10-06T05:16:02Z</dcterms:modified>
  <cp:revision>17</cp:revision>
  <dc:subject/>
  <dc:title>导学案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