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8.jpeg" ContentType="image/jpeg"/>
  <Override PartName="/ppt/media/image16.gif" ContentType="image/gif"/>
  <Override PartName="/ppt/media/image15.png" ContentType="image/png"/>
  <Override PartName="/ppt/media/image17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02E-D884-452D-B277-1CB62857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796-1A77-4E5C-A1C0-433D716D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19E-E75A-41A6-99D8-72E20F15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5A7-EBB6-46B2-9B26-3BA53340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AE0-BCA4-47B3-BBC1-655B9E89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93F-3721-4BBB-9C13-7CE4CF1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BED-68F5-46D9-9D9D-CD98D680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5CC-EF2A-4117-9785-91F7371C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AF7-7483-40EE-A84D-939A6563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03B-6401-4EEC-B3A4-220EC43B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314-923A-4F54-BDD0-55C4607B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659-70FD-4D11-A8F1-42BC3F4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0052-057F-4354-9DDF-92027DF14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1"/>
          <a:stretch/>
        </p:blipFill>
        <p:spPr>
          <a:xfrm>
            <a:off x="1457280" y="457200"/>
            <a:ext cx="6175440" cy="132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koreabear[1]"/>
          <p:cNvPicPr/>
          <p:nvPr/>
        </p:nvPicPr>
        <p:blipFill>
          <a:blip r:embed="rId2"/>
          <a:stretch/>
        </p:blipFill>
        <p:spPr>
          <a:xfrm>
            <a:off x="0" y="1268280"/>
            <a:ext cx="1512720" cy="1392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476360" y="220500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Reading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684360" y="4076640"/>
            <a:ext cx="816264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Two life-saving medicines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476280"/>
            <a:ext cx="8209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What difficulties did Fleming have in developing penicillin as a dru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irst he was unable to find a procedure to make penicillin pure enough to work as a medicine. Second, it was difficult to produce penicillin in the ample quantities needed to be effec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14600" y="685800"/>
            <a:ext cx="2743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0"/>
            <a:ext cx="8915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The development of aspirin and penicill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219640" y="4508640"/>
            <a:ext cx="3024360" cy="10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700360" y="4005360"/>
            <a:ext cx="2087640" cy="18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3886200"/>
            <a:ext cx="2590920" cy="18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0" y="320040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1219320"/>
            <a:ext cx="243828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0" y="12193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old in shops in the form of  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0"/>
          <p:cNvCxnSpPr/>
          <p:nvPr/>
        </p:nvCxnSpPr>
        <p:spPr>
          <a:xfrm flipH="1" flipV="1" rot="5400000">
            <a:off x="151920" y="2666160"/>
            <a:ext cx="762840" cy="305640"/>
          </a:xfrm>
          <a:prstGeom prst="bentConnector3">
            <a:avLst>
              <a:gd name="adj1" fmla="val 5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3" name="AutoShape 11"/>
          <p:cNvCxnSpPr/>
          <p:nvPr/>
        </p:nvCxnSpPr>
        <p:spPr>
          <a:xfrm rot="5400000">
            <a:off x="1491480" y="3555720"/>
            <a:ext cx="839160" cy="153000"/>
          </a:xfrm>
          <a:prstGeom prst="bentConnector3">
            <a:avLst>
              <a:gd name="adj1" fmla="val 5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4" name="Text Box 12"/>
          <p:cNvSpPr/>
          <p:nvPr/>
        </p:nvSpPr>
        <p:spPr>
          <a:xfrm>
            <a:off x="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332000" y="2781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0" y="4038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discovered by Alexander Fle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5"/>
          <p:cNvCxnSpPr/>
          <p:nvPr/>
        </p:nvCxnSpPr>
        <p:spPr>
          <a:xfrm rot="5400000">
            <a:off x="2859840" y="3555720"/>
            <a:ext cx="839160" cy="153000"/>
          </a:xfrm>
          <a:prstGeom prst="bentConnector3">
            <a:avLst>
              <a:gd name="adj1" fmla="val 5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8" name="Text Box 16"/>
          <p:cNvSpPr/>
          <p:nvPr/>
        </p:nvSpPr>
        <p:spPr>
          <a:xfrm>
            <a:off x="2700360" y="27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43280" y="4005360"/>
            <a:ext cx="213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made and tested in large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364000" y="458136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mass production be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19"/>
          <p:cNvCxnSpPr/>
          <p:nvPr/>
        </p:nvCxnSpPr>
        <p:spPr>
          <a:xfrm flipH="1" rot="16200000">
            <a:off x="4875840" y="3200040"/>
            <a:ext cx="1143720" cy="1143720"/>
          </a:xfrm>
          <a:prstGeom prst="bentConnector3">
            <a:avLst>
              <a:gd name="adj1" fmla="val 5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92" name="Text Box 20"/>
          <p:cNvSpPr/>
          <p:nvPr/>
        </p:nvSpPr>
        <p:spPr>
          <a:xfrm>
            <a:off x="4140360" y="27813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5508720" y="3141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6804000" y="3141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7885080" y="3141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2666880" y="8380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Proved to reduce the risk of heart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5"/>
          <p:cNvCxnSpPr/>
          <p:nvPr/>
        </p:nvCxnSpPr>
        <p:spPr>
          <a:xfrm flipV="1" rot="16200000">
            <a:off x="4510440" y="1832400"/>
            <a:ext cx="1116720" cy="2004120"/>
          </a:xfrm>
          <a:prstGeom prst="bentConnector3">
            <a:avLst>
              <a:gd name="adj1" fmla="val 49919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98" name="Text Box 26"/>
          <p:cNvSpPr/>
          <p:nvPr/>
        </p:nvSpPr>
        <p:spPr>
          <a:xfrm>
            <a:off x="5791320" y="685800"/>
            <a:ext cx="3352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Used to re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blood suga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7"/>
          <p:cNvCxnSpPr/>
          <p:nvPr/>
        </p:nvCxnSpPr>
        <p:spPr>
          <a:xfrm flipH="1" flipV="1" rot="5400000">
            <a:off x="7712640" y="2519640"/>
            <a:ext cx="2097360" cy="172080"/>
          </a:xfrm>
          <a:prstGeom prst="bentConnector4">
            <a:avLst>
              <a:gd name="adj1" fmla="val 37098"/>
              <a:gd name="adj2" fmla="val 232285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0" name="Rectangle 28"/>
          <p:cNvSpPr/>
          <p:nvPr/>
        </p:nvSpPr>
        <p:spPr>
          <a:xfrm>
            <a:off x="5508720" y="765000"/>
            <a:ext cx="34560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4606920" y="2276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Used to prevent stro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30"/>
          <p:cNvCxnSpPr/>
          <p:nvPr/>
        </p:nvCxnSpPr>
        <p:spPr>
          <a:xfrm flipH="1" rot="10800000">
            <a:off x="6876000" y="2708280"/>
            <a:ext cx="91080" cy="621000"/>
          </a:xfrm>
          <a:prstGeom prst="bentConnector4">
            <a:avLst>
              <a:gd name="adj1" fmla="val -252380"/>
              <a:gd name="adj2" fmla="val 71113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3" name="Rectangle 31"/>
          <p:cNvSpPr/>
          <p:nvPr/>
        </p:nvSpPr>
        <p:spPr>
          <a:xfrm>
            <a:off x="4643280" y="2205000"/>
            <a:ext cx="42498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181440" y="54936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396720" y="589428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524196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Effects of aspir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43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Reduce f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Help stop body pa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Reduce the risk of heart attac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Prevent a strok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Reduce the risk of some canc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Increase the length of people’s l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Help with diabe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724280"/>
            <a:ext cx="5486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Effects of penicil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5445000"/>
            <a:ext cx="91440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Help in treating wounds and infe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</a:rPr>
              <a:t>Treat other illnesses including pneumon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250920" y="260280"/>
            <a:ext cx="3025800" cy="7207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8384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189080" y="2811600"/>
            <a:ext cx="2158920" cy="688680"/>
          </a:xfrm>
          <a:prstGeom prst="rect">
            <a:avLst/>
          </a:prstGeom>
          <a:solidFill>
            <a:srgbClr val="eaeaea"/>
          </a:solidFill>
          <a:ln w="9360">
            <a:solidFill>
              <a:srgbClr val="087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 flipH="1">
            <a:off x="5571360" y="2809800"/>
            <a:ext cx="2529000" cy="690480"/>
          </a:xfrm>
          <a:prstGeom prst="rect">
            <a:avLst/>
          </a:prstGeom>
          <a:solidFill>
            <a:srgbClr val="eaeaea"/>
          </a:solidFill>
          <a:ln w="9360">
            <a:solidFill>
              <a:srgbClr val="087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enicil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28600" y="4221000"/>
            <a:ext cx="2039760" cy="2376720"/>
          </a:xfrm>
          <a:prstGeom prst="rect">
            <a:avLst/>
          </a:prstGeom>
          <a:solidFill>
            <a:srgbClr val="e1f4ff"/>
          </a:solidFill>
          <a:ln w="9360">
            <a:solidFill>
              <a:srgbClr val="087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340000" y="4221000"/>
            <a:ext cx="1728720" cy="2376720"/>
          </a:xfrm>
          <a:prstGeom prst="rect">
            <a:avLst/>
          </a:prstGeom>
          <a:solidFill>
            <a:srgbClr val="ffe7ff"/>
          </a:solidFill>
          <a:ln w="9360">
            <a:solidFill>
              <a:srgbClr val="087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572000" y="4221000"/>
            <a:ext cx="2232000" cy="2376720"/>
          </a:xfrm>
          <a:prstGeom prst="rect">
            <a:avLst/>
          </a:prstGeom>
          <a:solidFill>
            <a:srgbClr val="e1f4ff"/>
          </a:solidFill>
          <a:ln w="9360">
            <a:solidFill>
              <a:srgbClr val="087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enicil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58000" y="4221000"/>
            <a:ext cx="2133720" cy="2376720"/>
          </a:xfrm>
          <a:prstGeom prst="rect">
            <a:avLst/>
          </a:prstGeom>
          <a:solidFill>
            <a:srgbClr val="ffe7ff"/>
          </a:solidFill>
          <a:ln w="9360">
            <a:solidFill>
              <a:srgbClr val="087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enicil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50920" y="1484280"/>
            <a:ext cx="6842160" cy="647640"/>
          </a:xfrm>
          <a:prstGeom prst="rect">
            <a:avLst/>
          </a:prstGeom>
          <a:solidFill>
            <a:srgbClr val="087c9b"/>
          </a:solidFill>
          <a:ln w="9360">
            <a:solidFill>
              <a:srgbClr val="087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Two life-saving 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268360" y="2492280"/>
            <a:ext cx="46087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1187280" y="3860640"/>
            <a:ext cx="19447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5580000" y="3860640"/>
            <a:ext cx="21607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2268360" y="2492280"/>
            <a:ext cx="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877080" y="2494080"/>
            <a:ext cx="0" cy="3585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2268360" y="3500280"/>
            <a:ext cx="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877080" y="3500280"/>
            <a:ext cx="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1187280" y="3860640"/>
            <a:ext cx="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3132000" y="3860640"/>
            <a:ext cx="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5580000" y="3860640"/>
            <a:ext cx="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7740720" y="3860640"/>
            <a:ext cx="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13"/>
          <p:cNvPicPr/>
          <p:nvPr/>
        </p:nvPicPr>
        <p:blipFill>
          <a:blip r:embed="rId1"/>
          <a:stretch/>
        </p:blipFill>
        <p:spPr>
          <a:xfrm>
            <a:off x="0" y="0"/>
            <a:ext cx="10096560" cy="7572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00040" y="571680"/>
            <a:ext cx="864396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008000"/>
                </a:solidFill>
                <a:latin typeface="Times New Roman"/>
              </a:rPr>
              <a:t>Detail reading:</a:t>
            </a:r>
            <a:r>
              <a:rPr b="1" lang="zh-CN" sz="8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T/F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book9"/>
          <p:cNvPicPr/>
          <p:nvPr/>
        </p:nvPicPr>
        <p:blipFill>
          <a:blip r:embed="rId2"/>
          <a:stretch/>
        </p:blipFill>
        <p:spPr>
          <a:xfrm>
            <a:off x="6850080" y="4500720"/>
            <a:ext cx="229392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Penicillin,this pain-killing medicine is considered by many to be one of the most important medicines in contemporary socie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Alexander Fleming managed to make the medical pure to be a medicin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Due to the widespread use of    penicillin , many lives were saved during World War Tw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.Penicillin is also used to treat other illnesses including reduce the risk of heart attac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83664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276720" y="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acteria-k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500720" y="21337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as unabl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800" y="270828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250920" y="0"/>
            <a:ext cx="2808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rue or false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0" y="39337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800" y="566100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96720" y="494172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spi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13"/>
          <p:cNvPicPr/>
          <p:nvPr/>
        </p:nvPicPr>
        <p:blipFill>
          <a:blip r:embed="rId1"/>
          <a:stretch/>
        </p:blipFill>
        <p:spPr>
          <a:xfrm>
            <a:off x="0" y="0"/>
            <a:ext cx="10096560" cy="7572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24000" y="1484280"/>
            <a:ext cx="975996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Reading comprehension:</a:t>
            </a:r>
            <a:r>
              <a:rPr b="1" lang="zh-CN" sz="8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Choose the best answ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book9"/>
          <p:cNvPicPr/>
          <p:nvPr/>
        </p:nvPicPr>
        <p:blipFill>
          <a:blip r:embed="rId2"/>
          <a:stretch/>
        </p:blipFill>
        <p:spPr>
          <a:xfrm>
            <a:off x="6850080" y="4500720"/>
            <a:ext cx="229392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79280" y="115560"/>
            <a:ext cx="8858160" cy="6626520"/>
            <a:chOff x="179280" y="115560"/>
            <a:chExt cx="8858160" cy="6626520"/>
          </a:xfrm>
        </p:grpSpPr>
        <p:grpSp>
          <p:nvGrpSpPr>
            <p:cNvPr id="148" name="Group 3"/>
            <p:cNvGrpSpPr/>
            <p:nvPr/>
          </p:nvGrpSpPr>
          <p:grpSpPr>
            <a:xfrm>
              <a:off x="179280" y="115560"/>
              <a:ext cx="8856720" cy="6626520"/>
              <a:chOff x="179280" y="115560"/>
              <a:chExt cx="8856720" cy="6626520"/>
            </a:xfrm>
          </p:grpSpPr>
          <p:sp>
            <p:nvSpPr>
              <p:cNvPr id="149" name="Line 4"/>
              <p:cNvSpPr/>
              <p:nvPr/>
            </p:nvSpPr>
            <p:spPr>
              <a:xfrm>
                <a:off x="179280" y="115920"/>
                <a:ext cx="0" cy="1584360"/>
              </a:xfrm>
              <a:prstGeom prst="line">
                <a:avLst/>
              </a:prstGeom>
              <a:ln w="414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"/>
              <p:cNvSpPr/>
              <p:nvPr/>
            </p:nvSpPr>
            <p:spPr>
              <a:xfrm>
                <a:off x="179280" y="260280"/>
                <a:ext cx="1008000" cy="0"/>
              </a:xfrm>
              <a:prstGeom prst="line">
                <a:avLst/>
              </a:prstGeom>
              <a:ln w="158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 flipV="1">
                <a:off x="179280" y="114840"/>
                <a:ext cx="1800360" cy="7308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1361" h="400">
                    <a:moveTo>
                      <a:pt x="0" y="226"/>
                    </a:moveTo>
                    <a:cubicBezTo>
                      <a:pt x="363" y="313"/>
                      <a:pt x="726" y="400"/>
                      <a:pt x="953" y="362"/>
                    </a:cubicBezTo>
                    <a:cubicBezTo>
                      <a:pt x="1180" y="324"/>
                      <a:pt x="1270" y="162"/>
                      <a:pt x="1361" y="0"/>
                    </a:cubicBezTo>
                  </a:path>
                </a:pathLst>
              </a:custGeom>
              <a:noFill/>
              <a:ln w="255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7"/>
              <p:cNvSpPr/>
              <p:nvPr/>
            </p:nvSpPr>
            <p:spPr>
              <a:xfrm>
                <a:off x="9036000" y="5445000"/>
                <a:ext cx="0" cy="1297080"/>
              </a:xfrm>
              <a:prstGeom prst="line">
                <a:avLst/>
              </a:prstGeom>
              <a:ln w="414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8" descr="未命名"/>
              <p:cNvPicPr/>
              <p:nvPr/>
            </p:nvPicPr>
            <p:blipFill>
              <a:blip r:embed="rId1"/>
              <a:stretch/>
            </p:blipFill>
            <p:spPr>
              <a:xfrm>
                <a:off x="234720" y="306360"/>
                <a:ext cx="304920" cy="31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Line 9"/>
            <p:cNvSpPr/>
            <p:nvPr/>
          </p:nvSpPr>
          <p:spPr>
            <a:xfrm>
              <a:off x="250560" y="6742080"/>
              <a:ext cx="8785440" cy="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{S2V7L`WPJMH$VH43~5$ZHB"/>
            <p:cNvPicPr/>
            <p:nvPr/>
          </p:nvPicPr>
          <p:blipFill>
            <a:blip r:embed="rId2"/>
            <a:stretch/>
          </p:blipFill>
          <p:spPr>
            <a:xfrm>
              <a:off x="8748720" y="6453360"/>
              <a:ext cx="288720" cy="2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Rectangle 11"/>
          <p:cNvSpPr/>
          <p:nvPr/>
        </p:nvSpPr>
        <p:spPr>
          <a:xfrm>
            <a:off x="0" y="-82008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1. We learn from passage that the trial use of aspirin in powder form may date back to__.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Garamond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A.2500 years ago    B.3500 years ag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C.1897                     D.18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2. Aspirin has been sold in the form of tablets for ___.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Garamond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A. nearly 3500 years        B. nearly 60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C. at least 110 years         D.40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3. Aspirin can be used to reduce body pains and fever. Besides that, it may have at least ___other potentials according to the pass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A. three      B.  four     C. five     D. s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[LC3U)F{0XCAB)LKNIT0K@G"/>
          <p:cNvPicPr/>
          <p:nvPr/>
        </p:nvPicPr>
        <p:blipFill>
          <a:blip r:embed="rId3"/>
          <a:stretch/>
        </p:blipFill>
        <p:spPr>
          <a:xfrm>
            <a:off x="3851280" y="1773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[LC3U)F{0XCAB)LKNIT0K@G"/>
          <p:cNvPicPr/>
          <p:nvPr/>
        </p:nvPicPr>
        <p:blipFill>
          <a:blip r:embed="rId4"/>
          <a:stretch/>
        </p:blipFill>
        <p:spPr>
          <a:xfrm>
            <a:off x="0" y="3933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[LC3U)F{0XCAB)LKNIT0K@G"/>
          <p:cNvPicPr/>
          <p:nvPr/>
        </p:nvPicPr>
        <p:blipFill>
          <a:blip r:embed="rId5"/>
          <a:stretch/>
        </p:blipFill>
        <p:spPr>
          <a:xfrm>
            <a:off x="2195640" y="609300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539640" y="981000"/>
            <a:ext cx="78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1.reduce the risk of heart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8360" y="242100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2. prevent a stro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68360" y="350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3. reduce the risk of some can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8360" y="4437000"/>
            <a:ext cx="73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4. reduce blood sugar levels and help people with diabe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179280" y="115560"/>
            <a:ext cx="8858160" cy="6626520"/>
            <a:chOff x="179280" y="115560"/>
            <a:chExt cx="8858160" cy="6626520"/>
          </a:xfrm>
        </p:grpSpPr>
        <p:grpSp>
          <p:nvGrpSpPr>
            <p:cNvPr id="165" name="Group 7"/>
            <p:cNvGrpSpPr/>
            <p:nvPr/>
          </p:nvGrpSpPr>
          <p:grpSpPr>
            <a:xfrm>
              <a:off x="179280" y="115560"/>
              <a:ext cx="8856720" cy="6626520"/>
              <a:chOff x="179280" y="115560"/>
              <a:chExt cx="8856720" cy="6626520"/>
            </a:xfrm>
          </p:grpSpPr>
          <p:sp>
            <p:nvSpPr>
              <p:cNvPr id="166" name="Line 8"/>
              <p:cNvSpPr/>
              <p:nvPr/>
            </p:nvSpPr>
            <p:spPr>
              <a:xfrm>
                <a:off x="179280" y="115920"/>
                <a:ext cx="0" cy="1584360"/>
              </a:xfrm>
              <a:prstGeom prst="line">
                <a:avLst/>
              </a:prstGeom>
              <a:ln w="414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9"/>
              <p:cNvSpPr/>
              <p:nvPr/>
            </p:nvSpPr>
            <p:spPr>
              <a:xfrm>
                <a:off x="179280" y="260280"/>
                <a:ext cx="1008000" cy="0"/>
              </a:xfrm>
              <a:prstGeom prst="line">
                <a:avLst/>
              </a:prstGeom>
              <a:ln w="158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 flipV="1">
                <a:off x="179280" y="114840"/>
                <a:ext cx="1800360" cy="7308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1361" h="400">
                    <a:moveTo>
                      <a:pt x="0" y="226"/>
                    </a:moveTo>
                    <a:cubicBezTo>
                      <a:pt x="363" y="313"/>
                      <a:pt x="726" y="400"/>
                      <a:pt x="953" y="362"/>
                    </a:cubicBezTo>
                    <a:cubicBezTo>
                      <a:pt x="1180" y="324"/>
                      <a:pt x="1270" y="162"/>
                      <a:pt x="1361" y="0"/>
                    </a:cubicBezTo>
                  </a:path>
                </a:pathLst>
              </a:custGeom>
              <a:noFill/>
              <a:ln w="255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9036000" y="5445000"/>
                <a:ext cx="0" cy="1297080"/>
              </a:xfrm>
              <a:prstGeom prst="line">
                <a:avLst/>
              </a:prstGeom>
              <a:ln w="414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Picture 12" descr="未命名"/>
              <p:cNvPicPr/>
              <p:nvPr/>
            </p:nvPicPr>
            <p:blipFill>
              <a:blip r:embed="rId1"/>
              <a:stretch/>
            </p:blipFill>
            <p:spPr>
              <a:xfrm>
                <a:off x="234720" y="306360"/>
                <a:ext cx="304920" cy="31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" name="Line 13"/>
            <p:cNvSpPr/>
            <p:nvPr/>
          </p:nvSpPr>
          <p:spPr>
            <a:xfrm>
              <a:off x="250560" y="6742080"/>
              <a:ext cx="8785440" cy="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14" descr="{S2V7L`WPJMH$VH43~5$ZHB"/>
            <p:cNvPicPr/>
            <p:nvPr/>
          </p:nvPicPr>
          <p:blipFill>
            <a:blip r:embed="rId2"/>
            <a:stretch/>
          </p:blipFill>
          <p:spPr>
            <a:xfrm>
              <a:off x="8748720" y="6453360"/>
              <a:ext cx="28872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179280" y="115560"/>
            <a:ext cx="8858160" cy="6626520"/>
            <a:chOff x="179280" y="115560"/>
            <a:chExt cx="8858160" cy="6626520"/>
          </a:xfrm>
        </p:grpSpPr>
        <p:grpSp>
          <p:nvGrpSpPr>
            <p:cNvPr id="174" name="Group 3"/>
            <p:cNvGrpSpPr/>
            <p:nvPr/>
          </p:nvGrpSpPr>
          <p:grpSpPr>
            <a:xfrm>
              <a:off x="179280" y="115560"/>
              <a:ext cx="8856720" cy="6626520"/>
              <a:chOff x="179280" y="115560"/>
              <a:chExt cx="8856720" cy="6626520"/>
            </a:xfrm>
          </p:grpSpPr>
          <p:sp>
            <p:nvSpPr>
              <p:cNvPr id="175" name="Line 4"/>
              <p:cNvSpPr/>
              <p:nvPr/>
            </p:nvSpPr>
            <p:spPr>
              <a:xfrm>
                <a:off x="179280" y="115920"/>
                <a:ext cx="0" cy="1584360"/>
              </a:xfrm>
              <a:prstGeom prst="line">
                <a:avLst/>
              </a:prstGeom>
              <a:ln w="414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"/>
              <p:cNvSpPr/>
              <p:nvPr/>
            </p:nvSpPr>
            <p:spPr>
              <a:xfrm>
                <a:off x="179280" y="260280"/>
                <a:ext cx="1008000" cy="0"/>
              </a:xfrm>
              <a:prstGeom prst="line">
                <a:avLst/>
              </a:prstGeom>
              <a:ln w="158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 flipV="1">
                <a:off x="179280" y="114840"/>
                <a:ext cx="1800360" cy="7308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1361" h="400">
                    <a:moveTo>
                      <a:pt x="0" y="226"/>
                    </a:moveTo>
                    <a:cubicBezTo>
                      <a:pt x="363" y="313"/>
                      <a:pt x="726" y="400"/>
                      <a:pt x="953" y="362"/>
                    </a:cubicBezTo>
                    <a:cubicBezTo>
                      <a:pt x="1180" y="324"/>
                      <a:pt x="1270" y="162"/>
                      <a:pt x="1361" y="0"/>
                    </a:cubicBezTo>
                  </a:path>
                </a:pathLst>
              </a:custGeom>
              <a:noFill/>
              <a:ln w="255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7"/>
              <p:cNvSpPr/>
              <p:nvPr/>
            </p:nvSpPr>
            <p:spPr>
              <a:xfrm>
                <a:off x="9036000" y="5445000"/>
                <a:ext cx="0" cy="1297080"/>
              </a:xfrm>
              <a:prstGeom prst="line">
                <a:avLst/>
              </a:prstGeom>
              <a:ln w="414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Picture 8" descr="未命名"/>
              <p:cNvPicPr/>
              <p:nvPr/>
            </p:nvPicPr>
            <p:blipFill>
              <a:blip r:embed="rId1"/>
              <a:stretch/>
            </p:blipFill>
            <p:spPr>
              <a:xfrm>
                <a:off x="234720" y="306360"/>
                <a:ext cx="304920" cy="31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Line 9"/>
            <p:cNvSpPr/>
            <p:nvPr/>
          </p:nvSpPr>
          <p:spPr>
            <a:xfrm>
              <a:off x="250560" y="6742080"/>
              <a:ext cx="8785440" cy="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0" descr="{S2V7L`WPJMH$VH43~5$ZHB"/>
            <p:cNvPicPr/>
            <p:nvPr/>
          </p:nvPicPr>
          <p:blipFill>
            <a:blip r:embed="rId2"/>
            <a:stretch/>
          </p:blipFill>
          <p:spPr>
            <a:xfrm>
              <a:off x="8748720" y="6453360"/>
              <a:ext cx="288720" cy="27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1" descr="[LC3U)F{0XCAB)LKNIT0K@G"/>
          <p:cNvPicPr/>
          <p:nvPr/>
        </p:nvPicPr>
        <p:blipFill>
          <a:blip r:embed="rId3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2"/>
          <p:cNvSpPr/>
          <p:nvPr/>
        </p:nvSpPr>
        <p:spPr>
          <a:xfrm>
            <a:off x="250920" y="-474120"/>
            <a:ext cx="88930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4. Penicillin was discovered in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Garamond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 and saved many lives in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A. 1914;  World Ⅰ         B.1928; World War 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C. 1929; Vietnam War  D.1945;  World War 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5.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 contributed to the mass production of penicill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A. Alexander Fleming and Howard Flo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B. Ernst Chain and Yuan Minshe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C. Alexander Fleming and Lawrence Cr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D. Howard Florey and Ernst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[LC3U)F{0XCAB)LKNIT0K@G"/>
          <p:cNvPicPr/>
          <p:nvPr/>
        </p:nvPicPr>
        <p:blipFill>
          <a:blip r:embed="rId4"/>
          <a:stretch/>
        </p:blipFill>
        <p:spPr>
          <a:xfrm>
            <a:off x="395280" y="566100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[LC3U)F{0XCAB)LKNIT0K@G"/>
          <p:cNvPicPr/>
          <p:nvPr/>
        </p:nvPicPr>
        <p:blipFill>
          <a:blip r:embed="rId5"/>
          <a:stretch/>
        </p:blipFill>
        <p:spPr>
          <a:xfrm>
            <a:off x="4859280" y="184464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76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31b3"/>
                </a:solidFill>
                <a:latin typeface="Comic Sans MS"/>
              </a:rPr>
              <a:t>When people fall ill, what will they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338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b050"/>
                </a:solidFill>
                <a:latin typeface="Arial"/>
              </a:rPr>
              <a:t>Lead-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0509284"/>
          <p:cNvPicPr/>
          <p:nvPr/>
        </p:nvPicPr>
        <p:blipFill>
          <a:blip r:embed="rId1"/>
          <a:stretch/>
        </p:blipFill>
        <p:spPr>
          <a:xfrm>
            <a:off x="539640" y="1916280"/>
            <a:ext cx="324180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09a65c4fd16cfbee0784525c5f6c2e5d"/>
          <p:cNvPicPr/>
          <p:nvPr/>
        </p:nvPicPr>
        <p:blipFill>
          <a:blip r:embed="rId2"/>
          <a:stretch/>
        </p:blipFill>
        <p:spPr>
          <a:xfrm>
            <a:off x="4788000" y="1844640"/>
            <a:ext cx="4356000" cy="302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24000" y="53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ake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716360" y="537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have an inj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179280" y="115560"/>
            <a:ext cx="8858160" cy="6626520"/>
            <a:chOff x="179280" y="115560"/>
            <a:chExt cx="8858160" cy="6626520"/>
          </a:xfrm>
        </p:grpSpPr>
        <p:grpSp>
          <p:nvGrpSpPr>
            <p:cNvPr id="187" name="Group 3"/>
            <p:cNvGrpSpPr/>
            <p:nvPr/>
          </p:nvGrpSpPr>
          <p:grpSpPr>
            <a:xfrm>
              <a:off x="179280" y="115560"/>
              <a:ext cx="8856720" cy="6626520"/>
              <a:chOff x="179280" y="115560"/>
              <a:chExt cx="8856720" cy="6626520"/>
            </a:xfrm>
          </p:grpSpPr>
          <p:sp>
            <p:nvSpPr>
              <p:cNvPr id="188" name="Line 4"/>
              <p:cNvSpPr/>
              <p:nvPr/>
            </p:nvSpPr>
            <p:spPr>
              <a:xfrm>
                <a:off x="179280" y="115920"/>
                <a:ext cx="0" cy="1584360"/>
              </a:xfrm>
              <a:prstGeom prst="line">
                <a:avLst/>
              </a:prstGeom>
              <a:ln w="414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5"/>
              <p:cNvSpPr/>
              <p:nvPr/>
            </p:nvSpPr>
            <p:spPr>
              <a:xfrm>
                <a:off x="179280" y="260280"/>
                <a:ext cx="1008000" cy="0"/>
              </a:xfrm>
              <a:prstGeom prst="line">
                <a:avLst/>
              </a:prstGeom>
              <a:ln w="158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"/>
              <p:cNvSpPr/>
              <p:nvPr/>
            </p:nvSpPr>
            <p:spPr>
              <a:xfrm flipV="1">
                <a:off x="179280" y="114840"/>
                <a:ext cx="1800360" cy="7308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1361" h="400">
                    <a:moveTo>
                      <a:pt x="0" y="226"/>
                    </a:moveTo>
                    <a:cubicBezTo>
                      <a:pt x="363" y="313"/>
                      <a:pt x="726" y="400"/>
                      <a:pt x="953" y="362"/>
                    </a:cubicBezTo>
                    <a:cubicBezTo>
                      <a:pt x="1180" y="324"/>
                      <a:pt x="1270" y="162"/>
                      <a:pt x="1361" y="0"/>
                    </a:cubicBezTo>
                  </a:path>
                </a:pathLst>
              </a:custGeom>
              <a:noFill/>
              <a:ln w="255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9036000" y="5445000"/>
                <a:ext cx="0" cy="1297080"/>
              </a:xfrm>
              <a:prstGeom prst="line">
                <a:avLst/>
              </a:prstGeom>
              <a:ln w="414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8" descr="未命名"/>
              <p:cNvPicPr/>
              <p:nvPr/>
            </p:nvPicPr>
            <p:blipFill>
              <a:blip r:embed="rId1"/>
              <a:stretch/>
            </p:blipFill>
            <p:spPr>
              <a:xfrm>
                <a:off x="234720" y="306360"/>
                <a:ext cx="304920" cy="31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Line 9"/>
            <p:cNvSpPr/>
            <p:nvPr/>
          </p:nvSpPr>
          <p:spPr>
            <a:xfrm>
              <a:off x="250560" y="6742080"/>
              <a:ext cx="8785440" cy="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0" descr="{S2V7L`WPJMH$VH43~5$ZHB"/>
            <p:cNvPicPr/>
            <p:nvPr/>
          </p:nvPicPr>
          <p:blipFill>
            <a:blip r:embed="rId2"/>
            <a:stretch/>
          </p:blipFill>
          <p:spPr>
            <a:xfrm>
              <a:off x="8748720" y="6453360"/>
              <a:ext cx="288720" cy="27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11" descr="[LC3U)F{0XCAB)LKNIT0K@G"/>
          <p:cNvPicPr/>
          <p:nvPr/>
        </p:nvPicPr>
        <p:blipFill>
          <a:blip r:embed="rId3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2"/>
          <p:cNvSpPr/>
          <p:nvPr/>
        </p:nvSpPr>
        <p:spPr>
          <a:xfrm>
            <a:off x="430200" y="-487080"/>
            <a:ext cx="8713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Why did Fleming share the Nobel Prize with other two scientists in 194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A. Because they all discovered the drug penicillin almost at the sam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B. Because the other two scientists helped Fleming discover penicill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C. Because the other two scientists succeeded in purifying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（提纯）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penicillin and producing it in the ample quant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D. Because mass production of penicillin didn’t begin until 194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3" descr="[LC3U)F{0XCAB)LKNIT0K@G"/>
          <p:cNvPicPr/>
          <p:nvPr/>
        </p:nvPicPr>
        <p:blipFill>
          <a:blip r:embed="rId4"/>
          <a:stretch/>
        </p:blipFill>
        <p:spPr>
          <a:xfrm>
            <a:off x="395280" y="37893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This passage may be from a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newspaper                 B. science magazi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science book             D.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ich is the right development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enicillin was discove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spirin was used to prevent st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 production of penicillin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spirin was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d b c  B. a c b d  C. d a c b  D. d a b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“It” here in the sentence “---there was blue      mould in it.” (Line 37) refers to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enicillin  B. experiment  C. dish  D.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997080" y="4076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219640" y="57340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358160" y="47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 Which one is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Chain named the liquid made from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uld ” penicilli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Aspirin treats illnesses caus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In 1940 aspirin was made and tested in large qua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Penicillin saved millions of people and was the greatest medicine in the 2oth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 The article is mainly about the ___of   penicillin and aspi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effects    B.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uses       D. i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81440" y="3284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486520" y="544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8569080" cy="707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The author holds a/an attitude towards the use of 2 drugs is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conce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uppor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persua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70520" y="25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113"/>
          <p:cNvPicPr/>
          <p:nvPr/>
        </p:nvPicPr>
        <p:blipFill>
          <a:blip r:embed="rId1"/>
          <a:stretch/>
        </p:blipFill>
        <p:spPr>
          <a:xfrm>
            <a:off x="0" y="0"/>
            <a:ext cx="10096560" cy="75722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95280" y="836640"/>
            <a:ext cx="1018872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008000"/>
                </a:solidFill>
                <a:latin typeface="Times New Roman"/>
              </a:rPr>
              <a:t>Task reading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Listen to the tape and fill  one word in each blanket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ook9"/>
          <p:cNvPicPr/>
          <p:nvPr/>
        </p:nvPicPr>
        <p:blipFill>
          <a:blip r:embed="rId2"/>
          <a:stretch/>
        </p:blipFill>
        <p:spPr>
          <a:xfrm>
            <a:off x="6850080" y="4500720"/>
            <a:ext cx="229392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115920"/>
          <a:ext cx="8964720" cy="6602400"/>
        </p:xfrm>
        <a:graphic>
          <a:graphicData uri="http://schemas.openxmlformats.org/drawingml/2006/table">
            <a:tbl>
              <a:tblPr/>
              <a:tblGrid>
                <a:gridCol w="2124000"/>
                <a:gridCol w="3527640"/>
                <a:gridCol w="331308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s of  (1)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ir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icil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 put it into (2)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ompany Hoffmann worked 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ard Florey and Ernst Ch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s (3)_____  in the medi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icylic acid and some other (4)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ld growing on a special transparent je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Reducing fever and stopping (5)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Reducing the risk of heart attack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(6)_____________        a stro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Reducing blood sugar(7)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Treating wounds and illnesses caused by (8)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Treating illnesses like pneum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ors given to the medicines or the scien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ared in the Guinness Book of Records as the best-selling (9)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Considered to be one of the most important medicines in  (10)___________socie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Nobel Prize in Physiology or Medi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 Box 28"/>
          <p:cNvSpPr/>
          <p:nvPr/>
        </p:nvSpPr>
        <p:spPr>
          <a:xfrm>
            <a:off x="808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324720" y="33336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edicine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75744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1044000" y="9079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178920" y="162864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ontain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3349080" y="162864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emic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4"/>
          <p:cNvSpPr/>
          <p:nvPr/>
        </p:nvSpPr>
        <p:spPr>
          <a:xfrm>
            <a:off x="3925080" y="26370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2916360" y="3500280"/>
            <a:ext cx="19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t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3494160" y="436572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7"/>
          <p:cNvSpPr/>
          <p:nvPr/>
        </p:nvSpPr>
        <p:spPr>
          <a:xfrm>
            <a:off x="6661800" y="28526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8"/>
          <p:cNvSpPr/>
          <p:nvPr/>
        </p:nvSpPr>
        <p:spPr>
          <a:xfrm>
            <a:off x="5940360" y="5661000"/>
            <a:ext cx="25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ontempo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reading.mp3" descr=""/>
          <p:cNvPicPr/>
          <p:nvPr/>
        </p:nvPicPr>
        <p:blipFill>
          <a:blip r:embed="rId1"/>
          <a:stretch/>
        </p:blipFill>
        <p:spPr>
          <a:xfrm>
            <a:off x="478800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0"/>
          <p:cNvSpPr/>
          <p:nvPr/>
        </p:nvSpPr>
        <p:spPr>
          <a:xfrm>
            <a:off x="2843280" y="5877000"/>
            <a:ext cx="25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aink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313966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826920" y="1341360"/>
            <a:ext cx="7632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swers of activity 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___________       2. ____________       3. ___________       4.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___________       6.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476720" y="21337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151240" y="213372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eff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49080" y="28526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un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5149800" y="28526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ab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405440" y="357336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149440" y="357336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sick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Do you believe that ‘wonder drugs’ will be invented to treat dis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like AIDS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3448080" y="990720"/>
            <a:ext cx="22478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scussion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4" name="Picture 4" descr="1850_medicine_pill_capsule_mascot_cartoon_character_looking_through_a_magnifying_glass"/>
          <p:cNvPicPr/>
          <p:nvPr/>
        </p:nvPicPr>
        <p:blipFill>
          <a:blip r:embed="rId1"/>
          <a:stretch/>
        </p:blipFill>
        <p:spPr>
          <a:xfrm>
            <a:off x="4010040" y="4191120"/>
            <a:ext cx="11239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ords coming from the same stem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ords that are compound wor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ords with irregular plural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83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How can we understand medical te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762120" y="260280"/>
            <a:ext cx="352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Reading strategy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042920" y="213372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edicine, medical, medicin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ure, pu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039320" y="3471840"/>
            <a:ext cx="57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ainkiller        blood-th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116000" y="4984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acteria    bacte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187280" y="1413000"/>
            <a:ext cx="6769440" cy="27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Language points</a:t>
            </a:r>
            <a:endParaRPr b="1" i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5877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93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penicil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09010611220152"/>
          <p:cNvPicPr/>
          <p:nvPr/>
        </p:nvPicPr>
        <p:blipFill>
          <a:blip r:embed="rId1"/>
          <a:stretch/>
        </p:blipFill>
        <p:spPr>
          <a:xfrm>
            <a:off x="3995640" y="1484280"/>
            <a:ext cx="4751640" cy="388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ww"/>
          <p:cNvPicPr/>
          <p:nvPr/>
        </p:nvPicPr>
        <p:blipFill>
          <a:blip r:embed="rId2"/>
          <a:srcRect l="0" t="0" r="15099" b="0"/>
          <a:stretch/>
        </p:blipFill>
        <p:spPr>
          <a:xfrm>
            <a:off x="0" y="1197000"/>
            <a:ext cx="3778200" cy="475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79280" y="47628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What’s this medicine called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5283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集中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上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打开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很有可能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由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的广泛使用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证明对……有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6.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咀嚼…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7. the first trial of this medicin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8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粉末形式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148360" y="765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148360" y="1268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pe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932360" y="1844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t is likel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68360" y="2997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due to the widespread u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148360" y="41497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hew on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003640" y="508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种药的首次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5074200" y="5949000"/>
            <a:ext cx="33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powd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5038560" y="3645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rove benefici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5867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9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片剂形式被出售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0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最畅销的止痛药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1.reduce the risk of some cancers by 40 perc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2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延长人类寿命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3.increase the standard of people’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500720" y="18900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sold in the form of tab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24000" y="1484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 best-selling medicine in the word for pain r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4284720" y="53006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提高人们的健康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191120" y="407664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crease the length of people’s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50920" y="371628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降低某些癌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发病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5638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4.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批量生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5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在当代社会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6.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在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上试用某物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7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使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变纯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8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成功地做成某事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19.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大量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L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419640" y="54936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n contemporary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105520" y="1111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try sth. out on…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267080" y="1600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make …… p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4876920" y="2178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manage to do sth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95640" y="28526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n large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3419640" y="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mass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447920"/>
            <a:ext cx="105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Two life-saving medici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mages[2]"/>
          <p:cNvPicPr/>
          <p:nvPr/>
        </p:nvPicPr>
        <p:blipFill>
          <a:blip r:embed="rId1"/>
          <a:stretch/>
        </p:blipFill>
        <p:spPr>
          <a:xfrm>
            <a:off x="380880" y="3048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images[1]"/>
          <p:cNvPicPr/>
          <p:nvPr/>
        </p:nvPicPr>
        <p:blipFill>
          <a:blip r:embed="rId2"/>
          <a:stretch/>
        </p:blipFill>
        <p:spPr>
          <a:xfrm>
            <a:off x="4876920" y="3048120"/>
            <a:ext cx="27432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35800" y="456840"/>
            <a:ext cx="403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92913"/>
                </a:solidFill>
                <a:latin typeface="Arial"/>
              </a:rPr>
              <a:t>Fast rea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6080" y="1828080"/>
            <a:ext cx="787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Go through the passage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quickly as possible and t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to find answers to the thr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questions in part A on Page 18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=962718606,1341568606&amp;gp=0"/>
          <p:cNvPicPr/>
          <p:nvPr/>
        </p:nvPicPr>
        <p:blipFill>
          <a:blip r:embed="rId1"/>
          <a:stretch/>
        </p:blipFill>
        <p:spPr>
          <a:xfrm>
            <a:off x="2971800" y="4952880"/>
            <a:ext cx="3200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95280" y="981000"/>
            <a:ext cx="87487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What are the two medicines mentioned in the artic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When was penicillin first  discov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What award did Fleming, Florey and Chain sh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428720" y="3141720"/>
            <a:ext cx="1756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In 192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983600" y="5516640"/>
            <a:ext cx="585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The Nobel Prize in Medic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26160" y="1700280"/>
            <a:ext cx="453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Aspirin and penicill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2133720"/>
            <a:ext cx="8497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was aspirin first mad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did people find that drinking a special tea could reduce fever and p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1640" y="3068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189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1052640"/>
            <a:ext cx="7993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Read the passage carefully and answer some detailed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763640" y="260280"/>
            <a:ext cx="3429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etail reading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5445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early 3,500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95280" y="476280"/>
            <a:ext cx="842472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What other things can aspirin help with besides reducing fever and p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It can also help reduce the risk of heart attacks by thinning blood, prevent  strokes, reduce the risk of some cancers, increase the length of people’s lives and help with diabe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95280" y="981000"/>
            <a:ext cx="8424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here did Alexander Fleming find penicillin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a mould that killed bacte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What illnesses did Alexander Fleming think the mould might be used to tr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might be used to treat illnesses caused by bacte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0-06T05:15:37Z</dcterms:modified>
  <cp:revision>1</cp:revision>
  <dc:subject/>
  <dc:title>幻灯片 1</dc:title>
</cp:coreProperties>
</file>