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26.jpeg" ContentType="image/jpeg"/>
  <Override PartName="/ppt/media/image2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14.gif" ContentType="image/gif"/>
  <Override PartName="/ppt/media/image1.jpeg" ContentType="image/jpeg"/>
  <Override PartName="/ppt/media/image15.wmf" ContentType="image/x-wmf"/>
  <Override PartName="/ppt/media/image22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2AD-9824-4BAE-82EE-66A0A58D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5D2-F4C9-4FAD-864B-6D09566E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EEEB-1845-4ABF-95CB-FB431FC0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0DE-9236-4C52-AB60-961D4D8D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61B6-BC26-4529-AD3D-DA605157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AE48-E5AF-401F-920F-377B6DC1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4795-990E-4994-A401-F2514AD4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DB21-C729-4D3F-84CE-0568E17D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6209-F59C-4963-B798-F9620DEE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8A21-438F-42F1-AC25-7EA1FFF2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9364-A5C2-44BA-A64D-59AE31A8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831-A1EC-47D9-87B0-21802503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133D-2DD6-472C-9449-A7504515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BD09-5232-4480-AE56-2E5044CB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E16B-BC15-4FA0-964C-7B40E576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B6A1-0F1E-47A9-B64C-53D1773C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FEDF-E7FE-4766-8AC0-9B9FFC60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3AE-33CF-47FB-ACCB-950AF841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C97-FA08-4117-85D2-E1379D7A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E71-30FD-46A7-B6C2-EF56001F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E62-F684-4DD4-BC51-5E930826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040-FC88-4B3D-8E88-DDEF06A9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076-3277-4330-AE71-52B725BA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2A9-B987-4184-A4F8-F7D1DD93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B7AF-3C2B-4D9F-B630-2E146B875A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4259-A7F3-4051-A1C2-045A58D693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../Reading.mp3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64000" y="558972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Monotype Corsiva"/>
                <a:ea typeface="Dot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673000" y="836640"/>
            <a:ext cx="595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3300"/>
                </a:solidFill>
                <a:latin typeface="Monotype Corsiva"/>
              </a:rPr>
              <a:t>Module5  Unit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995640" y="220500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3300"/>
                </a:solidFill>
                <a:latin typeface="Monotype Corsiv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071800" y="3716280"/>
            <a:ext cx="650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3300"/>
                </a:solidFill>
                <a:latin typeface="Monotype Corsiva"/>
              </a:rPr>
              <a:t>The perfect cop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adilina.mp3" descr=""/>
          <p:cNvPicPr/>
          <p:nvPr/>
        </p:nvPicPr>
        <p:blipFill>
          <a:blip r:embed="rId1"/>
          <a:stretch/>
        </p:blipFill>
        <p:spPr>
          <a:xfrm>
            <a:off x="860436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9767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6858000"/>
            <a:ext cx="946800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31"/>
          <p:cNvPicPr/>
          <p:nvPr/>
        </p:nvPicPr>
        <p:blipFill>
          <a:blip r:embed="rId1"/>
          <a:stretch/>
        </p:blipFill>
        <p:spPr>
          <a:xfrm>
            <a:off x="7777080" y="-243000"/>
            <a:ext cx="1366920" cy="11318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471960" y="1557360"/>
            <a:ext cx="824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all over the world are happy about the id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cloning human be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42160" y="907920"/>
            <a:ext cx="4077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ue (T) or false (F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395280" y="292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A Scottish doctor created Do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400680" y="3933720"/>
            <a:ext cx="80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Dolly, the first cloned mammal, was just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other sh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73040" y="5229360"/>
            <a:ext cx="8102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According to the article, the scientist who cre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lly does not agree with cloning human be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-146520" y="260280"/>
            <a:ext cx="31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ompeti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5003640" y="206064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5796000" y="2997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3203640" y="4437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8317080" y="5661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6858000"/>
            <a:ext cx="946800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31"/>
          <p:cNvPicPr/>
          <p:nvPr/>
        </p:nvPicPr>
        <p:blipFill>
          <a:blip r:embed="rId1"/>
          <a:stretch/>
        </p:blipFill>
        <p:spPr>
          <a:xfrm>
            <a:off x="7777080" y="-243000"/>
            <a:ext cx="1366920" cy="11318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687600" y="549360"/>
            <a:ext cx="769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Cloning can be used to cure diseases becaus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produce new tissues and 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88320" y="2565360"/>
            <a:ext cx="76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Some scientists are pushing ahead with hum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ne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84360" y="4005360"/>
            <a:ext cx="83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China has already succeeded in cloning human embry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13080" y="5516640"/>
            <a:ext cx="82731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Cloning human beings is illegal in many countri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 no scientists want to clone human be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877080" y="148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771640" y="2997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2556000" y="4508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7451640" y="6021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2009042317592681"/>
          <p:cNvPicPr/>
          <p:nvPr/>
        </p:nvPicPr>
        <p:blipFill>
          <a:blip r:embed="rId1"/>
          <a:stretch/>
        </p:blipFill>
        <p:spPr>
          <a:xfrm>
            <a:off x="-1440" y="0"/>
            <a:ext cx="9074160" cy="68356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Question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78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's the author's attitude towards cloning human be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Positive     B. Nega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Neutral      D. In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915232172005"/>
          <p:cNvPicPr/>
          <p:nvPr/>
        </p:nvPicPr>
        <p:blipFill>
          <a:blip r:embed="rId2"/>
          <a:stretch/>
        </p:blipFill>
        <p:spPr>
          <a:xfrm>
            <a:off x="684360" y="3716280"/>
            <a:ext cx="576000" cy="579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7812000" y="6381720"/>
            <a:ext cx="11527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_large_2sMl_0d38000aa39f2d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87280" y="2491920"/>
            <a:ext cx="411948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e4005c"/>
                </a:solidFill>
                <a:uFillTx/>
                <a:latin typeface="Comic Sans MS"/>
                <a:hlinkClick r:id="rId2"/>
              </a:rPr>
              <a:t>Two let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609480"/>
          <a:ext cx="9333000" cy="1030320"/>
        </p:xfrm>
        <a:graphic>
          <a:graphicData uri="http://schemas.openxmlformats.org/drawingml/2006/table">
            <a:tbl>
              <a:tblPr/>
              <a:tblGrid>
                <a:gridCol w="933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Read the two letters carefully, and find out the tw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writers’ attitudes towards human clon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0" y="1905120"/>
          <a:ext cx="9144000" cy="49528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9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ine Carter is _______ cloning human beings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ason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in Jake is ____ cloning human beings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as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Picture 14" descr="u=2186580521,2801425078&amp;gp=3"/>
          <p:cNvPicPr/>
          <p:nvPr/>
        </p:nvPicPr>
        <p:blipFill>
          <a:blip r:embed="rId1"/>
          <a:stretch/>
        </p:blipFill>
        <p:spPr>
          <a:xfrm>
            <a:off x="7620120" y="533520"/>
            <a:ext cx="1323720" cy="10573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5"/>
          <p:cNvSpPr/>
          <p:nvPr/>
        </p:nvSpPr>
        <p:spPr>
          <a:xfrm>
            <a:off x="1447920" y="2438280"/>
            <a:ext cx="739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1. Human life would become a crop to be harv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or a product for s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1447920" y="3124080"/>
            <a:ext cx="7162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2. We should be having fewer babies in order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reduce Earth’s population, not cloning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1547640" y="508464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I would clone her so that I could be with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4140360" y="177336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gai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2987640" y="458136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0" descr="200991621383844"/>
          <p:cNvPicPr/>
          <p:nvPr/>
        </p:nvPicPr>
        <p:blipFill>
          <a:blip r:embed="rId2"/>
          <a:stretch/>
        </p:blipFill>
        <p:spPr>
          <a:xfrm>
            <a:off x="7740720" y="5826240"/>
            <a:ext cx="1224000" cy="103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47628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Read the passage again and use the suitable words to fill in the bla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-118800" y="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conso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901800"/>
          <a:ext cx="9361440" cy="5960880"/>
        </p:xfrm>
        <a:graphic>
          <a:graphicData uri="http://schemas.openxmlformats.org/drawingml/2006/table">
            <a:tbl>
              <a:tblPr/>
              <a:tblGrid>
                <a:gridCol w="2881440"/>
                <a:gridCol w="6480000"/>
              </a:tblGrid>
              <a:tr h="114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People’s 1 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towards human cloning</a:t>
                      </a: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Their2</a:t>
                      </a: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_______ for the opin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3_____ human clon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Produce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______ tissues and organs that could be used to save human liv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Help those who are 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 to have childr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Help those who want to clone their dead childr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6______ human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clon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Human life becomes like a crop to be harvested or a product for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_____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It might produce a real-life Frankenstein’s monst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It would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_____ to more diseas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It shows no respect for human lif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 We should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_______ the Earth’s population, not cloning m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10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oning human embryos has caused much debate round the worl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79"/>
          <p:cNvSpPr/>
          <p:nvPr/>
        </p:nvSpPr>
        <p:spPr>
          <a:xfrm>
            <a:off x="1502280" y="90792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0"/>
          <p:cNvSpPr/>
          <p:nvPr/>
        </p:nvSpPr>
        <p:spPr>
          <a:xfrm>
            <a:off x="4692600" y="9810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1"/>
          <p:cNvSpPr/>
          <p:nvPr/>
        </p:nvSpPr>
        <p:spPr>
          <a:xfrm>
            <a:off x="334440" y="2185920"/>
            <a:ext cx="5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2"/>
          <p:cNvSpPr/>
          <p:nvPr/>
        </p:nvSpPr>
        <p:spPr>
          <a:xfrm>
            <a:off x="541080" y="400536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3"/>
          <p:cNvSpPr/>
          <p:nvPr/>
        </p:nvSpPr>
        <p:spPr>
          <a:xfrm>
            <a:off x="4257360" y="17002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alu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4"/>
          <p:cNvSpPr/>
          <p:nvPr/>
        </p:nvSpPr>
        <p:spPr>
          <a:xfrm>
            <a:off x="5835600" y="242100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6"/>
          <p:cNvSpPr/>
          <p:nvPr/>
        </p:nvSpPr>
        <p:spPr>
          <a:xfrm>
            <a:off x="4928760" y="357336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8"/>
          <p:cNvSpPr/>
          <p:nvPr/>
        </p:nvSpPr>
        <p:spPr>
          <a:xfrm>
            <a:off x="4492440" y="46530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7"/>
          <p:cNvSpPr/>
          <p:nvPr/>
        </p:nvSpPr>
        <p:spPr>
          <a:xfrm>
            <a:off x="4853520" y="5445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1137960" y="61657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5" descr="images[2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152280" y="22860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28600" y="2286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0" y="0"/>
            <a:ext cx="41036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deb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250920" y="692280"/>
            <a:ext cx="889308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  <a:ea typeface="GungsuhChe"/>
              </a:rPr>
              <a:t>     </a:t>
            </a:r>
            <a:r>
              <a:rPr b="1" i="1" lang="en-US" sz="4400" spc="-1" strike="noStrike">
                <a:solidFill>
                  <a:srgbClr val="3366ff"/>
                </a:solidFill>
                <a:latin typeface="Times New Roman"/>
                <a:ea typeface="GungsuhChe"/>
              </a:rPr>
              <a:t>Sun Yang is a gold-medal winner in London Olympic Games. Now, some scientists are considering cloning him with the intention of making more contributions to our motherland. Is it a good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0" y="-243000"/>
            <a:ext cx="9394920" cy="66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5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  <a:ea typeface="Arial Unicode MS"/>
              </a:rPr>
              <a:t>Useful words and phr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I’m for/against cloning Sun Yang becaus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 I think/believe cloning Sun Yang 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I think we should/shouldn’t clone Sun Ya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I’m in complete agreement with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For one thing,… For another , …/ on the one hand…on the other h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 Besides; what’s more; in addition; first of al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 In short (In brief /In a word), I firmly support the view tha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8 So my conclusion is tha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9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图片21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"/>
          <p:cNvSpPr/>
          <p:nvPr/>
        </p:nvSpPr>
        <p:spPr>
          <a:xfrm>
            <a:off x="914400" y="6858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826920" y="1268280"/>
            <a:ext cx="7704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There is no forbidden field in science, but we must make sure the technology under contr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763640" y="3357720"/>
            <a:ext cx="66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黑体"/>
              </a:rPr>
              <a:t>科学无禁区，技术应节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Monotype Corsiva"/>
              </a:rPr>
              <a:t>Write a composition</a:t>
            </a:r>
            <a:br>
              <a:rPr sz="3400"/>
            </a:br>
            <a:endParaRPr b="0" lang="en-US" sz="3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孙扬在伦敦奥运会上获得了游泳金牌，使中国队在游泳项目上实现了突破。现在，一些科学家正在考虑克隆出更多的孙阳。我们班针对这一问题进行了一次热烈的讨论。有的同学赞成，有的同学反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请写一篇作文描述同学们的观点，并且说说你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的看法和观点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仿宋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词左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2921040"/>
          <a:ext cx="9144000" cy="3986280"/>
        </p:xfrm>
        <a:graphic>
          <a:graphicData uri="http://schemas.openxmlformats.org/drawingml/2006/table">
            <a:tbl>
              <a:tblPr/>
              <a:tblGrid>
                <a:gridCol w="533520"/>
                <a:gridCol w="3581280"/>
                <a:gridCol w="533520"/>
                <a:gridCol w="4495680"/>
              </a:tblGrid>
              <a:tr h="489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55%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的同学支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   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45%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的同学反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理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1.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可以为中国创造更多的荣誉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2.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可以向更多的人传授游泳技巧，培养更多的游泳健儿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3.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可以让更多的人有机会和他接触交流，向他学习。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理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1.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克隆人是一种不道德的行为，克隆孙阳是对他的不尊重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2.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可能会导致人类产生更多的疾病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3.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会给孙扬的工作和生活带来很多麻烦。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华文仿宋"/>
                          <a:ea typeface="华文仿宋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nn 1996年第一只克隆羊诞生多莉-320x240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617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10" name="Picture 3" descr="6702c90dbfb30a046059f3ae"/>
          <p:cNvPicPr/>
          <p:nvPr/>
        </p:nvPicPr>
        <p:blipFill>
          <a:blip r:embed="rId1"/>
          <a:stretch/>
        </p:blipFill>
        <p:spPr>
          <a:xfrm>
            <a:off x="34920" y="-14400"/>
            <a:ext cx="9144000" cy="682812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 rot="660000">
            <a:off x="3634920" y="2204640"/>
            <a:ext cx="501516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408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Comic Sans MS"/>
              </a:rPr>
              <a:t>Thank you!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408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12" name="2012071613252887.mp3" descr=""/>
          <p:cNvPicPr/>
          <p:nvPr/>
        </p:nvPicPr>
        <p:blipFill>
          <a:blip r:embed="rId2"/>
          <a:stretch/>
        </p:blipFill>
        <p:spPr>
          <a:xfrm>
            <a:off x="795672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336880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7885080" y="6453360"/>
            <a:ext cx="125892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Picture 7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1332000" y="227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y other cloned ani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pigs"/>
          <p:cNvPicPr/>
          <p:nvPr/>
        </p:nvPicPr>
        <p:blipFill>
          <a:blip r:embed="rId1"/>
          <a:stretch/>
        </p:blipFill>
        <p:spPr>
          <a:xfrm>
            <a:off x="324000" y="0"/>
            <a:ext cx="4392360" cy="299736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  <p:pic>
        <p:nvPicPr>
          <p:cNvPr id="100" name="Picture 7" descr="1_2-1-9_2002022173549"/>
          <p:cNvPicPr/>
          <p:nvPr/>
        </p:nvPicPr>
        <p:blipFill>
          <a:blip r:embed="rId2"/>
          <a:stretch/>
        </p:blipFill>
        <p:spPr>
          <a:xfrm>
            <a:off x="5292720" y="0"/>
            <a:ext cx="3851280" cy="299736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  <p:pic>
        <p:nvPicPr>
          <p:cNvPr id="101" name="Picture 8" descr="mule"/>
          <p:cNvPicPr/>
          <p:nvPr/>
        </p:nvPicPr>
        <p:blipFill>
          <a:blip r:embed="rId3"/>
          <a:stretch/>
        </p:blipFill>
        <p:spPr>
          <a:xfrm>
            <a:off x="5364000" y="3284640"/>
            <a:ext cx="3780000" cy="357336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  <p:pic>
        <p:nvPicPr>
          <p:cNvPr id="102" name="Picture 12" descr="monkey300-toe"/>
          <p:cNvPicPr/>
          <p:nvPr/>
        </p:nvPicPr>
        <p:blipFill>
          <a:blip r:embed="rId4"/>
          <a:stretch/>
        </p:blipFill>
        <p:spPr>
          <a:xfrm>
            <a:off x="324000" y="3114720"/>
            <a:ext cx="4319280" cy="3743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rabbits born in Guangxi University"/>
          <p:cNvPicPr/>
          <p:nvPr/>
        </p:nvPicPr>
        <p:blipFill>
          <a:blip r:embed="rId5"/>
          <a:stretch/>
        </p:blipFill>
        <p:spPr>
          <a:xfrm>
            <a:off x="3419640" y="177336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bush_clones"/>
          <p:cNvPicPr/>
          <p:nvPr/>
        </p:nvPicPr>
        <p:blipFill>
          <a:blip r:embed="rId1"/>
          <a:stretch/>
        </p:blipFill>
        <p:spPr>
          <a:xfrm>
            <a:off x="1116000" y="1125360"/>
            <a:ext cx="6985080" cy="5354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10009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Comic Sans MS"/>
              </a:rPr>
              <a:t>Has Bush been cloned?</a:t>
            </a: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图片10"/>
          <p:cNvPicPr/>
          <p:nvPr/>
        </p:nvPicPr>
        <p:blipFill>
          <a:blip r:embed="rId1"/>
          <a:stretch/>
        </p:blipFill>
        <p:spPr>
          <a:xfrm>
            <a:off x="-4680" y="-233280"/>
            <a:ext cx="9153360" cy="73245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1258920" y="1773360"/>
            <a:ext cx="660096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e perfect copy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0" name="Picture 10" descr="u=565870346,2149656599&amp;fm=51&amp;gp=0"/>
          <p:cNvPicPr/>
          <p:nvPr/>
        </p:nvPicPr>
        <p:blipFill>
          <a:blip r:embed="rId2"/>
          <a:stretch/>
        </p:blipFill>
        <p:spPr>
          <a:xfrm rot="222000">
            <a:off x="6012000" y="4176720"/>
            <a:ext cx="2552400" cy="26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1050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Rea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1st and the la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paragraph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a general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ircl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words a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questio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ng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ou don’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Read through the articl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 few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4067280" y="278136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067280" y="407664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67680" y="12682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 to understand scientific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图片1"/>
          <p:cNvPicPr/>
          <p:nvPr/>
        </p:nvPicPr>
        <p:blipFill>
          <a:blip r:embed="rId1"/>
          <a:stretch/>
        </p:blipFill>
        <p:spPr>
          <a:xfrm>
            <a:off x="6553080" y="5388120"/>
            <a:ext cx="2590920" cy="1469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6496200" y="134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BAN_106"/>
          <p:cNvPicPr/>
          <p:nvPr/>
        </p:nvPicPr>
        <p:blipFill>
          <a:blip r:embed="rId2"/>
          <a:stretch/>
        </p:blipFill>
        <p:spPr>
          <a:xfrm>
            <a:off x="0" y="333360"/>
            <a:ext cx="4140360" cy="720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3"/>
          <p:cNvSpPr/>
          <p:nvPr/>
        </p:nvSpPr>
        <p:spPr>
          <a:xfrm>
            <a:off x="482400" y="476280"/>
            <a:ext cx="32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Reading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1"/>
          <p:cNvSpPr/>
          <p:nvPr/>
        </p:nvSpPr>
        <p:spPr>
          <a:xfrm>
            <a:off x="1455840" y="185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BAN_106"/>
          <p:cNvPicPr/>
          <p:nvPr/>
        </p:nvPicPr>
        <p:blipFill>
          <a:blip r:embed="rId2"/>
          <a:stretch/>
        </p:blipFill>
        <p:spPr>
          <a:xfrm>
            <a:off x="0" y="189000"/>
            <a:ext cx="4140360" cy="720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8"/>
          <p:cNvSpPr/>
          <p:nvPr/>
        </p:nvSpPr>
        <p:spPr>
          <a:xfrm>
            <a:off x="969120" y="26028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Fast-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680" y="836640"/>
            <a:ext cx="7913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Go through the passage quickly and answe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llowing questions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464040" y="1627560"/>
            <a:ext cx="704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W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the first paragraph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W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the last paragraph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607680" y="407664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W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the passag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684360" y="2132640"/>
            <a:ext cx="74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cientists’ cloning human embryos h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used much deb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822600" y="3572640"/>
            <a:ext cx="59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na’s achievements on clo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820800" y="4580640"/>
            <a:ext cx="71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fferent opinions about human clo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535680" y="5084640"/>
            <a:ext cx="733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Does the article give an anti-or pr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 of view, or bo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8"/>
          <p:cNvSpPr/>
          <p:nvPr/>
        </p:nvSpPr>
        <p:spPr>
          <a:xfrm>
            <a:off x="972000" y="6091920"/>
            <a:ext cx="11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o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BAN_106"/>
          <p:cNvPicPr/>
          <p:nvPr/>
        </p:nvPicPr>
        <p:blipFill>
          <a:blip r:embed="rId1"/>
          <a:stretch/>
        </p:blipFill>
        <p:spPr>
          <a:xfrm>
            <a:off x="250920" y="189000"/>
            <a:ext cx="4105080" cy="863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3262320" cy="690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Careful-reading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1208160"/>
            <a:ext cx="882000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What are the different attitudes towards the success of cloning a human embry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n the one  han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n the other han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ome people believe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46200" y="2111400"/>
          <a:ext cx="8497800" cy="10303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able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issue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rgan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an b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ed and be used to save human li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7"/>
          <p:cNvSpPr/>
          <p:nvPr/>
        </p:nvSpPr>
        <p:spPr>
          <a:xfrm>
            <a:off x="611280" y="3191040"/>
            <a:ext cx="85327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beings may be on the way to producing a real-life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Times New Roman"/>
              </a:rPr>
              <a:t>Frankenstein’s mon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646200" y="4149720"/>
            <a:ext cx="849780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ning human embr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ith the intention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stroying them shows no respect for huma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7236000" y="2637000"/>
            <a:ext cx="1081080" cy="520560"/>
          </a:xfrm>
          <a:prstGeom prst="rect">
            <a:avLst/>
          </a:pr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7812000" y="3645000"/>
            <a:ext cx="1511280" cy="520560"/>
          </a:xfrm>
          <a:prstGeom prst="rect">
            <a:avLst/>
          </a:pr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gai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4427640" y="5229360"/>
            <a:ext cx="1511280" cy="520560"/>
          </a:xfrm>
          <a:prstGeom prst="rect">
            <a:avLst/>
          </a:pr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gai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3:36:02Z</dcterms:created>
  <dc:creator>微软用户</dc:creator>
  <dc:description/>
  <dc:language>en-US</dc:language>
  <cp:lastModifiedBy>Administrator</cp:lastModifiedBy>
  <dcterms:modified xsi:type="dcterms:W3CDTF">2016-10-05T13:44:02Z</dcterms:modified>
  <cp:revision>26</cp:revision>
  <dc:subject/>
  <dc:title>幻灯片 1</dc:title>
</cp:coreProperties>
</file>