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6.gif" ContentType="image/gif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13.gif" ContentType="image/gif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5.wmf" ContentType="image/x-wmf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9A3-D927-4AC9-8A9D-920460E5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B7D-5D0A-4138-9120-568ECDFF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DCF-FBE0-4687-8612-1C40B0AC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F7C-4000-4CC9-A77D-7D8E34B0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59D0-C2F0-4DB3-A114-B791CE0C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C3CD-0AA0-42CC-B5D4-D53BD4F3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2C65-144A-441B-9308-B15DEED6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3D98-75EB-4C46-B2A0-4E2A2434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0799-8C64-4458-84D9-86C1511C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8620-DE6A-4944-A32D-DB5CF274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766C-2A95-485B-82A0-BE850A8C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3A0-C804-4EBD-827D-3F2CA0A1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A446-E1FE-438F-8EB5-699BDD74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14F5-9B6F-4A0C-A011-258D5F92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EA4A-0414-4ED3-B62A-DC9E718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7E74-0222-47F0-8C37-A4BC9B9B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14FE-56C5-4AD3-AEE9-3F502EF3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1042-F3EA-4D92-942F-800DC134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029B-FB6C-4F5B-AED6-633CD975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65F1-AC5C-42F4-8FB3-15572183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6D5B-671D-4B1D-BE74-E2E2F124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0FCF-4DF0-4538-AB3D-A81CEE22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9BB-D821-40FA-8E8D-1BDA4108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1566-8786-41A3-A4F5-51EA30E8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29D2-1C11-4378-B44D-6A8730F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B961-9D0E-465D-9F17-209A28D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8456B-F233-4188-81BB-2819AE7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570C-BC5D-45EA-9F49-2A8C6905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43D3-2BE3-44C2-814A-F0EF0D7D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1B24-1446-4A1C-B12A-E0ACDB55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A59-9019-437F-A331-640D675E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CA8-92F9-4F03-B86E-01CA4A1E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191-A049-466B-BE23-864FF5CE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4F2-DA61-4066-9E65-2681F292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7BC-CFAE-409C-AC16-B5ADFFA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A54-0AE3-4414-98FD-E779BF5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9451-24DD-48EB-8862-3D45B0340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25172640 w 7958160"/>
              <a:gd name="textAreaRight" fmla="*/ 146730960 w 7958160"/>
              <a:gd name="textAreaTop" fmla="*/ 348120 h 109800"/>
              <a:gd name="textAreaBottom" fmla="*/ 20307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F964-4A7F-4144-A9C9-3983B0C2C05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24585120 w 7772400"/>
              <a:gd name="textAreaRight" fmla="*/ 143306280 w 7772400"/>
              <a:gd name="textAreaTop" fmla="*/ 347040 h 109440"/>
              <a:gd name="textAreaBottom" fmla="*/ 202428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0B1E-B738-4346-9A04-D365FD40DD4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56435400&amp;tn=baiduimagedetail&amp;word=&#23398;&#20064;&amp;in=13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61359601&amp;tn=baiduimagedetail&amp;word=&#23398;&#20064;&amp;in=15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160453301&amp;tn=baiduimagedetail&amp;word=&#33457;&amp;in=18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.baidu.com/i?ct=503316480&amp;z=573691600&amp;tn=baiduimagedetail&amp;word=&#33457;&amp;in=19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160453301&amp;tn=baiduimagedetail&amp;word=&#33457;&amp;in=18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160453301&amp;tn=baiduimagedetail&amp;word=&#33457;&amp;in=18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617965453&amp;tn=baiduimagedetail&amp;word=&#33457;&amp;in=93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.baidu.com/i?ct=503316480&amp;z=1160453301&amp;tn=baiduimagedetail&amp;word=&#33457;&amp;in=18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99787050&amp;tn=baiduimagedetail&amp;word=&#33457;&amp;in=87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56821301&amp;tn=baiduimagedetail&amp;word=&#33457;&amp;in=49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.baidu.com/i?ct=503316480&amp;z=37950953&amp;tn=baiduimagedetail&amp;word=&#33457;&amp;in=111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244658701&amp;tn=baiduimagedetail&amp;word=&#33457;&amp;in=171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210000&amp;tn=baiduimagedetail&amp;word=&#33457;&amp;in=176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WordArt 2"/>
          <p:cNvGrpSpPr/>
          <p:nvPr/>
        </p:nvGrpSpPr>
        <p:grpSpPr>
          <a:xfrm>
            <a:off x="835200" y="987480"/>
            <a:ext cx="7424640" cy="1792080"/>
            <a:chOff x="835200" y="987480"/>
            <a:chExt cx="7424640" cy="1792080"/>
          </a:xfrm>
        </p:grpSpPr>
        <p:pic>
          <p:nvPicPr>
            <p:cNvPr id="127" name="WordArt 2" descr=""/>
            <p:cNvPicPr/>
            <p:nvPr/>
          </p:nvPicPr>
          <p:blipFill>
            <a:blip r:embed="rId1"/>
            <a:stretch/>
          </p:blipFill>
          <p:spPr>
            <a:xfrm>
              <a:off x="835200" y="987480"/>
              <a:ext cx="742464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38080" y="990720"/>
              <a:ext cx="74170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宋体"/>
                </a:rPr>
                <a:t>The perfect copy</a:t>
              </a:r>
              <a:endParaRPr b="1" lang="en-US" sz="5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pic>
        <p:nvPicPr>
          <p:cNvPr id="129" name="Picture 3" descr="clone 6"/>
          <p:cNvPicPr/>
          <p:nvPr/>
        </p:nvPicPr>
        <p:blipFill>
          <a:blip r:embed="rId2"/>
          <a:stretch/>
        </p:blipFill>
        <p:spPr>
          <a:xfrm>
            <a:off x="2438280" y="3048120"/>
            <a:ext cx="3527640" cy="2886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648320" y="6338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Arial"/>
              </a:rPr>
              <a:t>Dinggou senior schoo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62960" y="20520"/>
            <a:ext cx="5182560" cy="76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92913"/>
                </a:solidFill>
                <a:latin typeface="Arial"/>
              </a:rPr>
              <a:t>M5 Unit 3 </a:t>
            </a:r>
            <a:r>
              <a:rPr b="1" lang="en-US" sz="4400" spc="-1" strike="noStrike">
                <a:solidFill>
                  <a:srgbClr val="f92913"/>
                </a:solidFill>
                <a:latin typeface="Arial"/>
              </a:rPr>
              <a:t>R</a:t>
            </a:r>
            <a:r>
              <a:rPr b="1" lang="zh-CN" sz="4400" spc="-1" strike="noStrike">
                <a:solidFill>
                  <a:srgbClr val="f92913"/>
                </a:solidFill>
                <a:latin typeface="Arial"/>
              </a:rPr>
              <a:t>eading 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5486400" cy="1066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92913"/>
                </a:solidFill>
                <a:latin typeface="Arial"/>
              </a:rPr>
              <a:t>Reading strategy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方正姚体"/>
              </a:rPr>
              <a:t>Read the first and last paragraphs for general   idea of the pass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方正姚体"/>
              </a:rPr>
              <a:t>2.Scan the body of the article . Circle the words you do not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方正姚体"/>
              </a:rPr>
              <a:t>3.Skip the unfamiliar words and try to guess the meaning in the sentences and the tex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图片8"/>
          <p:cNvPicPr/>
          <p:nvPr/>
        </p:nvPicPr>
        <p:blipFill>
          <a:blip r:embed="rId1"/>
          <a:stretch/>
        </p:blipFill>
        <p:spPr>
          <a:xfrm>
            <a:off x="6095880" y="5181480"/>
            <a:ext cx="1981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2913"/>
                </a:solidFill>
                <a:latin typeface="Arial"/>
              </a:rPr>
              <a:t>Guess the meanings of the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Some scientists point out that if you clone an embryo, you can produce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tissues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organ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at could be used to save human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I don’t want to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adop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someone else’s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Some scientists are already pushing ahead with research so as to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deliv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cloned human ba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657600" y="647712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4648320" y="2819520"/>
            <a:ext cx="45720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1371600" y="66294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438280" y="3886200"/>
            <a:ext cx="4343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take …as one’s child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791320" y="5486400"/>
            <a:ext cx="2666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give birth t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5486400" y="3200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10080" y="3124080"/>
            <a:ext cx="12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876920" y="2819520"/>
            <a:ext cx="27432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part of body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114300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92913"/>
                </a:solidFill>
                <a:latin typeface="Arial"/>
              </a:rPr>
              <a:t>Careful  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76200" y="1523520"/>
            <a:ext cx="20527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ara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ara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ara.3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ara.5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828800" y="1219320"/>
            <a:ext cx="7696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is cloning and an introduction    to the first cloned mammal-Dolly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ifferent opinions about cloning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loning in different countries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debate about the first cloned   human embryo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143000" y="1600200"/>
            <a:ext cx="990720" cy="312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 flipV="1">
            <a:off x="1143000" y="18288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V="1">
            <a:off x="1371600" y="2819160"/>
            <a:ext cx="76212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 flipV="1">
            <a:off x="1523880" y="35809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190512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2" name="Picture 10" descr="图10"/>
          <p:cNvPicPr/>
          <p:nvPr/>
        </p:nvPicPr>
        <p:blipFill>
          <a:blip r:embed="rId1"/>
          <a:stretch/>
        </p:blipFill>
        <p:spPr>
          <a:xfrm>
            <a:off x="5410080" y="4800600"/>
            <a:ext cx="2516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-152280" y="99072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different persons’ attitudes towards human cloning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52280" y="1219320"/>
            <a:ext cx="8991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an Wilmut______________________________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Faye Wilson_____________________________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Severino Antinori_________________________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Chinese scientists_________________________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209680" y="1600200"/>
            <a:ext cx="609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133720" y="1676520"/>
            <a:ext cx="7010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Comic Sans MS"/>
              </a:rPr>
              <a:t>creating new tissues and organs that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276720" y="29718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Comic Sans MS"/>
              </a:rPr>
              <a:t>the first to clone a human being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429000" y="358128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Comic Sans MS"/>
              </a:rPr>
              <a:t>benefit mankind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514600" y="23623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Comic Sans MS"/>
              </a:rPr>
              <a:t>desperate to have a cloned baby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04920" y="4114800"/>
            <a:ext cx="761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429000" y="5257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0" y="0"/>
            <a:ext cx="5943600" cy="703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2913"/>
                </a:solidFill>
                <a:latin typeface="Arial"/>
              </a:rPr>
              <a:t>Detailed    information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2666880" y="152280"/>
            <a:ext cx="3429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nouncement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943600" y="3962520"/>
            <a:ext cx="26668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an Wilmu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095880" y="2362320"/>
            <a:ext cx="26672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n the other ha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33520" y="2362320"/>
            <a:ext cx="2555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n one hand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095880" y="563868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09480" y="5638680"/>
            <a:ext cx="24386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0"/>
            <a:ext cx="2438280" cy="8701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structur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09480" y="3962520"/>
            <a:ext cx="2514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aye Wils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1371600" y="3429000"/>
            <a:ext cx="86508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1371600" y="5105520"/>
            <a:ext cx="86508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6858000" y="3429000"/>
            <a:ext cx="86508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6858000" y="5029200"/>
            <a:ext cx="86508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3962520" y="762120"/>
            <a:ext cx="86508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 rot="3540000">
            <a:off x="2648160" y="1541880"/>
            <a:ext cx="621000" cy="1041480"/>
          </a:xfrm>
          <a:prstGeom prst="downArrow">
            <a:avLst>
              <a:gd name="adj1" fmla="val 50000"/>
              <a:gd name="adj2" fmla="val 4192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AutoShape 17"/>
          <p:cNvSpPr/>
          <p:nvPr/>
        </p:nvSpPr>
        <p:spPr>
          <a:xfrm rot="18129000">
            <a:off x="5620320" y="1618200"/>
            <a:ext cx="620640" cy="1041480"/>
          </a:xfrm>
          <a:prstGeom prst="downArrow">
            <a:avLst>
              <a:gd name="adj1" fmla="val 50000"/>
              <a:gd name="adj2" fmla="val 4195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0" y="2895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tissues/organs/save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4876920" y="2895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interfere with/ monster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0" y="4495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o baby/ have a cloned…)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0" y="6172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cloning human beings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181480" y="44956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Dolly/cure / respect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5943600" y="61722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benefit mankind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3124080" y="1219320"/>
            <a:ext cx="2895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ebat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01760" y="533520"/>
            <a:ext cx="4101840" cy="764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929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92913"/>
                </a:solidFill>
                <a:latin typeface="Arial"/>
              </a:rPr>
              <a:t>Consolid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842040" y="2666880"/>
            <a:ext cx="711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Fill in the blanks with proper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words according to the reading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material.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8" name="Picture 4" descr="u=2614823838,3483379217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57200"/>
            <a:ext cx="3657600" cy="1523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图片2"/>
          <p:cNvPicPr/>
          <p:nvPr/>
        </p:nvPicPr>
        <p:blipFill>
          <a:blip r:embed="rId3"/>
          <a:stretch/>
        </p:blipFill>
        <p:spPr>
          <a:xfrm>
            <a:off x="6324480" y="4343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图8"/>
          <p:cNvPicPr/>
          <p:nvPr/>
        </p:nvPicPr>
        <p:blipFill>
          <a:blip r:embed="rId4"/>
          <a:stretch/>
        </p:blipFill>
        <p:spPr>
          <a:xfrm>
            <a:off x="3276720" y="4572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-36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Reporter: Is it true that the first human embryo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have been (1)___________cloned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-720" y="99000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cientist: It’s true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1524960"/>
            <a:ext cx="885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Reporter : What do you think of it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Scientist: I think I can produce valuable (2)______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and(3)_______  that could be used to sav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human lives. However, some scientists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think differently. They believe cloning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human embryos may (4)_______with  nature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and be on the way to(5)________ a real-life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Frankenstein’s monster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520" y="5181120"/>
            <a:ext cx="806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Reporter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: Well, would you please explain cloning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in details to me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660840" y="38088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Arial"/>
              </a:rPr>
              <a:t>successfully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35920" y="365760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Arial"/>
              </a:rPr>
              <a:t>interfere</a:t>
            </a:r>
            <a:r>
              <a:rPr b="0" lang="zh-CN" sz="2800" spc="-1" strike="noStrike">
                <a:solidFill>
                  <a:srgbClr val="f9291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338440" y="411480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Arial"/>
              </a:rPr>
              <a:t>producing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8" name="Picture 9" descr="u=3711735035,3173588482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380880"/>
            <a:ext cx="1181160" cy="12384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0"/>
          <p:cNvSpPr/>
          <p:nvPr/>
        </p:nvSpPr>
        <p:spPr>
          <a:xfrm>
            <a:off x="69343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issues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666880" y="2362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rgan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-1440" y="304920"/>
            <a:ext cx="855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cientist: Yes. Cloning is producing an exact copy of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 plant or an animal using its cells. You are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very familiar with the cloned sheep Dolly.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(6)_______ , the wonderful scientific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7)__________    was praised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240" y="251424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Reporter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: Can you give me more examples about the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uses of cloning humans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-3600" y="3429000"/>
            <a:ext cx="879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cientist: Well, one woman who can not have a baby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s(8)________  to have  a child of her own.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 doesn’t want to (9)_______ one. What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an she do? Cloning gives her the possibility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520" y="5257440"/>
            <a:ext cx="79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Reporter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: Is cloning human embryos illegal in all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countries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26680" y="160020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Arial"/>
              </a:rPr>
              <a:t>genera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889280" y="20574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Arial"/>
              </a:rPr>
              <a:t>breakthrough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241000" y="380988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Arial"/>
              </a:rPr>
              <a:t>desperat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5298840" y="426708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Arial"/>
              </a:rPr>
              <a:t>ado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9" name="Picture 10" descr="u=1536173359,1498160786&amp;gp=1"/>
          <p:cNvPicPr/>
          <p:nvPr/>
        </p:nvPicPr>
        <p:blipFill>
          <a:blip r:embed="rId1"/>
          <a:stretch/>
        </p:blipFill>
        <p:spPr>
          <a:xfrm>
            <a:off x="7819920" y="5867280"/>
            <a:ext cx="1324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-2520" y="456840"/>
            <a:ext cx="844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cientist: No. Some scientists are already pushing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head with research so as to (10)_______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 cloned human baby.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20" y="1828440"/>
            <a:ext cx="801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Reporter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: OK. Thank you . I will search  for more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information on the Internet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719400" y="90324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92913"/>
                </a:solidFill>
                <a:latin typeface="Arial"/>
              </a:rPr>
              <a:t>deliver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3" name="Picture 5" descr="u=2613828635,1327978471&amp;gp=0"/>
          <p:cNvPicPr/>
          <p:nvPr/>
        </p:nvPicPr>
        <p:blipFill>
          <a:blip r:embed="rId1"/>
          <a:stretch/>
        </p:blipFill>
        <p:spPr>
          <a:xfrm>
            <a:off x="6324480" y="4267080"/>
            <a:ext cx="2590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09480" y="1676520"/>
            <a:ext cx="7315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2913"/>
                </a:solidFill>
                <a:latin typeface="Comic Sans MS"/>
              </a:rPr>
              <a:t>Is cloning beneficial to the society 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5" name="Picture 3" descr="u=3747217768,785291994&amp;gp=0"/>
          <p:cNvPicPr/>
          <p:nvPr/>
        </p:nvPicPr>
        <p:blipFill>
          <a:blip r:embed="rId1"/>
          <a:stretch/>
        </p:blipFill>
        <p:spPr>
          <a:xfrm>
            <a:off x="1905120" y="3352680"/>
            <a:ext cx="5105160" cy="28814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852920" y="503280"/>
            <a:ext cx="548460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Discussion </a:t>
            </a:r>
            <a:endParaRPr b="1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7" name="Picture 5" descr="图片1"/>
          <p:cNvPicPr/>
          <p:nvPr/>
        </p:nvPicPr>
        <p:blipFill>
          <a:blip r:embed="rId2"/>
          <a:stretch/>
        </p:blipFill>
        <p:spPr>
          <a:xfrm>
            <a:off x="0" y="2286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图片9"/>
          <p:cNvPicPr/>
          <p:nvPr/>
        </p:nvPicPr>
        <p:blipFill>
          <a:blip r:embed="rId3"/>
          <a:stretch/>
        </p:blipFill>
        <p:spPr>
          <a:xfrm>
            <a:off x="7391520" y="5562720"/>
            <a:ext cx="1171440" cy="111420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7"/>
          <p:cNvSpPr/>
          <p:nvPr/>
        </p:nvSpPr>
        <p:spPr>
          <a:xfrm>
            <a:off x="7620120" y="4343400"/>
            <a:ext cx="914400" cy="609480"/>
          </a:xfrm>
          <a:prstGeom prst="cloudCallout">
            <a:avLst>
              <a:gd name="adj1" fmla="val 6250"/>
              <a:gd name="adj2" fmla="val 2450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8077320" y="4876920"/>
            <a:ext cx="75960" cy="75960"/>
          </a:xfrm>
          <a:prstGeom prst="cloudCallout">
            <a:avLst>
              <a:gd name="adj1" fmla="val -343750"/>
              <a:gd name="adj2" fmla="val 70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>
            <a:off x="7620120" y="4343400"/>
            <a:ext cx="914400" cy="609480"/>
          </a:xfrm>
          <a:prstGeom prst="wedgeEllipseCallout">
            <a:avLst>
              <a:gd name="adj1" fmla="val -18750"/>
              <a:gd name="adj2" fmla="val 2450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92913"/>
                </a:solidFill>
                <a:latin typeface="Arial"/>
              </a:rPr>
              <a:t>Teaching goal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mprove the ability of re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ouse the interest of knowing cloning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nowing the conflict between social morality and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图8"/>
          <p:cNvPicPr/>
          <p:nvPr/>
        </p:nvPicPr>
        <p:blipFill>
          <a:blip r:embed="rId1"/>
          <a:stretch/>
        </p:blipFill>
        <p:spPr>
          <a:xfrm>
            <a:off x="5715000" y="4495680"/>
            <a:ext cx="18288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85800" y="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44280"/>
          <a:ext cx="9144000" cy="7272360"/>
        </p:xfrm>
        <a:graphic>
          <a:graphicData uri="http://schemas.openxmlformats.org/drawingml/2006/table">
            <a:tbl>
              <a:tblPr/>
              <a:tblGrid>
                <a:gridCol w="4657680"/>
                <a:gridCol w="448632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ti-cloning </a:t>
                      </a: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-cloning</a:t>
                      </a: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26"/>
          <p:cNvSpPr/>
          <p:nvPr/>
        </p:nvSpPr>
        <p:spPr>
          <a:xfrm>
            <a:off x="4280040" y="-23760"/>
            <a:ext cx="15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Text Box 27"/>
          <p:cNvSpPr/>
          <p:nvPr/>
        </p:nvSpPr>
        <p:spPr>
          <a:xfrm>
            <a:off x="2508120" y="841320"/>
            <a:ext cx="208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4952880" y="312408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ure disease like cancer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380880" y="289548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reate more disease in the animal world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308520" y="4267080"/>
            <a:ext cx="38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loning shows no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espect for human lif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4952880" y="4267080"/>
            <a:ext cx="416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lp those who are unable to have childre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304920" y="914400"/>
            <a:ext cx="417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human life would no longer be uniqu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4750920" y="762120"/>
            <a:ext cx="43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help those who want to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clone their dead childre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228600" y="18288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we will have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larger popul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4876920" y="1828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The challenge between …and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304920" y="5638680"/>
            <a:ext cx="384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ay produce a real-life monster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4805280" y="5486400"/>
            <a:ext cx="45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roduce valuable tissues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nd organs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blackboar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3429000" y="25909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2913"/>
                </a:solidFill>
                <a:latin typeface="Times New Roman"/>
              </a:rPr>
              <a:t>Homework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447920" y="342900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447920" y="3352680"/>
            <a:ext cx="662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295280" y="335268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 read the passage frequently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 underline the difficult sentences and phrases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background 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thank you 2"/>
          <p:cNvPicPr/>
          <p:nvPr/>
        </p:nvPicPr>
        <p:blipFill>
          <a:blip r:embed="rId2"/>
          <a:stretch/>
        </p:blipFill>
        <p:spPr>
          <a:xfrm>
            <a:off x="1595520" y="2486160"/>
            <a:ext cx="595296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29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230400" y="457200"/>
            <a:ext cx="487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Language Poin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64" name="Picture 3" descr="u=917403796,782631131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286000"/>
            <a:ext cx="5181480" cy="2895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u=2948648639,2603185893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548640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-7920" y="167040"/>
            <a:ext cx="889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1. on (the) one hand…on the other hand…: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used when you are comparing two different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facts or two opposite ways of thinking about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 situation: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…另一方面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…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-1440" y="3047040"/>
            <a:ext cx="885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On the one hand I'd like a job which pays more,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but on the other hand I enjoy the work I'm doing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123000" y="2198520"/>
            <a:ext cx="228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一方面我喜欢一份报酬更高的工作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另一方面我喜欢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现在我正在做的工作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27520" y="5104440"/>
            <a:ext cx="778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don’t want to go traveling. On one hand,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have no time; on the other hand, I have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no money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008880" y="4572000"/>
            <a:ext cx="28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不想去旅行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一方面我没有时间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另一方面我没有钱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1" name="Picture 7" descr="u=935845498,1014736886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080" y="5524560"/>
            <a:ext cx="12859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1163160" y="320040"/>
            <a:ext cx="36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2913"/>
                </a:solidFill>
                <a:latin typeface="Arial"/>
              </a:rPr>
              <a:t>有关</a:t>
            </a:r>
            <a:r>
              <a:rPr b="1" lang="zh-CN" sz="3600" spc="-1" strike="noStrike">
                <a:solidFill>
                  <a:srgbClr val="f92913"/>
                </a:solidFill>
                <a:latin typeface="Arial"/>
              </a:rPr>
              <a:t>hand</a:t>
            </a:r>
            <a:r>
              <a:rPr b="1" lang="zh-CN" sz="3600" spc="-1" strike="noStrike">
                <a:solidFill>
                  <a:srgbClr val="f92913"/>
                </a:solidFill>
                <a:latin typeface="Arial"/>
              </a:rPr>
              <a:t>的常用搭配</a:t>
            </a:r>
            <a:r>
              <a:rPr b="0" lang="zh-CN" sz="3600" spc="-1" strike="noStrike">
                <a:solidFill>
                  <a:srgbClr val="f92913"/>
                </a:solidFill>
                <a:latin typeface="Arial"/>
              </a:rPr>
              <a:t>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7080" y="746640"/>
            <a:ext cx="793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give sb. a hand 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：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help sb/lend (sb.) a han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                           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帮某人一个忙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369080" y="1675440"/>
            <a:ext cx="39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at hand 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在手边，近便；临近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890280" y="2285280"/>
            <a:ext cx="26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in hand 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手头上 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875880" y="2971080"/>
            <a:ext cx="22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by hand 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用手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876600" y="3580560"/>
            <a:ext cx="22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hand in  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上交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883800" y="4266360"/>
            <a:ext cx="26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hand out 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分发 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875160" y="4952160"/>
            <a:ext cx="25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hand over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移交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957240" y="5637960"/>
            <a:ext cx="30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hand down 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传下去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1" name="Picture 11" descr="u=3522188928,2517853496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3341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4001040" y="38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高考链接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23560" y="1065600"/>
            <a:ext cx="812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安徽）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If you’re driving to the airport. Can you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give me a ________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06960" y="2666160"/>
            <a:ext cx="65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A. hand   B. seat   C. drive   D. lif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5" name="Picture 5" descr="u=935845498,1014736886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5909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224280" y="3275640"/>
            <a:ext cx="857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 (2004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福建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It is certain that he will ____ his business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to his son when he gets old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608040" y="4952160"/>
            <a:ext cx="618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c0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take over         B. think over  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C. hand over      D. go ove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88" name="Picture 8" descr="u=935845498,1014736886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5410080"/>
            <a:ext cx="609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532800" y="42624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2. including: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625560" y="426240"/>
            <a:ext cx="19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prep.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包括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607320" y="1904040"/>
            <a:ext cx="703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here are five members in my family,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ncluding me/me included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325520" y="1360440"/>
            <a:ext cx="29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家有五口人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包括我在内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457200" y="3199680"/>
            <a:ext cx="24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interfere: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049560" y="3200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vi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503640" y="3656520"/>
            <a:ext cx="864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to prevent something from working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effectively or from developing successfully: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1223280" y="464724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干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干涉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727440" y="54856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她决定干预他们的讨论，他们不太喜欢。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03480" y="213480"/>
            <a:ext cx="794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She decided to </a:t>
            </a:r>
            <a:r>
              <a:rPr b="0" i="1" lang="zh-CN" sz="3200" spc="-1" strike="noStrike">
                <a:solidFill>
                  <a:srgbClr val="f92913"/>
                </a:solidFill>
                <a:latin typeface="Arial"/>
              </a:rPr>
              <a:t>interfere in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their discussion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and they didn't like it too much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771560" y="144720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不想打扰你了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你继续工作吧。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98000" y="1980360"/>
            <a:ext cx="77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I don't want to </a:t>
            </a:r>
            <a:r>
              <a:rPr b="0" i="1" lang="zh-CN" sz="3200" spc="-1" strike="noStrike">
                <a:solidFill>
                  <a:srgbClr val="f92913"/>
                </a:solidFill>
                <a:latin typeface="Arial"/>
              </a:rPr>
              <a:t>interfere with</a:t>
            </a: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 you; proceed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c0c"/>
                </a:solidFill>
                <a:latin typeface="Arial"/>
              </a:rPr>
              <a:t>with your work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2064240" y="3276000"/>
            <a:ext cx="27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他在为期末考试作准备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不要打扰他。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80160" y="3961440"/>
            <a:ext cx="728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Don't interfere with him. He's preparing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for the final exams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7315200" y="563868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5791320" y="5715000"/>
            <a:ext cx="838080" cy="762120"/>
          </a:xfrm>
          <a:custGeom>
            <a:avLst/>
            <a:gdLst>
              <a:gd name="textAreaLeft" fmla="*/ 258840 w 838080"/>
              <a:gd name="textAreaRight" fmla="*/ 579240 w 838080"/>
              <a:gd name="textAreaTop" fmla="*/ 291240 h 762120"/>
              <a:gd name="textAreaBottom" fmla="*/ 582120 h 762120"/>
            </a:gdLst>
            <a:ahLst/>
            <a:rect l="textAreaLeft" t="textAreaTop" r="textAreaRight" b="textAreaBottom"/>
            <a:pathLst>
              <a:path w="838200" h="762000">
                <a:moveTo>
                  <a:pt x="1" y="291057"/>
                </a:moveTo>
                <a:lnTo>
                  <a:pt x="320166" y="291059"/>
                </a:lnTo>
                <a:lnTo>
                  <a:pt x="419100" y="0"/>
                </a:lnTo>
                <a:lnTo>
                  <a:pt x="518034" y="291059"/>
                </a:lnTo>
                <a:lnTo>
                  <a:pt x="838199" y="291057"/>
                </a:lnTo>
                <a:lnTo>
                  <a:pt x="579179" y="470940"/>
                </a:lnTo>
                <a:lnTo>
                  <a:pt x="678118" y="761997"/>
                </a:lnTo>
                <a:lnTo>
                  <a:pt x="419100" y="582112"/>
                </a:lnTo>
                <a:lnTo>
                  <a:pt x="160082" y="761997"/>
                </a:lnTo>
                <a:lnTo>
                  <a:pt x="259021" y="47094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2743200" y="5791320"/>
            <a:ext cx="533520" cy="53316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160"/>
              <a:gd name="textAreaBottom" fmla="*/ 407520 h 53316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4343400" y="5715000"/>
            <a:ext cx="685800" cy="685800"/>
          </a:xfrm>
          <a:custGeom>
            <a:avLst/>
            <a:gdLst>
              <a:gd name="textAreaLeft" fmla="*/ 211680 w 685800"/>
              <a:gd name="textAreaRight" fmla="*/ 474120 w 685800"/>
              <a:gd name="textAreaTop" fmla="*/ 262080 h 685800"/>
              <a:gd name="textAreaBottom" fmla="*/ 524160 h 685800"/>
            </a:gdLst>
            <a:ahLst/>
            <a:rect l="textAreaLeft" t="textAreaTop" r="textAreaRight" b="textAreaBottom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4" y="685798"/>
                </a:lnTo>
                <a:lnTo>
                  <a:pt x="342900" y="523901"/>
                </a:lnTo>
                <a:lnTo>
                  <a:pt x="130976" y="685798"/>
                </a:lnTo>
                <a:lnTo>
                  <a:pt x="211926" y="4238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AutoShape 11"/>
          <p:cNvSpPr/>
          <p:nvPr/>
        </p:nvSpPr>
        <p:spPr>
          <a:xfrm>
            <a:off x="1143000" y="5867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60480" y="289440"/>
            <a:ext cx="703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4. on one’s /the way to (doing) sth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正在做某事的过程中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260000" y="1447200"/>
            <a:ext cx="28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他离成为一个导演不远了。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378720" y="2056680"/>
            <a:ext cx="74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e is on his way to becoming a director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3932640" y="281880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期终考试就要临近了，因此他学习更加刻苦了。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303840" y="3489840"/>
            <a:ext cx="785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he final examination is on the way, so he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s working harder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4404960" y="46476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正在去上学的路上，这时我偶然遇到了我的一位朋友。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225720" y="5333040"/>
            <a:ext cx="74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was on my way to school when I came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across a friend of mine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7696080" y="533520"/>
            <a:ext cx="762120" cy="6094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7924680" y="1523880"/>
            <a:ext cx="457200" cy="4572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7" name="AutoShape 11"/>
          <p:cNvSpPr/>
          <p:nvPr/>
        </p:nvSpPr>
        <p:spPr>
          <a:xfrm>
            <a:off x="6095880" y="990720"/>
            <a:ext cx="914400" cy="9144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图片1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380880" y="1512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zh-CN" sz="4400" spc="-1" strike="noStrike">
                <a:solidFill>
                  <a:srgbClr val="000099"/>
                </a:solidFill>
                <a:latin typeface="Verdana"/>
              </a:rPr>
              <a:t>Dolly</a:t>
            </a:r>
            <a:r>
              <a:rPr b="1" i="1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is together with her 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mother.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4" descr="克隆羊多利"/>
          <p:cNvPicPr/>
          <p:nvPr/>
        </p:nvPicPr>
        <p:blipFill>
          <a:blip r:embed="rId2"/>
          <a:stretch/>
        </p:blipFill>
        <p:spPr>
          <a:xfrm>
            <a:off x="1219320" y="1752480"/>
            <a:ext cx="6705360" cy="4548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1154520" y="244440"/>
            <a:ext cx="29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表示时间”临近”的短语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455760" y="914400"/>
            <a:ext cx="424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be approaching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be coming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be on the wa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be around the corne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be at han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519120" y="3504240"/>
            <a:ext cx="34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易混淆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way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介词短语：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5027400" y="4037760"/>
            <a:ext cx="37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in the way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防碍，挡道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1076040" y="4114080"/>
            <a:ext cx="30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by the way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顺便问一下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423360" y="4723560"/>
            <a:ext cx="43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in the family way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怀孕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653760" y="5409360"/>
            <a:ext cx="51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in this/that way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以这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那种方式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670680" y="6018840"/>
            <a:ext cx="43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76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in many ways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在许多方面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6705720" y="1752480"/>
            <a:ext cx="685800" cy="5335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6858000" y="1905120"/>
            <a:ext cx="685800" cy="53316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AutoShape 12"/>
          <p:cNvSpPr/>
          <p:nvPr/>
        </p:nvSpPr>
        <p:spPr>
          <a:xfrm>
            <a:off x="7010280" y="2057400"/>
            <a:ext cx="685800" cy="5335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7162920" y="2209680"/>
            <a:ext cx="685800" cy="5335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AutoShape 14"/>
          <p:cNvSpPr/>
          <p:nvPr/>
        </p:nvSpPr>
        <p:spPr>
          <a:xfrm>
            <a:off x="7315200" y="2362320"/>
            <a:ext cx="685800" cy="53316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229320" y="4564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5. normal: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436480" y="456120"/>
            <a:ext cx="632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dj. ordinary or usual; the sam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s would be expected: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正常的；常态的；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946240" y="2056680"/>
            <a:ext cx="30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n.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正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常态，正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550240" y="274248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一张票的正常价格是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230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英镑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760680" y="3580560"/>
            <a:ext cx="67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he normal price of a ticket is $230!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676080" y="5180760"/>
            <a:ext cx="705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With the help of PLA men, everything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as returned to normal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2804760" y="441972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在解放军的帮助下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一切都已经恢复了正常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8229600" y="1600200"/>
            <a:ext cx="685800" cy="5335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8229600" y="2819520"/>
            <a:ext cx="685800" cy="53316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AutoShape 11"/>
          <p:cNvSpPr/>
          <p:nvPr/>
        </p:nvSpPr>
        <p:spPr>
          <a:xfrm>
            <a:off x="8229600" y="4114800"/>
            <a:ext cx="685800" cy="533520"/>
          </a:xfrm>
          <a:custGeom>
            <a:avLst/>
            <a:gdLst>
              <a:gd name="textAreaLeft" fmla="*/ 282600 w 685800"/>
              <a:gd name="textAreaRight" fmla="*/ 403200 w 68580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228600" y="38016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6.  however: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972520" y="380160"/>
            <a:ext cx="1467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) adv.</a:t>
            </a:r>
            <a:br>
              <a:rPr sz="18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34480" y="989640"/>
            <a:ext cx="715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despite whatever amount or degree: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-4320" y="2270520"/>
            <a:ext cx="787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084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owever hungry I am, I never seem to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be able to finish off a whole pizza.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-1080" y="4632840"/>
            <a:ext cx="785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084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f Emma likes    something she'll buy it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however much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it costs.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373560" y="1752480"/>
            <a:ext cx="22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不管我多么饿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好象从来不能吃完一个比萨饼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1867680" y="3657600"/>
            <a:ext cx="477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如果爱玛喜欢什么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不管它要花多少钱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她都要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把它买下来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>
            <a:off x="3124080" y="4114800"/>
            <a:ext cx="1905120" cy="533520"/>
          </a:xfrm>
          <a:prstGeom prst="wedgeRectCallout">
            <a:avLst>
              <a:gd name="adj1" fmla="val -47000"/>
              <a:gd name="adj2" fmla="val 15862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whatever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381600" y="380160"/>
            <a:ext cx="146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) adv.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285280" y="380160"/>
            <a:ext cx="257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despite this: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-303840" y="1813680"/>
            <a:ext cx="888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084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his is one possible solution to the problem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owever, there are others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-382680" y="3566160"/>
            <a:ext cx="87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084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here may, however, be other reasons that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we don't know about.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3438360" y="1219320"/>
            <a:ext cx="27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这是这个难题的一个可能的解决方案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然而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还有其它的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539360" y="3048120"/>
            <a:ext cx="42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然而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可能还有其它的我们不知道的原因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645840" y="5104440"/>
            <a:ext cx="64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however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though, but, yet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的区别：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622520" y="-1080"/>
            <a:ext cx="600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however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作副词“可是，然而”时，放在句首，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用逗号隔开，也可以放在句中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but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意为“可是”，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连词，连接句子，其后不需加逗号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though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作副词“可是”时，既可放在句末，用逗号隔开，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也可以插在句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;yet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意为“可是”时，是连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作副词，意为：还。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27680" y="4114080"/>
            <a:ext cx="71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e was poor . He was happy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hough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66840" y="579024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was going to write, but I lost your address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970200" y="3352680"/>
            <a:ext cx="25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他贫穷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可是他很快乐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468080" y="5029200"/>
            <a:ext cx="40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本打算写信的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但我把你地址弄丢了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61" name="Picture 7" descr="u=4249976423,2419786511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0560" y="585792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451440" y="960840"/>
            <a:ext cx="774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上海）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_____, I have to put it away and focus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my attention on study this week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04480" y="609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考链接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06960" y="2589840"/>
            <a:ext cx="65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A. however the story is amusing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607320" y="3428280"/>
            <a:ext cx="68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B. No matter amusing the story is 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607320" y="4266360"/>
            <a:ext cx="65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C. However amusing the story is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681480" y="5104440"/>
            <a:ext cx="75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D. No matter how the story is amusing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68" name="Picture 8" descr="u=935845498,1014736886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114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u=478728147,273400169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0560" y="5962680"/>
            <a:ext cx="13334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228600" y="5324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7. consider: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3179160" y="53244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v. to think about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认为；考虑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38840" y="975240"/>
            <a:ext cx="862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) consider sb./sth. (to be)/as... :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think of... as.../think ...+to be +adj./n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662760" y="2132640"/>
            <a:ext cx="38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onsider it +n./adj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704160" y="2742480"/>
            <a:ext cx="31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onsider that..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762120" y="1295280"/>
            <a:ext cx="75960" cy="1828800"/>
          </a:xfrm>
          <a:custGeom>
            <a:avLst/>
            <a:gdLst>
              <a:gd name="textAreaLeft" fmla="*/ 48600 w 75960"/>
              <a:gd name="textAreaRight" fmla="*/ 76320 w 75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439920" y="36568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) consider (doing) sth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925920" y="4494960"/>
            <a:ext cx="53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onsider +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疑问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+ to do sth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762120" y="3962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434160" y="5866560"/>
            <a:ext cx="88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consider him (to be ) honest/as an honest boy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2880000" y="5257800"/>
            <a:ext cx="8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认为他是一个诚实的男孩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1" name="Picture 13" descr="u=4057681536,1659320441&amp;gp=1"/>
          <p:cNvPicPr/>
          <p:nvPr/>
        </p:nvPicPr>
        <p:blipFill>
          <a:blip r:embed="rId1"/>
          <a:stretch/>
        </p:blipFill>
        <p:spPr>
          <a:xfrm>
            <a:off x="7543800" y="4876920"/>
            <a:ext cx="136224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741240" y="11422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consider it honourable to be here with you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665280" y="2589840"/>
            <a:ext cx="79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hey consider that it would be a good idea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o clone humans some day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742320" y="4418640"/>
            <a:ext cx="57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am considering going abroad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380880" y="5790240"/>
            <a:ext cx="902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All things considered, you should put it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nto use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464280" y="45720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认为在这儿和你在一起是很荣幸的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4099320" y="205740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他们认为在将来的某一天克隆人类是个好主意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1294560" y="380988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正在考虑出国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2240640" y="5181480"/>
            <a:ext cx="29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一切都考虑了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你应该把它投入使用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90" name="Picture 10" descr="u=197708327,487571810&amp;gp=0"/>
          <p:cNvPicPr/>
          <p:nvPr/>
        </p:nvPicPr>
        <p:blipFill>
          <a:blip r:embed="rId1"/>
          <a:stretch/>
        </p:blipFill>
        <p:spPr>
          <a:xfrm>
            <a:off x="7810560" y="585792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589680" y="114192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e is considering how to deal with the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old books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1568880" y="60948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他正在考虑怎样处理这些旧书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08400" y="228528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n.  consideration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435240" y="3656520"/>
            <a:ext cx="769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Before you carry out the plan, you should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92913"/>
                </a:solidFill>
                <a:latin typeface="Arial"/>
              </a:rPr>
              <a:t>take 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everything </a:t>
            </a:r>
            <a:r>
              <a:rPr b="0" i="1" lang="zh-CN" sz="3200" spc="-1" strike="noStrike">
                <a:solidFill>
                  <a:srgbClr val="f92913"/>
                </a:solidFill>
                <a:latin typeface="Arial"/>
              </a:rPr>
              <a:t>into consideration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2337120" y="3048120"/>
            <a:ext cx="31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在你执行这个计划之前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你应该考虑一切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608400" y="4875840"/>
            <a:ext cx="39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dj.  considerable :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586080" y="56379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 large amount of.../ worth considering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98" name="Picture 9" descr="u=3270217442,3053558684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0560" y="585792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4680" y="97524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o learn languages requires considerate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amount of tim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79800" y="2818440"/>
            <a:ext cx="57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What you said is considerabl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58920" y="3427920"/>
            <a:ext cx="715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dj. considerate : It is speaking of a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person and their characteristics.  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体贴的，考虑周到的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1350720" y="457200"/>
            <a:ext cx="27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学习语言需要大量的时间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36520" y="2133720"/>
            <a:ext cx="23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你所说的值得考虑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58920" y="5561640"/>
            <a:ext cx="78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We should always be considerate towards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others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1203120" y="518148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们应该总是考虑他人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06" name="Picture 9" descr="u=496013335,3866062383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05920" y="5638680"/>
            <a:ext cx="838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571728_189824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226800" y="532440"/>
            <a:ext cx="33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8. even though 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1617120" y="1218240"/>
            <a:ext cx="47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=even if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即使；引导让步状语从句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684360" y="2742120"/>
            <a:ext cx="699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Even though he has made a mistake,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you should forgive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554480" y="205740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即使他犯了错误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你也应该原谅他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1758240" y="400752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与相关几个词或短语的区别：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960840" y="4723560"/>
            <a:ext cx="643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eve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甚至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; ever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曾经，无论何时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even so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即使如此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; as though/if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好象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3" name="Picture 8" descr="u=2692492474,3799471069&amp;gp=1"/>
          <p:cNvPicPr/>
          <p:nvPr/>
        </p:nvPicPr>
        <p:blipFill>
          <a:blip r:embed="rId1"/>
          <a:stretch/>
        </p:blipFill>
        <p:spPr>
          <a:xfrm>
            <a:off x="8153280" y="5533920"/>
            <a:ext cx="9907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914760" y="134064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Even now it is not too late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840240" y="289476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Have you ever been to London? 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912600" y="4418640"/>
            <a:ext cx="67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t's raining. Even so, we must set off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912600" y="5942880"/>
            <a:ext cx="67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She spoke to me as if she knew me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1518480" y="6094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甚至现在也不太晚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1376640" y="2133720"/>
            <a:ext cx="17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你去过伦敦吗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925640" y="3733920"/>
            <a:ext cx="40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正下着雨呢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即使如此我们也必须出发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006720" y="525780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她和我说话就好象认识我一样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2" name="Picture 10" descr="u=900039057,3148517832&amp;gp=0"/>
          <p:cNvPicPr/>
          <p:nvPr/>
        </p:nvPicPr>
        <p:blipFill>
          <a:blip r:embed="rId1"/>
          <a:stretch/>
        </p:blipFill>
        <p:spPr>
          <a:xfrm>
            <a:off x="7810560" y="552456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33120" y="1141920"/>
            <a:ext cx="847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 marL="343080" indent="-343080">
              <a:buClr>
                <a:srgbClr val="000c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(2005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辽宁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There was never any time for Kate to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feel lonely, ___ she was an only child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3957120" y="304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考链接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650160" y="2666160"/>
            <a:ext cx="623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 marL="343080" indent="-343080">
              <a:buClr>
                <a:srgbClr val="000c0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ever since        B. now that 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C. even though   D. even as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6" name="Picture 5" descr="u=935845498,1014736886&amp;gp=1"/>
          <p:cNvPicPr/>
          <p:nvPr/>
        </p:nvPicPr>
        <p:blipFill>
          <a:blip r:embed="rId1"/>
          <a:stretch/>
        </p:blipFill>
        <p:spPr>
          <a:xfrm>
            <a:off x="533520" y="30481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380880" y="3732840"/>
            <a:ext cx="1821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 (2005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湖南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Allow children the space to voice thei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opinions, ___ they are different from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your own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527400" y="5866560"/>
            <a:ext cx="86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A. until   B. even if   C. unless   D. as though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9" name="Picture 8" descr="u=935845498,1014736886&amp;gp=1"/>
          <p:cNvPicPr/>
          <p:nvPr/>
        </p:nvPicPr>
        <p:blipFill>
          <a:blip r:embed="rId2"/>
          <a:stretch/>
        </p:blipFill>
        <p:spPr>
          <a:xfrm>
            <a:off x="1981080" y="5791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304920" y="45648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9. anxiety :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323440" y="456120"/>
            <a:ext cx="563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lphaL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to be excited and also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worried at the same tim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忧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焦急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渴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热望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606960" y="2728080"/>
            <a:ext cx="709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e was waiting for his brother's return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9999"/>
                </a:solidFill>
                <a:latin typeface="Arial"/>
              </a:rPr>
              <a:t>with anxiety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606960" y="4556880"/>
            <a:ext cx="709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er mother's anxiety was apparent to ‘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everyone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1045080" y="5790240"/>
            <a:ext cx="57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anxiety for knowledge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求知的渴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1492560" y="220968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他焦虑地等待着他弟弟的归来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1782360" y="4038480"/>
            <a:ext cx="37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对每个人来说，他母亲的焦急很明显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7" name="Picture 9" descr="u=1655959814,4003515123&amp;gp=0"/>
          <p:cNvPicPr/>
          <p:nvPr/>
        </p:nvPicPr>
        <p:blipFill>
          <a:blip r:embed="rId1"/>
          <a:stretch/>
        </p:blipFill>
        <p:spPr>
          <a:xfrm>
            <a:off x="8077320" y="5533920"/>
            <a:ext cx="10666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494640" y="365760"/>
            <a:ext cx="807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dj.  anxious : worried or excited about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something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担忧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渴望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盼望的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52520" y="137052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be anxious to do sth.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渴望做…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be anxious for/about sth.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对…担心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46440" y="2513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他很想去参加比赛。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303120" y="3047040"/>
            <a:ext cx="77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e is anxious to enter for the competition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951480" y="3733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他担心她的安全。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02400" y="4342680"/>
            <a:ext cx="57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He was anxious for her safety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379080" y="5866560"/>
            <a:ext cx="789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We are anxious that he (should) do his bit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2016360" y="518148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们渴望他尽一份力量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726840" y="60876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adv.  anxiously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忧虑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安地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78360" y="198036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She is waiting for her son’s return anxiously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340280" y="137160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她焦虑地等待着她儿子的归来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909000" y="2666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考链接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01680" y="3656520"/>
            <a:ext cx="77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67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浙江）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67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My mother always gets a bit ___ if we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67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don’t arrive when we say we will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446400" y="5333040"/>
            <a:ext cx="541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67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A. anxious     B. ashamed  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1467000"/>
                <a:tab algn="l" pos="2666880"/>
                <a:tab algn="l" pos="3867120"/>
                <a:tab algn="l" pos="4867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C. weak          D. patien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2" name="Picture 8" descr="u=935845498,1014736886&amp;gp=1"/>
          <p:cNvPicPr/>
          <p:nvPr/>
        </p:nvPicPr>
        <p:blipFill>
          <a:blip r:embed="rId1"/>
          <a:stretch/>
        </p:blipFill>
        <p:spPr>
          <a:xfrm>
            <a:off x="380880" y="5257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510120" y="532440"/>
            <a:ext cx="70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10. while : conj.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) though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尽管，虽然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934440" y="1370880"/>
            <a:ext cx="38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) when/as  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时候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3772440" y="2132640"/>
            <a:ext cx="12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)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而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2670840" y="266616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n.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一会儿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时间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2358720" y="3428280"/>
            <a:ext cx="37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v.   to kill time   </a:t>
            </a:r>
            <a:r>
              <a:rPr b="1" lang="zh-CN" sz="3200" spc="-1" strike="noStrike">
                <a:solidFill>
                  <a:srgbClr val="f92913"/>
                </a:solidFill>
                <a:latin typeface="Arial"/>
              </a:rPr>
              <a:t>消磨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2057400" y="762120"/>
            <a:ext cx="304920" cy="3047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3581280" y="8380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565200" y="4861440"/>
            <a:ext cx="627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While I understand what you say,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can't agree with you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1762920" y="419112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虽然我理解你所说的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但我不同意你的观点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565920" y="989640"/>
            <a:ext cx="57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met her while I was at school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87800" y="2361240"/>
            <a:ext cx="84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Mother was cooking while I was watching TV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1099440" y="312336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偶尔给她写信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410760" y="5485680"/>
            <a:ext cx="90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i="1" lang="zh-CN" sz="3200" spc="-1" strike="noStrike">
                <a:solidFill>
                  <a:srgbClr val="f92913"/>
                </a:solidFill>
                <a:latin typeface="Arial"/>
              </a:rPr>
              <a:t>while away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many afternoons on the beach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1137240" y="380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我上学时遇到了她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1350720" y="1752480"/>
            <a:ext cx="27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母亲在做饭而我早看电视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686160" y="3886200"/>
            <a:ext cx="53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I write to her </a:t>
            </a:r>
            <a:r>
              <a:rPr b="0" i="1" lang="zh-CN" sz="3200" spc="-1" strike="noStrike">
                <a:solidFill>
                  <a:srgbClr val="f92913"/>
                </a:solidFill>
                <a:latin typeface="Arial"/>
              </a:rPr>
              <a:t>once in a while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1487880" y="4724280"/>
            <a:ext cx="33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他们在海滩上消磨了许多个下午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648320" y="3276720"/>
            <a:ext cx="1447560" cy="609480"/>
          </a:xfrm>
          <a:prstGeom prst="wedgeEllipseCallout">
            <a:avLst>
              <a:gd name="adj1" fmla="val -40791"/>
              <a:gd name="adj2" fmla="val 8255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偶尔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2362320" y="6172200"/>
            <a:ext cx="1676160" cy="685800"/>
          </a:xfrm>
          <a:prstGeom prst="wedgeEllipseCallout">
            <a:avLst>
              <a:gd name="adj1" fmla="val -16666"/>
              <a:gd name="adj2" fmla="val -8773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Rectangle 12"/>
          <p:cNvSpPr/>
          <p:nvPr/>
        </p:nvSpPr>
        <p:spPr>
          <a:xfrm>
            <a:off x="2836440" y="6194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消磨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410940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考链接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-347040" y="595800"/>
            <a:ext cx="935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c0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(2004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广西）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I do every single bit of housework ___ my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husband Bob just does the dishes now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and then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302040" y="2666160"/>
            <a:ext cx="68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A. since   B. while   C. when   D. a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6" name="Picture 5" descr="u=935845498,1014736886&amp;gp=1"/>
          <p:cNvPicPr/>
          <p:nvPr/>
        </p:nvPicPr>
        <p:blipFill>
          <a:blip r:embed="rId1"/>
          <a:stretch/>
        </p:blipFill>
        <p:spPr>
          <a:xfrm>
            <a:off x="2057400" y="25909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6"/>
          <p:cNvSpPr/>
          <p:nvPr/>
        </p:nvSpPr>
        <p:spPr>
          <a:xfrm>
            <a:off x="-5760" y="3427920"/>
            <a:ext cx="89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006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全国）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We thought there were 35 students in the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dining hall, ___, in fact, there were 40.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604080" y="502848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A. while   B. whether   C. what   D. which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9" name="Picture 8" descr="u=935845498,1014736886&amp;gp=1"/>
          <p:cNvPicPr/>
          <p:nvPr/>
        </p:nvPicPr>
        <p:blipFill>
          <a:blip r:embed="rId2"/>
          <a:stretch/>
        </p:blipFill>
        <p:spPr>
          <a:xfrm>
            <a:off x="533520" y="49528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u=4002405728,1327764186&amp;gp=2"/>
          <p:cNvPicPr/>
          <p:nvPr/>
        </p:nvPicPr>
        <p:blipFill>
          <a:blip r:embed="rId1"/>
          <a:stretch/>
        </p:blipFill>
        <p:spPr>
          <a:xfrm>
            <a:off x="5562720" y="4114800"/>
            <a:ext cx="1981080" cy="2743200"/>
          </a:xfrm>
          <a:prstGeom prst="rect">
            <a:avLst/>
          </a:prstGeom>
          <a:ln w="0">
            <a:noFill/>
          </a:ln>
        </p:spPr>
      </p:pic>
      <p:sp>
        <p:nvSpPr>
          <p:cNvPr id="481" name="WordArt 3"/>
          <p:cNvSpPr txBox="1"/>
          <p:nvPr/>
        </p:nvSpPr>
        <p:spPr>
          <a:xfrm>
            <a:off x="1600200" y="990720"/>
            <a:ext cx="6400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od bye!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zhu"/>
          <p:cNvPicPr/>
          <p:nvPr/>
        </p:nvPicPr>
        <p:blipFill>
          <a:blip r:embed="rId1"/>
          <a:stretch/>
        </p:blipFill>
        <p:spPr>
          <a:xfrm>
            <a:off x="1143000" y="838080"/>
            <a:ext cx="6553080" cy="4724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Ke22223322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t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ren"/>
          <p:cNvPicPr/>
          <p:nvPr/>
        </p:nvPicPr>
        <p:blipFill>
          <a:blip r:embed="rId1"/>
          <a:stretch/>
        </p:blipFill>
        <p:spPr>
          <a:xfrm>
            <a:off x="1143000" y="144792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"/>
          <p:cNvSpPr txBox="1"/>
          <p:nvPr/>
        </p:nvSpPr>
        <p:spPr>
          <a:xfrm>
            <a:off x="3429000" y="5334120"/>
            <a:ext cx="12193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???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228600"/>
            <a:ext cx="876312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方正姚体"/>
                <a:ea typeface="方正姚体"/>
              </a:rPr>
              <a:t>Can the scientists clone the human beings?</a:t>
            </a:r>
            <a:r>
              <a:rPr b="1" lang="zh-CN" sz="3200" spc="-1" strike="noStrike">
                <a:solidFill>
                  <a:srgbClr val="000099"/>
                </a:solidFill>
                <a:latin typeface="方正姚体"/>
                <a:ea typeface="方正姚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3960"/>
            <a:ext cx="487044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2913"/>
                </a:solidFill>
                <a:latin typeface="Arial"/>
              </a:rPr>
              <a:t>Fast Reading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52280" y="838080"/>
            <a:ext cx="9220320" cy="4529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What is cloning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Who cloned the first mammal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Do people all over the world approve cloning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-299880" y="327672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99"/>
                </a:solidFill>
                <a:latin typeface="Arial"/>
              </a:rPr>
              <a:t>Ian Wilmu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04920" y="1447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99"/>
                </a:solidFill>
                <a:latin typeface="Arial"/>
              </a:rPr>
              <a:t>Cloning is producing an exact copy to a plant or an animal using its cells.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6320" y="5334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99"/>
                </a:solidFill>
                <a:latin typeface="Arial"/>
              </a:rPr>
              <a:t>No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50" name="Picture 7" descr="图片5"/>
          <p:cNvPicPr/>
          <p:nvPr/>
        </p:nvPicPr>
        <p:blipFill>
          <a:blip r:embed="rId1"/>
          <a:stretch/>
        </p:blipFill>
        <p:spPr>
          <a:xfrm>
            <a:off x="5105520" y="480060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0-05T13:31:31Z</dcterms:modified>
  <cp:revision>1</cp:revision>
  <dc:subject/>
  <dc:title>幻灯片 1</dc:title>
</cp:coreProperties>
</file>