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C61-22A3-4F48-92C8-90528613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7888-670E-4E95-9026-D73A68EE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51F1-5090-4214-9AD9-4BFD325D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3F2-6971-4682-9D81-E9FAF0D3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E575-38BD-4B73-AFDB-1CB36AD5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A587-980D-49A3-90AA-F741645D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FC18-7914-4408-9AAA-2E93D70F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8288-350F-4723-B76D-CBFD6C17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A055-9C83-47FE-AA11-2FE1D3C9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1DB2-F84B-420A-979D-3B8DF14B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A0F1-79B4-4BF2-BE33-E263E6E2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A1B-82C0-4DBA-A93E-8F18211D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88E8-E347-44A6-810E-DAA28CFD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3B9A-6865-4788-95E4-A0298971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2BD7-607A-4384-B654-F9D8AE51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6893-94E1-4D3B-9511-1B9DC19C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4F99-C043-46BF-943C-4E13E9E0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013-2840-4395-883E-05BE0DD8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A28-4EF6-438C-90DF-62C1AC36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524-0EC5-4A06-8E4B-D545CF97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D488-C74E-46BB-815C-D28B1F89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9A1-EC1C-4743-850E-4357CDE0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B5C-4FFD-4D68-8C08-492BD806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2B4A-EF36-4CEC-B8F9-889D40CF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1FA6-CBC1-47F0-AE83-7D8E36265E0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D37C-DCF7-4218-A81F-250BB6F2DB1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589017151&amp;tn=baiduimagedetail&amp;word=&#27426;&#36814;&amp;in=18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619670652&amp;tn=baiduimagedetail&amp;word=&#26641;&amp;in=289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832449651&amp;tn=baiduimagedetail&amp;word=&#26641;&amp;in=305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99232001&amp;tn=baiduimagedetail&amp;word=&#33655;&#33457;&amp;in=77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41100853&amp;tn=baiduimagedetail&amp;word=&#35821;&#27861;&amp;in=6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039507300&amp;tn=baiduimagedetail&amp;word=&#26757;&#33457;&amp;in=53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608673002&amp;tn=baiduimagedetail&amp;word=&#26641;&amp;in=379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7510053&amp;tn=baiduimagedetail&amp;word=&#26641;&amp;in=429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60825903&amp;tn=baiduimagedetail&amp;word=&#26641;&amp;in=453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223337153&amp;tn=baiduimagedetail&amp;word=&#26641;&amp;in=469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59415450&amp;tn=baiduimagedetail&amp;word=&#35821;&#27861;&amp;in=9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844156103&amp;tn=baiduimagedetail&amp;word=&#26691;&#33457;&amp;in=7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.baidu.com/i?ct=503316480&amp;z=472536753&amp;tn=baiduimagedetail&amp;word=&#26641;&amp;in=266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mage.baidu.com/i?ct=503316480&amp;z=472536753&amp;tn=baiduimagedetail&amp;word=&#26641;&amp;in=266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.baidu.com/i?ct=503316480&amp;z=472536753&amp;tn=baiduimagedetail&amp;word=&#26641;&amp;in=266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mage.baidu.com/i?ct=503316480&amp;z=472536753&amp;tn=baiduimagedetail&amp;word=&#26641;&amp;in=266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.baidu.com/i?ct=503316480&amp;z=472536753&amp;tn=baiduimagedetail&amp;word=&#26641;&amp;in=266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02485252&amp;tn=baiduimagedetail&amp;word=&#26641;&amp;in=10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.baidu.com/i?ct=503316480&amp;z=472536753&amp;tn=baiduimagedetail&amp;word=&#26641;&amp;in=266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.baidu.com/i?ct=503316480&amp;z=472536753&amp;tn=baiduimagedetail&amp;word=&#26641;&amp;in=266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02485252&amp;tn=baiduimagedetail&amp;word=&#26641;&amp;in=10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.baidu.com/i?ct=503316480&amp;z=472536753&amp;tn=baiduimagedetail&amp;word=&#26641;&amp;in=266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.baidu.com/i?ct=503316480&amp;z=472536753&amp;tn=baiduimagedetail&amp;word=&#26641;&amp;in=266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02485252&amp;tn=baiduimagedetail&amp;word=&#26641;&amp;in=10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.baidu.com/i?ct=503316480&amp;z=472536753&amp;tn=baiduimagedetail&amp;word=&#26641;&amp;in=266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.baidu.com/i?ct=503316480&amp;z=472536753&amp;tn=baiduimagedetail&amp;word=&#26641;&amp;in=266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02485252&amp;tn=baiduimagedetail&amp;word=&#26641;&amp;in=10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.baidu.com/i?ct=503316480&amp;z=472536753&amp;tn=baiduimagedetail&amp;word=&#26641;&amp;in=266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.baidu.com/i?ct=503316480&amp;z=472536753&amp;tn=baiduimagedetail&amp;word=&#26641;&amp;in=266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02485252&amp;tn=baiduimagedetail&amp;word=&#26641;&amp;in=10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.baidu.com/i?ct=503316480&amp;z=472536753&amp;tn=baiduimagedetail&amp;word=&#26641;&amp;in=266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.baidu.com/i?ct=503316480&amp;z=472536753&amp;tn=baiduimagedetail&amp;word=&#26641;&amp;in=266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02485252&amp;tn=baiduimagedetail&amp;word=&#26641;&amp;in=10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.baidu.com/i?ct=503316480&amp;z=472536753&amp;tn=baiduimagedetail&amp;word=&#26641;&amp;in=266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.baidu.com/i?ct=503316480&amp;z=472536753&amp;tn=baiduimagedetail&amp;word=&#26641;&amp;in=266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02485252&amp;tn=baiduimagedetail&amp;word=&#26641;&amp;in=10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.baidu.com/i?ct=503316480&amp;z=472536753&amp;tn=baiduimagedetail&amp;word=&#26641;&amp;in=266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.baidu.com/i?ct=503316480&amp;z=472536753&amp;tn=baiduimagedetail&amp;word=&#26641;&amp;in=266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02485252&amp;tn=baiduimagedetail&amp;word=&#26641;&amp;in=10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.baidu.com/i?ct=503316480&amp;z=472536753&amp;tn=baiduimagedetail&amp;word=&#26641;&amp;in=266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.baidu.com/i?ct=503316480&amp;z=472536753&amp;tn=baiduimagedetail&amp;word=&#26641;&amp;in=266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02485252&amp;tn=baiduimagedetail&amp;word=&#26641;&amp;in=10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.baidu.com/i?ct=503316480&amp;z=472536753&amp;tn=baiduimagedetail&amp;word=&#26641;&amp;in=266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.baidu.com/i?ct=503316480&amp;z=472536753&amp;tn=baiduimagedetail&amp;word=&#26641;&amp;in=266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02485252&amp;tn=baiduimagedetail&amp;word=&#26641;&amp;in=10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.baidu.com/i?ct=503316480&amp;z=472536753&amp;tn=baiduimagedetail&amp;word=&#26641;&amp;in=266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.baidu.com/i?ct=503316480&amp;z=472536753&amp;tn=baiduimagedetail&amp;word=&#26641;&amp;in=266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02485252&amp;tn=baiduimagedetail&amp;word=&#26641;&amp;in=10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.baidu.com/i?ct=503316480&amp;z=472536753&amp;tn=baiduimagedetail&amp;word=&#26641;&amp;in=266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.baidu.com/i?ct=503316480&amp;z=472536753&amp;tn=baiduimagedetail&amp;word=&#26641;&amp;in=266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02485252&amp;tn=baiduimagedetail&amp;word=&#26641;&amp;in=10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.baidu.com/i?ct=503316480&amp;z=472536753&amp;tn=baiduimagedetail&amp;word=&#26641;&amp;in=266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.baidu.com/i?ct=503316480&amp;z=472536753&amp;tn=baiduimagedetail&amp;word=&#26641;&amp;in=266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72536753&amp;tn=baiduimagedetail&amp;word=&#26641;&amp;in=266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.baidu.com/i?ct=503316480&amp;z=472536753&amp;tn=baiduimagedetail&amp;word=&#26641;&amp;in=266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.baidu.com/i?ct=503316480&amp;z=402485252&amp;tn=baiduimagedetail&amp;word=&#26641;&amp;in=10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02485252&amp;tn=baiduimagedetail&amp;word=&#26641;&amp;in=1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02485252&amp;tn=baiduimagedetail&amp;word=&#26641;&amp;in=1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02485252&amp;tn=baiduimagedetail&amp;word=&#26641;&amp;in=1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264035201&amp;tn=baiduimagedetail&amp;word=&#34676;&#34678;&amp;in=80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303383053&amp;tn=baiduimagedetail&amp;word=&#34676;&#34678;&amp;in=107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020306602&amp;tn=baiduimagedetail&amp;word=&#34676;&#34678;&amp;in=110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168266353&amp;tn=baiduimagedetail&amp;word=&#34676;&#34678;&amp;in=105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43888752&amp;tn=baiduimagedetail&amp;word=&#34676;&#34678;&amp;in=108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72536753&amp;tn=baiduimagedetail&amp;word=&#26641;&amp;in=266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752480" y="1295280"/>
            <a:ext cx="6172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Welcom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50" name="Picture 3" descr="u=2447041936,1721389237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3657600"/>
            <a:ext cx="2743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25000" y="303840"/>
            <a:ext cx="781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The verb-ed form can express differ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meanings, that is, </a:t>
            </a: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the passive and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past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meaning.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80520" y="1950480"/>
            <a:ext cx="8297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nglish is a widely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i="1" lang="zh-CN" sz="3600" spc="-1" strike="noStrike">
                <a:solidFill>
                  <a:srgbClr val="ff3399"/>
                </a:solidFill>
                <a:latin typeface="Arial"/>
              </a:rPr>
              <a:t>us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langu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English is a language </a:t>
            </a:r>
            <a:r>
              <a:rPr b="0" i="1" lang="zh-CN" sz="3200" spc="-1" strike="noStrike">
                <a:solidFill>
                  <a:srgbClr val="ff3399"/>
                </a:solidFill>
                <a:latin typeface="Arial"/>
              </a:rPr>
              <a:t>which is us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wid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67360" y="3275640"/>
            <a:ext cx="8579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 always wears thick glasses and hold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ok in his hand, which makes his neighbo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nk he is a</a:t>
            </a:r>
            <a:r>
              <a:rPr b="0" i="1" lang="zh-CN" sz="3200" spc="-1" strike="noStrike">
                <a:solidFill>
                  <a:srgbClr val="ff3399"/>
                </a:solidFill>
                <a:latin typeface="Arial"/>
              </a:rPr>
              <a:t> well-educat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He always wears thick glasses and hold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ok in his hand, which makes his neighbo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nk he is a man </a:t>
            </a:r>
            <a:r>
              <a:rPr b="0" i="1" lang="zh-CN" sz="3200" spc="-1" strike="noStrike">
                <a:solidFill>
                  <a:srgbClr val="ff3399"/>
                </a:solidFill>
                <a:latin typeface="Arial"/>
              </a:rPr>
              <a:t>who is well-educat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304920" y="2286000"/>
            <a:ext cx="380880" cy="1371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-7560" y="2512800"/>
            <a:ext cx="667800" cy="15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pa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u=4095213649,1446407605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05920" y="5715000"/>
            <a:ext cx="838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835200" y="761040"/>
            <a:ext cx="784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ground is covered with </a:t>
            </a:r>
            <a:r>
              <a:rPr b="0" i="1" lang="zh-CN" sz="3200" spc="-1" strike="noStrike">
                <a:solidFill>
                  <a:srgbClr val="ff3399"/>
                </a:solidFill>
                <a:latin typeface="Arial"/>
              </a:rPr>
              <a:t>fallen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ea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en autumn wind b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The ground is covered with leaves </a:t>
            </a:r>
            <a:r>
              <a:rPr b="0" i="1" lang="zh-CN" sz="3200" spc="-1" strike="noStrike">
                <a:solidFill>
                  <a:srgbClr val="ff3399"/>
                </a:solidFill>
                <a:latin typeface="Arial"/>
              </a:rPr>
              <a:t>wh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99"/>
                </a:solidFill>
                <a:latin typeface="Arial"/>
              </a:rPr>
              <a:t>have fall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when autumn wind blow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761040" y="3427920"/>
            <a:ext cx="7823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ome countries like the USA and Jap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i="1" lang="zh-CN" sz="3200" spc="-1" strike="noStrike">
                <a:solidFill>
                  <a:srgbClr val="ff3399"/>
                </a:solidFill>
                <a:latin typeface="Arial"/>
              </a:rPr>
              <a:t>develop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Some countries like the USA and Jap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re countries </a:t>
            </a:r>
            <a:r>
              <a:rPr b="0" i="1" lang="zh-CN" sz="3200" spc="-1" strike="noStrike">
                <a:solidFill>
                  <a:srgbClr val="ff3399"/>
                </a:solidFill>
                <a:latin typeface="Arial"/>
              </a:rPr>
              <a:t>which have develop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609480" y="1066680"/>
            <a:ext cx="228600" cy="2667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24200" y="2238120"/>
            <a:ext cx="66780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u=654818646,3757401639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48640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234880" y="1827720"/>
            <a:ext cx="432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作定语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去分词做定语与其修饰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间是动宾关系或过去分词表示的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完成；现在分词作定语表示动作正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生，与修饰词是主谓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u=833802299,3362744874&amp;gp=3"/>
          <p:cNvPicPr/>
          <p:nvPr/>
        </p:nvPicPr>
        <p:blipFill>
          <a:blip r:embed="rId1"/>
          <a:stretch/>
        </p:blipFill>
        <p:spPr>
          <a:xfrm>
            <a:off x="7543800" y="4800600"/>
            <a:ext cx="1600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13716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picture hanging on the wall is pa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y my neph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27440" y="12182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building being built is a hos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1827720"/>
            <a:ext cx="1024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flowers smelling sweet in the botan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arden attract the visitors to the beauty of nature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2970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inda worked for the Minnesota Manufactu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d Mining Company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now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 3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4218480"/>
            <a:ext cx="899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key to solving the problem is to meet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mand made by the custom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0" y="5409360"/>
            <a:ext cx="815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rices of daily goods bought through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mputer can be lower than store pri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u=2225442251,1743463685&amp;gp=0"/>
          <p:cNvPicPr/>
          <p:nvPr/>
        </p:nvPicPr>
        <p:blipFill>
          <a:blip r:embed="rId1"/>
          <a:stretch/>
        </p:blipFill>
        <p:spPr>
          <a:xfrm>
            <a:off x="7873920" y="5803920"/>
            <a:ext cx="127008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473480" y="442080"/>
            <a:ext cx="533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便于记忆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-ed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形式和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-ing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形式作表语及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定语时的区别的句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784800" y="1904040"/>
            <a:ext cx="70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 am interested in the interesting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83360" y="2666160"/>
            <a:ext cx="67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He was excited at the exciting n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708120" y="3351960"/>
            <a:ext cx="69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he parents were disappointed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heir disappointing 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09840" y="4494960"/>
            <a:ext cx="720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r. Smith, tired of the boring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peec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tarted to read a no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228600" y="2057400"/>
            <a:ext cx="457200" cy="457200"/>
          </a:xfrm>
          <a:custGeom>
            <a:avLst/>
            <a:gdLst>
              <a:gd name="textAreaLeft" fmla="*/ 198360 w 457200"/>
              <a:gd name="textAreaRight" fmla="*/ 258840 w 457200"/>
              <a:gd name="textAreaTop" fmla="*/ 198360 h 457200"/>
              <a:gd name="textAreaBottom" fmla="*/ 2588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375" y="9375"/>
                </a:lnTo>
                <a:lnTo>
                  <a:pt x="10800" y="0"/>
                </a:lnTo>
                <a:lnTo>
                  <a:pt x="12225" y="9375"/>
                </a:lnTo>
                <a:lnTo>
                  <a:pt x="21600" y="10800"/>
                </a:lnTo>
                <a:lnTo>
                  <a:pt x="12225" y="12225"/>
                </a:lnTo>
                <a:lnTo>
                  <a:pt x="10800" y="21600"/>
                </a:lnTo>
                <a:lnTo>
                  <a:pt x="9375" y="12225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228600" y="2743200"/>
            <a:ext cx="457200" cy="457200"/>
          </a:xfrm>
          <a:custGeom>
            <a:avLst/>
            <a:gdLst>
              <a:gd name="textAreaLeft" fmla="*/ 198360 w 457200"/>
              <a:gd name="textAreaRight" fmla="*/ 258840 w 457200"/>
              <a:gd name="textAreaTop" fmla="*/ 198360 h 457200"/>
              <a:gd name="textAreaBottom" fmla="*/ 2588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375" y="9375"/>
                </a:lnTo>
                <a:lnTo>
                  <a:pt x="10800" y="0"/>
                </a:lnTo>
                <a:lnTo>
                  <a:pt x="12225" y="9375"/>
                </a:lnTo>
                <a:lnTo>
                  <a:pt x="21600" y="10800"/>
                </a:lnTo>
                <a:lnTo>
                  <a:pt x="12225" y="12225"/>
                </a:lnTo>
                <a:lnTo>
                  <a:pt x="10800" y="21600"/>
                </a:lnTo>
                <a:lnTo>
                  <a:pt x="9375" y="12225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9"/>
          <p:cNvSpPr/>
          <p:nvPr/>
        </p:nvSpPr>
        <p:spPr>
          <a:xfrm>
            <a:off x="228600" y="3429000"/>
            <a:ext cx="457200" cy="457200"/>
          </a:xfrm>
          <a:custGeom>
            <a:avLst/>
            <a:gdLst>
              <a:gd name="textAreaLeft" fmla="*/ 198360 w 457200"/>
              <a:gd name="textAreaRight" fmla="*/ 258840 w 457200"/>
              <a:gd name="textAreaTop" fmla="*/ 198360 h 457200"/>
              <a:gd name="textAreaBottom" fmla="*/ 2588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375" y="9375"/>
                </a:lnTo>
                <a:lnTo>
                  <a:pt x="10800" y="0"/>
                </a:lnTo>
                <a:lnTo>
                  <a:pt x="12225" y="9375"/>
                </a:lnTo>
                <a:lnTo>
                  <a:pt x="21600" y="10800"/>
                </a:lnTo>
                <a:lnTo>
                  <a:pt x="12225" y="12225"/>
                </a:lnTo>
                <a:lnTo>
                  <a:pt x="10800" y="21600"/>
                </a:lnTo>
                <a:lnTo>
                  <a:pt x="9375" y="12225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228600" y="4572000"/>
            <a:ext cx="457200" cy="457200"/>
          </a:xfrm>
          <a:custGeom>
            <a:avLst/>
            <a:gdLst>
              <a:gd name="textAreaLeft" fmla="*/ 198360 w 457200"/>
              <a:gd name="textAreaRight" fmla="*/ 258840 w 457200"/>
              <a:gd name="textAreaTop" fmla="*/ 198360 h 457200"/>
              <a:gd name="textAreaBottom" fmla="*/ 2588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375" y="9375"/>
                </a:lnTo>
                <a:lnTo>
                  <a:pt x="10800" y="0"/>
                </a:lnTo>
                <a:lnTo>
                  <a:pt x="12225" y="9375"/>
                </a:lnTo>
                <a:lnTo>
                  <a:pt x="21600" y="10800"/>
                </a:lnTo>
                <a:lnTo>
                  <a:pt x="12225" y="12225"/>
                </a:lnTo>
                <a:lnTo>
                  <a:pt x="10800" y="21600"/>
                </a:lnTo>
                <a:lnTo>
                  <a:pt x="9375" y="12225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1" descr="u=18051503,994895068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5486400"/>
            <a:ext cx="1324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b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225720" y="1356480"/>
            <a:ext cx="86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) Edison becam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interested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science 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 was very yo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-1440" y="2284920"/>
            <a:ext cx="8643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The little boy was ver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excit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when 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ard that he could go to the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3)You’ll soon get used to the school life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75840" y="533520"/>
            <a:ext cx="64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Look at the following sent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-4320" y="3975480"/>
            <a:ext cx="823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The verb-ed forms interested and exci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in the two sentences are used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predicatives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. They follow link v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u=894201267,1352739413&amp;gp=0"/>
          <p:cNvPicPr/>
          <p:nvPr/>
        </p:nvPicPr>
        <p:blipFill>
          <a:blip r:embed="rId1"/>
          <a:stretch/>
        </p:blipFill>
        <p:spPr>
          <a:xfrm>
            <a:off x="7365960" y="5524560"/>
            <a:ext cx="17780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928440" y="532080"/>
            <a:ext cx="6861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作表语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般来说，表示心理状态的动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xcit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nteres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都是及物动词，汉语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不是“激动”，“高兴”，而是“使激动”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高兴”，因而现在分词应该是“令人激动的”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令人高兴的”，过去分词则是“感到激动的”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到高兴的”。所以，凡表示“令人……的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式，凡是表示“感到……”都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式。换句话说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式常和人有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式常和物有关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ook, expressio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主语时常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式作表语，但有时要看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情况。请在下面的几组句中体会他们的区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u=1695577357,3829292785&amp;gp=2"/>
          <p:cNvPicPr/>
          <p:nvPr/>
        </p:nvPicPr>
        <p:blipFill>
          <a:blip r:embed="rId1"/>
          <a:stretch/>
        </p:blipFill>
        <p:spPr>
          <a:xfrm>
            <a:off x="7810560" y="5981760"/>
            <a:ext cx="13334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00240" y="989640"/>
            <a:ext cx="91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news was very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excit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  I was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excit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at it.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185400" y="1904040"/>
            <a:ext cx="89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book is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interest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       He is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interest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27520" y="2894760"/>
            <a:ext cx="89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question is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puzzl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      His look is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puzzl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301680" y="3809160"/>
            <a:ext cx="900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is expression was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frighten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I was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frighten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049040" y="487584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这类词有很多，如：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u=1655959814,4003515123&amp;gp=0"/>
          <p:cNvPicPr/>
          <p:nvPr/>
        </p:nvPicPr>
        <p:blipFill>
          <a:blip r:embed="rId1"/>
          <a:stretch/>
        </p:blipFill>
        <p:spPr>
          <a:xfrm>
            <a:off x="8077320" y="5533920"/>
            <a:ext cx="10666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1125720" y="380160"/>
            <a:ext cx="642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light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令人高兴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delight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到高兴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124640" y="989640"/>
            <a:ext cx="77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isappoint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令人失望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disappoint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到失望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199160" y="1675440"/>
            <a:ext cx="742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ncourag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令人鼓舞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encourag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到鼓舞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00960" y="2437560"/>
            <a:ext cx="59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leas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令人愉快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pleas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到愉快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1199880" y="3123360"/>
            <a:ext cx="623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atisfy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令人满意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satisfi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到满意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198440" y="388548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urpris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令人惊异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surpris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到惊异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1199520" y="4723560"/>
            <a:ext cx="59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orry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令人担心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worri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到担心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1034640" y="5485680"/>
            <a:ext cx="48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ir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令人疲倦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 tir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到疲倦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1029240" y="6277680"/>
            <a:ext cx="54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ring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令人厌烦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bored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到厌烦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1" descr="u=2692492474,3799471069&amp;gp=1"/>
          <p:cNvPicPr/>
          <p:nvPr/>
        </p:nvPicPr>
        <p:blipFill>
          <a:blip r:embed="rId1"/>
          <a:stretch/>
        </p:blipFill>
        <p:spPr>
          <a:xfrm>
            <a:off x="8153280" y="5533920"/>
            <a:ext cx="9907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2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-2520" y="1599120"/>
            <a:ext cx="79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 tried to make himself understoo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is students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-3240" y="2666160"/>
            <a:ext cx="58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 I had my hair cut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-3240" y="3351960"/>
            <a:ext cx="751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The verb-ed forms are used 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object complements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in the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u=4091993758,3650676534&amp;gp=3"/>
          <p:cNvPicPr/>
          <p:nvPr/>
        </p:nvPicPr>
        <p:blipFill>
          <a:blip r:embed="rId1"/>
          <a:stretch/>
        </p:blipFill>
        <p:spPr>
          <a:xfrm>
            <a:off x="7864560" y="6072120"/>
            <a:ext cx="12794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u=4216816342,2306307888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57200"/>
            <a:ext cx="289584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52" name="WordArt 3"/>
          <p:cNvGrpSpPr/>
          <p:nvPr/>
        </p:nvGrpSpPr>
        <p:grpSpPr>
          <a:xfrm>
            <a:off x="2359080" y="2127240"/>
            <a:ext cx="5194080" cy="1384200"/>
            <a:chOff x="2359080" y="2127240"/>
            <a:chExt cx="5194080" cy="1384200"/>
          </a:xfrm>
        </p:grpSpPr>
        <p:pic>
          <p:nvPicPr>
            <p:cNvPr id="153" name="WordArt 3" descr=""/>
            <p:cNvPicPr/>
            <p:nvPr/>
          </p:nvPicPr>
          <p:blipFill>
            <a:blip r:embed="rId3"/>
            <a:stretch/>
          </p:blipFill>
          <p:spPr>
            <a:xfrm>
              <a:off x="2359080" y="2127240"/>
              <a:ext cx="519408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362320" y="2133720"/>
              <a:ext cx="51814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M5 Unit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WordArt 4"/>
          <p:cNvSpPr txBox="1"/>
          <p:nvPr/>
        </p:nvSpPr>
        <p:spPr>
          <a:xfrm>
            <a:off x="2819520" y="4267080"/>
            <a:ext cx="4190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Grammar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953280" y="1065600"/>
            <a:ext cx="6432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作补语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跟分词作宾补的动词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catch, have get, keep, hear,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feel, leave, make, want, star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notice, observe, watch, se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复合宾语中，用现在分词作宾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明宾语是动作的发出者，形成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辑上的主谓关系；用过去分词作宾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宾语是动作的承受者，构成逻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的动宾关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u=1094107392,2734087622&amp;gp=1"/>
          <p:cNvPicPr/>
          <p:nvPr/>
        </p:nvPicPr>
        <p:blipFill>
          <a:blip r:embed="rId1"/>
          <a:stretch/>
        </p:blipFill>
        <p:spPr>
          <a:xfrm>
            <a:off x="7365960" y="5524560"/>
            <a:ext cx="17780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453240" y="227520"/>
            <a:ext cx="783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re was so much noise that the 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uldn’t make himself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456840" y="1370520"/>
            <a:ext cx="751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en he awoke, he found himself be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ooked after by an old wo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379080" y="2513520"/>
            <a:ext cx="785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ust now I caught him stealing things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super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32440" y="3504240"/>
            <a:ext cx="713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aws that punish parents for their litt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ildren’s actions against the laws g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arents worri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0" y="304920"/>
            <a:ext cx="457200" cy="457200"/>
          </a:xfrm>
          <a:custGeom>
            <a:avLst/>
            <a:gdLst>
              <a:gd name="textAreaLeft" fmla="*/ 198360 w 457200"/>
              <a:gd name="textAreaRight" fmla="*/ 258840 w 457200"/>
              <a:gd name="textAreaTop" fmla="*/ 198360 h 457200"/>
              <a:gd name="textAreaBottom" fmla="*/ 2588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375" y="9375"/>
                </a:lnTo>
                <a:lnTo>
                  <a:pt x="10800" y="0"/>
                </a:lnTo>
                <a:lnTo>
                  <a:pt x="12225" y="9375"/>
                </a:lnTo>
                <a:lnTo>
                  <a:pt x="21600" y="10800"/>
                </a:lnTo>
                <a:lnTo>
                  <a:pt x="12225" y="12225"/>
                </a:lnTo>
                <a:lnTo>
                  <a:pt x="10800" y="21600"/>
                </a:lnTo>
                <a:lnTo>
                  <a:pt x="9375" y="12225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0" y="1447920"/>
            <a:ext cx="457200" cy="457200"/>
          </a:xfrm>
          <a:custGeom>
            <a:avLst/>
            <a:gdLst>
              <a:gd name="textAreaLeft" fmla="*/ 198360 w 457200"/>
              <a:gd name="textAreaRight" fmla="*/ 258840 w 457200"/>
              <a:gd name="textAreaTop" fmla="*/ 198360 h 457200"/>
              <a:gd name="textAreaBottom" fmla="*/ 2588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375" y="9375"/>
                </a:lnTo>
                <a:lnTo>
                  <a:pt x="10800" y="0"/>
                </a:lnTo>
                <a:lnTo>
                  <a:pt x="12225" y="9375"/>
                </a:lnTo>
                <a:lnTo>
                  <a:pt x="21600" y="10800"/>
                </a:lnTo>
                <a:lnTo>
                  <a:pt x="12225" y="12225"/>
                </a:lnTo>
                <a:lnTo>
                  <a:pt x="10800" y="21600"/>
                </a:lnTo>
                <a:lnTo>
                  <a:pt x="9375" y="12225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0" y="2590920"/>
            <a:ext cx="457200" cy="457200"/>
          </a:xfrm>
          <a:custGeom>
            <a:avLst/>
            <a:gdLst>
              <a:gd name="textAreaLeft" fmla="*/ 198360 w 457200"/>
              <a:gd name="textAreaRight" fmla="*/ 258840 w 457200"/>
              <a:gd name="textAreaTop" fmla="*/ 198360 h 457200"/>
              <a:gd name="textAreaBottom" fmla="*/ 2588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375" y="9375"/>
                </a:lnTo>
                <a:lnTo>
                  <a:pt x="10800" y="0"/>
                </a:lnTo>
                <a:lnTo>
                  <a:pt x="12225" y="9375"/>
                </a:lnTo>
                <a:lnTo>
                  <a:pt x="21600" y="10800"/>
                </a:lnTo>
                <a:lnTo>
                  <a:pt x="12225" y="12225"/>
                </a:lnTo>
                <a:lnTo>
                  <a:pt x="10800" y="21600"/>
                </a:lnTo>
                <a:lnTo>
                  <a:pt x="9375" y="12225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9"/>
          <p:cNvSpPr/>
          <p:nvPr/>
        </p:nvSpPr>
        <p:spPr>
          <a:xfrm>
            <a:off x="0" y="3581280"/>
            <a:ext cx="457200" cy="457200"/>
          </a:xfrm>
          <a:custGeom>
            <a:avLst/>
            <a:gdLst>
              <a:gd name="textAreaLeft" fmla="*/ 198360 w 457200"/>
              <a:gd name="textAreaRight" fmla="*/ 258840 w 457200"/>
              <a:gd name="textAreaTop" fmla="*/ 198360 h 457200"/>
              <a:gd name="textAreaBottom" fmla="*/ 2588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375" y="9375"/>
                </a:lnTo>
                <a:lnTo>
                  <a:pt x="10800" y="0"/>
                </a:lnTo>
                <a:lnTo>
                  <a:pt x="12225" y="9375"/>
                </a:lnTo>
                <a:lnTo>
                  <a:pt x="21600" y="10800"/>
                </a:lnTo>
                <a:lnTo>
                  <a:pt x="12225" y="12225"/>
                </a:lnTo>
                <a:lnTo>
                  <a:pt x="10800" y="21600"/>
                </a:lnTo>
                <a:lnTo>
                  <a:pt x="9375" y="12225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0" descr="u=3986883538,34400680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724280"/>
            <a:ext cx="2514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-2880" y="1599480"/>
            <a:ext cx="82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cake was left untouched o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-3240" y="2437560"/>
            <a:ext cx="805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 The girl lay trapped under the wreck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-3600" y="3427920"/>
            <a:ext cx="758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In these sentences, the verb-ed fo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are used as </a:t>
            </a: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adverbs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77640" y="532440"/>
            <a:ext cx="789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A verb-ed can be used after verbs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stand, sit and lie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to show that the t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actions are happening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456840" y="2208960"/>
            <a:ext cx="822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girl lay in bed </a:t>
            </a:r>
            <a:r>
              <a:rPr b="0" i="1" lang="zh-CN" sz="3200" spc="-1" strike="noStrike">
                <a:solidFill>
                  <a:srgbClr val="ff3399"/>
                </a:solidFill>
                <a:latin typeface="Arial"/>
              </a:rPr>
              <a:t>los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n 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The girl lay in bed </a:t>
            </a:r>
            <a:r>
              <a:rPr b="0" i="1" lang="zh-CN" sz="3200" spc="-1" strike="noStrike">
                <a:solidFill>
                  <a:srgbClr val="ff3399"/>
                </a:solidFill>
                <a:latin typeface="Arial"/>
              </a:rPr>
              <a:t>and was los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n thou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257760" y="3808800"/>
            <a:ext cx="888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boy sat at the table </a:t>
            </a:r>
            <a:r>
              <a:rPr b="0" i="1" lang="zh-CN" sz="3200" spc="-1" strike="noStrike">
                <a:solidFill>
                  <a:srgbClr val="ff3399"/>
                </a:solidFill>
                <a:latin typeface="Arial"/>
              </a:rPr>
              <a:t>buri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n his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The boy sat at the table </a:t>
            </a:r>
            <a:r>
              <a:rPr b="0" i="1" lang="zh-CN" sz="3200" spc="-1" strike="noStrike">
                <a:solidFill>
                  <a:srgbClr val="ff3399"/>
                </a:solidFill>
                <a:latin typeface="Arial"/>
              </a:rPr>
              <a:t>and was buri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n 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u=2256655564,2800779426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5334120"/>
            <a:ext cx="3429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76200" y="684720"/>
            <a:ext cx="790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A verb-ed phrase is actually a verb-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followed by an object and /or adverb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Verb-ed phrases especially the pass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ones can be used to express </a:t>
            </a: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the ti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the reason and the condition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457200" y="3809880"/>
            <a:ext cx="8153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Can you rewrite the following sentences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using clauses introduc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when ,once ,because, if, unless</a:t>
            </a: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315200" y="601992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-2743200" y="2420280"/>
            <a:ext cx="139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03120" y="289440"/>
            <a:ext cx="72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rightened by the scene, the girl d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t dare go ou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605880" y="1370520"/>
            <a:ext cx="792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ecause she was frightened by the sce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the girl did not dare go ou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377280" y="2666160"/>
            <a:ext cx="75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 Once seen , it can never be forgo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911520" y="3275640"/>
            <a:ext cx="75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Once it is seen, it can never be forgo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03480" y="411408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3) Unless invited , I will not go to the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837360" y="4952160"/>
            <a:ext cx="812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Unless I am invited, I will not go to the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7315200" y="5715000"/>
            <a:ext cx="1600200" cy="1143000"/>
          </a:xfrm>
          <a:prstGeom prst="horizontalScrol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10"/>
          <p:cNvSpPr txBox="1"/>
          <p:nvPr/>
        </p:nvSpPr>
        <p:spPr>
          <a:xfrm>
            <a:off x="7467480" y="60199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Grammar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990720" y="2927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378000" y="227520"/>
            <a:ext cx="754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4) Given another five days, I could fi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759240" y="1294560"/>
            <a:ext cx="735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If I was given another five days, I c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finish it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303840" y="2423160"/>
            <a:ext cx="780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5) Lost in thought, he almost ran in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ar in front of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912600" y="3427920"/>
            <a:ext cx="790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ecause he was lost in thought, he alm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ran into the car in front of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411120" y="4647240"/>
            <a:ext cx="87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6) When told the news, he couldn’t help cr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913680" y="5256720"/>
            <a:ext cx="744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When he was told the news, he couldn’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help crying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9" descr="u=2708181729,2458232867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7200" y="5562720"/>
            <a:ext cx="10368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458640" y="914400"/>
            <a:ext cx="19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NO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2349720" y="263700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过去分词的逻辑主语必须和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的主语保持一致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u=3489874389,83149654&amp;gp=1"/>
          <p:cNvPicPr/>
          <p:nvPr/>
        </p:nvPicPr>
        <p:blipFill>
          <a:blip r:embed="rId1"/>
          <a:stretch/>
        </p:blipFill>
        <p:spPr>
          <a:xfrm>
            <a:off x="6781680" y="510552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224640" y="380160"/>
            <a:ext cx="774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The differences between verb-ed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and the verb-ing 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932120" y="1827720"/>
            <a:ext cx="5057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作状语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词的逻辑主语和句子的主语保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致的情况下，如果分词和句子的主语之间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逻辑上是被动关系，用过去分词，否则用现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词。分词短语也可以有自己的逻辑主语，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结构称为独立主格结构。分词作状语可以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于一个状语从句。现在分词的被动式，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不作伴随状语。注意比较下面的句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u=135979421,2087715129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81960" y="5029200"/>
            <a:ext cx="1562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-2520" y="608760"/>
            <a:ext cx="942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en from the space, the earth looks bl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=  When it is seen from space, the earth look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684720" y="1905120"/>
            <a:ext cx="762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pt in refrigerator, these vegetables wi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emain fre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63000" y="2880360"/>
            <a:ext cx="915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= If they are kept in refrigerator, these veget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will remain fre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292320" y="4266360"/>
            <a:ext cx="90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alking in the street, I came across an ol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65160" y="4799520"/>
            <a:ext cx="791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= When I was walking in the street, I c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across an ol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u=2681728698,2377470670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5181480"/>
            <a:ext cx="1295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2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u=4226223881,1220789114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2400" y="4838760"/>
            <a:ext cx="1371600" cy="20192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1375560" y="2209320"/>
            <a:ext cx="7261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00"/>
                </a:solidFill>
                <a:latin typeface="Arial"/>
              </a:rPr>
              <a:t>The verb-ed form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291960" y="518040"/>
            <a:ext cx="835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fter his journey from abroad, Richard J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eturned home, being exhausted.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误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77640" y="1661040"/>
            <a:ext cx="835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fter his journey from abroad, Richard J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eturned home, exhausted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正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379440" y="3123360"/>
            <a:ext cx="805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Her grandfather being il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she had to stay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me looking    after h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3124080" y="4648320"/>
            <a:ext cx="3200400" cy="761760"/>
          </a:xfrm>
          <a:prstGeom prst="wedgeRoundRectCallout">
            <a:avLst>
              <a:gd name="adj1" fmla="val -59921"/>
              <a:gd name="adj2" fmla="val -183541"/>
              <a:gd name="adj3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505320" y="4724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独立主格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u=567895696,3846009410&amp;gp=2"/>
          <p:cNvPicPr/>
          <p:nvPr/>
        </p:nvPicPr>
        <p:blipFill>
          <a:blip r:embed="rId1"/>
          <a:stretch/>
        </p:blipFill>
        <p:spPr>
          <a:xfrm>
            <a:off x="7365960" y="4038480"/>
            <a:ext cx="1778040" cy="11811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8"/>
          <p:cNvSpPr/>
          <p:nvPr/>
        </p:nvSpPr>
        <p:spPr>
          <a:xfrm>
            <a:off x="668160" y="5502240"/>
            <a:ext cx="76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mework finished ,they went out to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167200" y="532440"/>
            <a:ext cx="458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非谓语动词使用条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句子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已经存在一个主句（谓语动词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又没有连词的情况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有别的动词出现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4242600" y="2302560"/>
            <a:ext cx="98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并非分词的逻辑主语都要和句子的主语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时的分词短语又可称为垂悬状语。有些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词不定式也可以这样运用。常见的这种情况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357480" y="4037760"/>
            <a:ext cx="84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Strictly speak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smoking is not allowed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128160" y="4723560"/>
            <a:ext cx="86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Judging from what he sa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he is a southe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0" y="5409360"/>
            <a:ext cx="975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Taken as a who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there is nothing important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his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u=4124184735,1836699443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867280"/>
            <a:ext cx="14479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129960" y="685080"/>
            <a:ext cx="87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To tell you the trut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I don’t like English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127800" y="1432440"/>
            <a:ext cx="848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To speak frankl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I don’t agree with you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840960" y="2666160"/>
            <a:ext cx="26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动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-e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逻辑主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04920" y="3352680"/>
          <a:ext cx="8534160" cy="259092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7720"/>
                <a:gridCol w="1343160"/>
                <a:gridCol w="225252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所作句子成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定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状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宾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逻辑主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句子的主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所修饰的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句子的主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句子的宾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068720" y="228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链接高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77640" y="989640"/>
            <a:ext cx="8398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The managers discussed the plan that th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ould like to see _______the next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arry out    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arrying ou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arried out 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 carry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304200" y="3580200"/>
            <a:ext cx="821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________ the general state of his heal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may take him a while to recover from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peration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春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331200" y="5256720"/>
            <a:ext cx="786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. To giv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Giving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. Having gi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6" descr="u=3489874389,83149654&amp;gp=1"/>
          <p:cNvPicPr/>
          <p:nvPr/>
        </p:nvPicPr>
        <p:blipFill>
          <a:blip r:embed="rId1"/>
          <a:stretch/>
        </p:blipFill>
        <p:spPr>
          <a:xfrm>
            <a:off x="739152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u=1021652244,1150181202&amp;gp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3048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u=1021652244,1150181202&amp;gp=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510552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-1080" y="227520"/>
            <a:ext cx="850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 As we joined the big crowd I got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rom my friends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全国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273240" y="1370880"/>
            <a:ext cx="88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eparated    B. spared     C. lost      D. 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-1440" y="1980360"/>
            <a:ext cx="90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 It shames me to say it, but I told a lie when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t the meeting by my boss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全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306360" y="3047040"/>
            <a:ext cx="749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question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B. have question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question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D. to be questi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82440" y="4190040"/>
            <a:ext cx="900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 You should understand the traffic rule by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ou've had it____ often enough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天津卷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81960" y="5333040"/>
            <a:ext cx="65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xplaining         B. to explain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explain              D. expl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u=3489874389,83149654&amp;gp=1"/>
          <p:cNvPicPr/>
          <p:nvPr/>
        </p:nvPicPr>
        <p:blipFill>
          <a:blip r:embed="rId1"/>
          <a:stretch/>
        </p:blipFill>
        <p:spPr>
          <a:xfrm>
            <a:off x="739152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u=1021652244,1150181202&amp;gp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37160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u=1021652244,1150181202&amp;gp=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0880" y="350532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u=1021652244,1150181202&amp;gp=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33920" y="586728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380160" y="227520"/>
            <a:ext cx="787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. The research is so designed that o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 nothing can be done to change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全国）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455040" y="1827720"/>
            <a:ext cx="73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Ａ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gin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    Ｂ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aving begu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Ｃ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ginn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Ｄ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g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303480" y="2970720"/>
            <a:ext cx="852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 ________ in the mountains for a week,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wo students were finally saved by the lo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olice (0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江苏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81080" y="4647240"/>
            <a:ext cx="578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aving lost      B. Lost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Being lost       D. Lo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6" descr="u=503525879,1857357403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4114800"/>
            <a:ext cx="3124080" cy="27432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u=1021652244,1150181202&amp;gp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228600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u=1021652244,1150181202&amp;gp=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81280" y="4572000"/>
            <a:ext cx="609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487080" y="303840"/>
            <a:ext cx="814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. ______ in a white uniform, he loo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like a cook than a doctor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湖南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101880" y="1523160"/>
            <a:ext cx="67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ressed      B. To dress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Dressing    D. Having d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227520" y="2894760"/>
            <a:ext cx="792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._____ time, he’ll make a fist-class tenn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layer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北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87640" y="4113720"/>
            <a:ext cx="601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aving giv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B. To giv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Giving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D.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6" descr="u=503525879,1857357403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441972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u=1021652244,1150181202&amp;gp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14479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u=1021652244,1150181202&amp;gp=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81280" y="4648320"/>
            <a:ext cx="609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226440" y="289440"/>
            <a:ext cx="749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. The repairs cost a lot, but it’s mon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ll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湖北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47000" y="1294560"/>
            <a:ext cx="633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 spen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pen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ing spent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pe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-1080" y="2665800"/>
            <a:ext cx="780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. Laws that punish parents for their litt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ildren’s actions against the laws g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arents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457200" y="441864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orri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B. to worr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worry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D. wo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6" descr="u=503525879,1857357403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3962520"/>
            <a:ext cx="3124080" cy="28954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u=1021652244,1150181202&amp;gp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43400" y="12193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u=1021652244,1150181202&amp;gp=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4267080"/>
            <a:ext cx="609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208800" y="761040"/>
            <a:ext cx="875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.A man is being questioned in re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 the ________ murder last night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江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57960" y="1889640"/>
            <a:ext cx="725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dvised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B. attended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attempted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. ad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-2160" y="3275640"/>
            <a:ext cx="875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3. The prize of the game show is $30,000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 all expenses ___vacation to Chin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0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北京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211320" y="4875840"/>
            <a:ext cx="875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ay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. pa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be pa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. being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6" descr="u=503525879,1857357403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495680"/>
            <a:ext cx="2438280" cy="2362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u=1021652244,1150181202&amp;gp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243828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u=1021652244,1150181202&amp;gp=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62520" y="480060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303840" y="289440"/>
            <a:ext cx="832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4. ______ into use in April 2000, the hot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as meant for residents reporting water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ating supply breakdowns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海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61920" y="1904040"/>
            <a:ext cx="623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ut                   B. Putting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aving put      D. Being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227520" y="3123360"/>
            <a:ext cx="751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. Helen had to shout _____ abo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ound of the music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广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-3240" y="5180760"/>
            <a:ext cx="92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making herself heard   D. to make herself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-360" y="4419720"/>
            <a:ext cx="895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making herself hear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. to make herself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u=503525879,1857357403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638680"/>
            <a:ext cx="144792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u=1021652244,1150181202&amp;gp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182880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u=1021652244,1150181202&amp;gp=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0" y="510552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08880" y="-360"/>
            <a:ext cx="79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600" spc="-1" strike="noStrike">
                <a:solidFill>
                  <a:srgbClr val="ff3399"/>
                </a:solidFill>
                <a:latin typeface="Arial"/>
              </a:rPr>
              <a:t>Can you tell the function of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99"/>
                </a:solidFill>
                <a:latin typeface="Arial"/>
              </a:rPr>
              <a:t>verb-ed in the following senten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09480" y="13089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excited people rushed into the 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83280" y="2894760"/>
            <a:ext cx="82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the boy was more frightened than hurt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608400" y="4280760"/>
            <a:ext cx="72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’d like to see the plan carried out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1828800" y="2133720"/>
            <a:ext cx="2514600" cy="609480"/>
          </a:xfrm>
          <a:prstGeom prst="wedgeRoundRectCallout">
            <a:avLst>
              <a:gd name="adj1" fmla="val -39583"/>
              <a:gd name="adj2" fmla="val -134898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attrib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5181480" y="3581280"/>
            <a:ext cx="2971800" cy="533520"/>
          </a:xfrm>
          <a:prstGeom prst="wedgeRoundRectCallout">
            <a:avLst>
              <a:gd name="adj1" fmla="val -21847"/>
              <a:gd name="adj2" fmla="val -91069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predic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2057400" y="5105520"/>
            <a:ext cx="3352680" cy="609480"/>
          </a:xfrm>
          <a:prstGeom prst="wedgeRectCallout">
            <a:avLst>
              <a:gd name="adj1" fmla="val 46449"/>
              <a:gd name="adj2" fmla="val -11328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bject comp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-720" y="5638680"/>
            <a:ext cx="89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en completed,the museum will be open to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1676520" y="6324480"/>
            <a:ext cx="2971800" cy="533520"/>
          </a:xfrm>
          <a:prstGeom prst="wedgeRoundRectCallout">
            <a:avLst>
              <a:gd name="adj1" fmla="val -24412"/>
              <a:gd name="adj2" fmla="val -91069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adverb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-59040" y="379800"/>
            <a:ext cx="847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with the size of the whole earth ,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iggest ocean does not seem big at 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湖北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518400" y="1980360"/>
            <a:ext cx="772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mpar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en compa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365400" y="2589840"/>
            <a:ext cx="76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mparing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en com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-117000" y="3275640"/>
            <a:ext cx="91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by the beauty of nature , the girl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ondon decided to spend another two d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 the farm .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辽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593280" y="4875840"/>
            <a:ext cx="809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ttracting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ttracted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 be attracted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aving attrac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7" descr="u=503525879,1857357403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53280" y="6024600"/>
            <a:ext cx="990720" cy="8334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u=1021652244,1150181202&amp;gp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14800" y="251460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u=1021652244,1150181202&amp;gp=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480060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2520" y="379800"/>
            <a:ext cx="790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. When first______ to the marke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se products enjoyed great succes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全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62120" y="1980360"/>
            <a:ext cx="734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ntroduc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B. introduc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introduc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D. being introdu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02760" y="3123000"/>
            <a:ext cx="819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. The disc, digitally _____ in the studi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ounded fantastic at the party that n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0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recorded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. record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be record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. having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5" descr="u=503525879,1857357403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638680"/>
            <a:ext cx="1447920" cy="1219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u=1021652244,1150181202&amp;gp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14800" y="182880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u=1021652244,1150181202&amp;gp=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449568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228600" y="227520"/>
            <a:ext cx="7607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. Sarah, hurry up. I’m afraid you wo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ave time to ______ before the par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全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get chang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B. get chang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get chang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D. ge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226800" y="2970720"/>
            <a:ext cx="747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1. ____ and happy, Tony stood up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ccepted the prize. (200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全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378360" y="4190040"/>
            <a:ext cx="774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urprising                B. Surprise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Being surprised       D. To be surp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u=503525879,1857357403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518148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u=1021652244,1150181202&amp;gp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160020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u=1021652244,1150181202&amp;gp=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4114800"/>
            <a:ext cx="609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3279240" y="380160"/>
            <a:ext cx="370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Consolidation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232200" y="990000"/>
            <a:ext cx="40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. Multiple choi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380520" y="1585080"/>
            <a:ext cx="697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 What’s the language _______ in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ew Zealan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762480" y="258984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533520" y="3123360"/>
            <a:ext cx="588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peaking         B. spoken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be spoken      D. to s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78360" y="4266360"/>
            <a:ext cx="823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The car _______ in Germany in the 196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ooks old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288360" y="5409360"/>
            <a:ext cx="700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roduced      B. produc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produce   D. which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9" descr="u=503525879,1857357403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518148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u=1021652244,1150181202&amp;gp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0481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1" descr="u=1021652244,1150181202&amp;gp=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525780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300960" y="365760"/>
            <a:ext cx="774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 --- You’d better have your sports jac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. It’s too di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837720" y="1523160"/>
            <a:ext cx="31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 Thanks. I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351360" y="2132640"/>
            <a:ext cx="86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to wash    B. washed    C. washing   D. w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300960" y="3504240"/>
            <a:ext cx="81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 Yesterday I heard a story _______ by 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407160" y="4875840"/>
            <a:ext cx="75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told      B. telling       C. to tell      D.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7" descr="u=503525879,1857357403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541008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u=1021652244,1150181202&amp;gp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205740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u=1021652244,1150181202&amp;gp=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480060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227520"/>
            <a:ext cx="10344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 The pilot asked all the passengers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ard to remain _____as the plane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king a landing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226800" y="1828080"/>
            <a:ext cx="89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eat    B. seating   C. seated   D. to be s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2575440"/>
            <a:ext cx="832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. _____ to sunlight for too much time will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arm to one’s sk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304560" y="3961440"/>
            <a:ext cx="71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Expos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B. Having exp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303120" y="4647240"/>
            <a:ext cx="78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Being exposed   D. After being exp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7" descr="u=503525879,1857357403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541008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u=1021652244,1150181202&amp;gp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14800" y="182880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u=1021652244,1150181202&amp;gp=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920" y="464832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302760" y="303840"/>
            <a:ext cx="72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 Generally speaking, when 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ccording to the directions, the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as no side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762480" y="1827720"/>
            <a:ext cx="510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AutoNum type="alphaUcPeriod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ak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B. taken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tak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D. to be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227880" y="2970720"/>
            <a:ext cx="776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. The first textbooks _____ for tea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nglish as a foreign language came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the 16th cen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819720" y="4647240"/>
            <a:ext cx="74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aving been writt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B. to be writte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being writt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D.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u=503525879,1857357403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541008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u=1021652244,1150181202&amp;gp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175248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8" descr="u=1021652244,1150181202&amp;gp=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81480" y="5181480"/>
            <a:ext cx="609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5400" y="608760"/>
            <a:ext cx="67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. Is this the watch you wish 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-1067400" y="1446840"/>
            <a:ext cx="959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to have repaired         B. to repair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361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. to have it repaired     D. will be re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304200" y="2589840"/>
            <a:ext cx="784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. _____ many times, but he still couldn'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understan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610200" y="3732840"/>
            <a:ext cx="451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aving been told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09480" y="4419720"/>
            <a:ext cx="51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. Though he had been t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609120" y="5104440"/>
            <a:ext cx="627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e was told        D. Having t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8" descr="u=1021652244,1150181202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29528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u=1021652244,1150181202&amp;gp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502920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u=503525879,1857357403&amp;gp=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15200" y="5410080"/>
            <a:ext cx="18288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227880" y="30384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II. Trans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2512440" y="990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扇朝南的窗户是破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607680" y="167544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window facing the south is bro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162240" y="251388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的班主任是一位受人爱戴的女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607320" y="319968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ur head teacher is a woman loved by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416760" y="403776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今天收到的那封信是我哥哥寄来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426240" y="4799520"/>
            <a:ext cx="749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letter that reached me today is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y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u=503525879,1857357403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5410080"/>
            <a:ext cx="18288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3554280" y="60876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输掉那场比赛后，她看上去很失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1065960" y="1370520"/>
            <a:ext cx="71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 looked disappointed after she l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3834000" y="259020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山顶看这座城市时，它看起来很壮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990360" y="3275640"/>
            <a:ext cx="683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en from the top of the hill, the 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ooks significant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4636080" y="449496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位教授在学生们的簇拥下，兴高采烈地坐在那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910440" y="5180760"/>
            <a:ext cx="801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urrounded by his students , the profess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at there cheerfully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8" descr="u=503525879,1857357403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2400" y="579132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-5040" y="732240"/>
            <a:ext cx="9346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A verb-ed form can also serve as </a:t>
            </a: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attribute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predicative , object complement and adverbial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When the verb-ed form is used as an </a:t>
            </a: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attribute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it can be changed into an attribute cl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Now please tell the use of the verb-ed fo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in the following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u=503525879,1857357403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5410080"/>
            <a:ext cx="198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WordArt 2"/>
          <p:cNvSpPr txBox="1"/>
          <p:nvPr/>
        </p:nvSpPr>
        <p:spPr>
          <a:xfrm>
            <a:off x="1371600" y="2209680"/>
            <a:ext cx="64771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Language points</a:t>
            </a:r>
            <a:endParaRPr b="0" lang="en-US" sz="32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45" name="Picture 3" descr="u=1267436278,1471071836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686560"/>
            <a:ext cx="14479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303480" y="532440"/>
            <a:ext cx="28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1. figure out 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834120" y="1141920"/>
            <a:ext cx="697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to finally understand something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someone, or find the solution t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problem after a lot of thought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836280" y="2818440"/>
            <a:ext cx="36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[+ question word]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762120" y="4114080"/>
            <a:ext cx="5538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I can't figure out why he did it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721160" y="3581280"/>
            <a:ext cx="31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不能理解他为什么做这件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683640" y="5561640"/>
            <a:ext cx="82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Can you figure out the answer to question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1721880" y="502920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能算出第五个问题的答案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9" descr="u=1413184055,1155995090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0560" y="5972040"/>
            <a:ext cx="13334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u=567895696,3846009410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5486400"/>
            <a:ext cx="1752480" cy="137160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3"/>
          <p:cNvSpPr/>
          <p:nvPr/>
        </p:nvSpPr>
        <p:spPr>
          <a:xfrm>
            <a:off x="-720" y="38016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2.  puzzle :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2361960" y="38016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v.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[I + adverb or preposition; T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1676160" y="532440"/>
            <a:ext cx="7472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to feel confused and slightly worr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531000" y="2437560"/>
            <a:ext cx="69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The findings of the survey puzzle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1360800" y="1905120"/>
            <a:ext cx="22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调查的发现使我困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8"/>
          <p:cNvSpPr/>
          <p:nvPr/>
        </p:nvSpPr>
        <p:spPr>
          <a:xfrm>
            <a:off x="607680" y="3199680"/>
            <a:ext cx="36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[+ question word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9"/>
          <p:cNvSpPr/>
          <p:nvPr/>
        </p:nvSpPr>
        <p:spPr>
          <a:xfrm>
            <a:off x="457200" y="4479480"/>
            <a:ext cx="5935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It puzzles me why she said that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574280" y="4038480"/>
            <a:ext cx="29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她为什么那样说使我很困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u=1887563434,861212600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5562720"/>
            <a:ext cx="1752480" cy="129528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3"/>
          <p:cNvSpPr/>
          <p:nvPr/>
        </p:nvSpPr>
        <p:spPr>
          <a:xfrm>
            <a:off x="458280" y="83736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947880" y="227520"/>
            <a:ext cx="707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[S]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a situation which is difficu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o understa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1359720" y="1294200"/>
            <a:ext cx="7788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[C]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a game or toy in which you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o fit separate pieces together,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 problem or question     which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ave to answer by using your ski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 knowledge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1219320" y="53352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531000" y="4723560"/>
            <a:ext cx="7407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Scientists have been trying to solve t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puzzle for years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"/>
          <p:cNvSpPr/>
          <p:nvPr/>
        </p:nvSpPr>
        <p:spPr>
          <a:xfrm>
            <a:off x="3489840" y="4114800"/>
            <a:ext cx="10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年来科学家门一直在尽力解开这一谜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607680" y="5942880"/>
            <a:ext cx="377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a crossword puzzle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u=3491321615,1624138489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791320"/>
            <a:ext cx="1523880" cy="10666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3"/>
          <p:cNvSpPr/>
          <p:nvPr/>
        </p:nvSpPr>
        <p:spPr>
          <a:xfrm>
            <a:off x="608400" y="380520"/>
            <a:ext cx="2710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puzzled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adj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3097440" y="379800"/>
            <a:ext cx="6051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confused because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do not understand something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912960" y="2361240"/>
            <a:ext cx="650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He had a puzzled look on his face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760320" y="3961800"/>
            <a:ext cx="728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I'm still puzzled as to why she said that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608400" y="5441040"/>
            <a:ext cx="679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I'm a bit puzzled that I haven't he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from Tom for so long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3007080" y="1752480"/>
            <a:ext cx="7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脸上有一丝感到困惑的表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9"/>
          <p:cNvSpPr/>
          <p:nvPr/>
        </p:nvSpPr>
        <p:spPr>
          <a:xfrm>
            <a:off x="2010960" y="3200400"/>
            <a:ext cx="37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至于她为什么那样说我仍然感到困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0"/>
          <p:cNvSpPr/>
          <p:nvPr/>
        </p:nvSpPr>
        <p:spPr>
          <a:xfrm>
            <a:off x="1779480" y="4876920"/>
            <a:ext cx="44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很久没有收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o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来信我感到困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u=1187111886,1608118635&amp;gp=0"/>
          <p:cNvPicPr/>
          <p:nvPr/>
        </p:nvPicPr>
        <p:blipFill>
          <a:blip r:embed="rId1"/>
          <a:stretch/>
        </p:blipFill>
        <p:spPr>
          <a:xfrm>
            <a:off x="7810560" y="5972040"/>
            <a:ext cx="1333440" cy="88596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3"/>
          <p:cNvSpPr/>
          <p:nvPr/>
        </p:nvSpPr>
        <p:spPr>
          <a:xfrm>
            <a:off x="303480" y="227880"/>
            <a:ext cx="2620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puzzling</a:t>
            </a: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adj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1061640" y="990000"/>
            <a:ext cx="6638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difficult to explain or understand: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1066680" y="1675800"/>
            <a:ext cx="5382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Eg. It's a rather puzzling film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6"/>
          <p:cNvSpPr/>
          <p:nvPr/>
        </p:nvSpPr>
        <p:spPr>
          <a:xfrm>
            <a:off x="1143360" y="2285280"/>
            <a:ext cx="419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a puzzling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04560" y="289476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3. cautious :</a:t>
            </a:r>
            <a:r>
              <a:rPr b="0" i="1" lang="zh-CN" sz="32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605880" y="3504240"/>
            <a:ext cx="80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)  describes someone who avoids risks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605880" y="4327920"/>
            <a:ext cx="8103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) describes something which is carefu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well considered and sometimes s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or uncertain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1967760" y="517320"/>
            <a:ext cx="254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当他骑自行车的时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很小心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607680" y="1065960"/>
            <a:ext cx="742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He was cautious when he was riding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i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532800" y="213264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a cautious approac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685080" y="2894760"/>
            <a:ext cx="34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cautiously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    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ad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762120" y="365688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caution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125520" y="3656880"/>
            <a:ext cx="6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n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609120" y="5333040"/>
            <a:ext cx="62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We need to proceed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3200" spc="-1" strike="noStrike">
                <a:solidFill>
                  <a:srgbClr val="ff3399"/>
                </a:solidFill>
                <a:latin typeface="Arial"/>
              </a:rPr>
              <a:t>with cauti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1016280" y="4419720"/>
            <a:ext cx="227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需要谨慎前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0" descr="u=1120530139,44173860&amp;gp=1"/>
          <p:cNvPicPr/>
          <p:nvPr/>
        </p:nvPicPr>
        <p:blipFill>
          <a:blip r:embed="rId1"/>
          <a:stretch/>
        </p:blipFill>
        <p:spPr>
          <a:xfrm>
            <a:off x="7543800" y="5638680"/>
            <a:ext cx="16002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304200" y="456120"/>
            <a:ext cx="291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4. worth</a:t>
            </a:r>
            <a:r>
              <a:rPr b="0" i="1" lang="zh-CN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adj.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683640" y="1218240"/>
            <a:ext cx="722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having a particular value, especi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in mone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1430640" y="2362320"/>
            <a:ext cx="34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的房子价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万英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684000" y="2970720"/>
            <a:ext cx="663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Our house is worth about £200 000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333720" y="3580200"/>
            <a:ext cx="743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1c1c1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be worth sth.: to be important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interesting enough to receiv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</a:rPr>
              <a:t>particular action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760680" y="6095160"/>
            <a:ext cx="73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I think this matter is worth our attention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1650240" y="5486400"/>
            <a:ext cx="29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认为这件事值得我们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9" descr="u=1467997792,1914725362&amp;gp=0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u=684352560,3899278251&amp;gp=1"/>
          <p:cNvPicPr/>
          <p:nvPr/>
        </p:nvPicPr>
        <p:blipFill>
          <a:blip r:embed="rId1"/>
          <a:stretch/>
        </p:blipFill>
        <p:spPr>
          <a:xfrm>
            <a:off x="7819920" y="5829480"/>
            <a:ext cx="1324080" cy="102852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3"/>
          <p:cNvSpPr/>
          <p:nvPr/>
        </p:nvSpPr>
        <p:spPr>
          <a:xfrm>
            <a:off x="299520" y="380160"/>
            <a:ext cx="64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  be worth having/doing sth.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985320" y="1065600"/>
            <a:ext cx="776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o be important or useful to have or do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221400" y="2513520"/>
            <a:ext cx="892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There's nothing worth reading in this newspaper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1726560" y="1828800"/>
            <a:ext cx="29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张报纸上没什么值得读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837360" y="3428280"/>
            <a:ext cx="33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worthless  : 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ad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302040" y="4190040"/>
            <a:ext cx="7198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having no value in money/valuel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/unimportant or useless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9"/>
          <p:cNvSpPr/>
          <p:nvPr/>
        </p:nvSpPr>
        <p:spPr>
          <a:xfrm>
            <a:off x="412560" y="5561640"/>
            <a:ext cx="87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1c1c1c"/>
                </a:solidFill>
                <a:latin typeface="Arial"/>
              </a:rPr>
              <a:t>The opposite is invaluable/priceless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u=1348472331,358368506&amp;gp=3"/>
          <p:cNvPicPr/>
          <p:nvPr/>
        </p:nvPicPr>
        <p:blipFill>
          <a:blip r:embed="rId1"/>
          <a:stretch/>
        </p:blipFill>
        <p:spPr>
          <a:xfrm>
            <a:off x="7810560" y="5762520"/>
            <a:ext cx="1333440" cy="109548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3"/>
          <p:cNvSpPr/>
          <p:nvPr/>
        </p:nvSpPr>
        <p:spPr>
          <a:xfrm>
            <a:off x="886680" y="3038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关有用的表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380520" y="899280"/>
            <a:ext cx="574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’s worth the mon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It’s good value for the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57200" y="2132640"/>
            <a:ext cx="46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 (well) worth doing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379440" y="2894760"/>
            <a:ext cx="83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bird in the hand (is worth two in the bush)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2317320" y="35805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鸟在林，不如一鸟在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8"/>
          <p:cNvSpPr/>
          <p:nvPr/>
        </p:nvSpPr>
        <p:spPr>
          <a:xfrm>
            <a:off x="0" y="1066680"/>
            <a:ext cx="457200" cy="381240"/>
          </a:xfrm>
          <a:prstGeom prst="irregularSeal2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9"/>
          <p:cNvSpPr/>
          <p:nvPr/>
        </p:nvSpPr>
        <p:spPr>
          <a:xfrm>
            <a:off x="0" y="2286000"/>
            <a:ext cx="457200" cy="380880"/>
          </a:xfrm>
          <a:prstGeom prst="irregularSeal2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0" y="3048120"/>
            <a:ext cx="457200" cy="380880"/>
          </a:xfrm>
          <a:prstGeom prst="irregularSeal2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1"/>
          <p:cNvSpPr/>
          <p:nvPr/>
        </p:nvSpPr>
        <p:spPr>
          <a:xfrm>
            <a:off x="570960" y="4266360"/>
            <a:ext cx="26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 worth it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2"/>
          <p:cNvSpPr/>
          <p:nvPr/>
        </p:nvSpPr>
        <p:spPr>
          <a:xfrm>
            <a:off x="0" y="4419720"/>
            <a:ext cx="457200" cy="380880"/>
          </a:xfrm>
          <a:prstGeom prst="irregularSeal2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3"/>
          <p:cNvSpPr/>
          <p:nvPr/>
        </p:nvSpPr>
        <p:spPr>
          <a:xfrm>
            <a:off x="2742840" y="4266000"/>
            <a:ext cx="536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 be of reasonable or g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alue for the price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u=1021652244,1150181202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5410080"/>
            <a:ext cx="1981080" cy="14479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532800" y="227520"/>
            <a:ext cx="63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don't lik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canned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ood; I pref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omething fresh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56120" y="1356480"/>
            <a:ext cx="807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China has no time to lose to catch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ith th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developed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untries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6480" y="2513520"/>
            <a:ext cx="744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 The man delivering mails to my off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very day is a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retir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wor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53600" y="3885120"/>
            <a:ext cx="8306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The verb-ed forms in these sentences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all used as </a:t>
            </a: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the attribute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. And a verb-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can appear after a noun to modify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noun like an attributive clause do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295920" y="303840"/>
            <a:ext cx="54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orthy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orthwhile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区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289440" y="1065960"/>
            <a:ext cx="26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worthy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：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ad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415800" y="1828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worthy of sth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376200" y="2513520"/>
            <a:ext cx="855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uitable for, or characteristic of something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297720" y="3275640"/>
            <a:ext cx="81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worthy to be done / worthy of being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79440" y="4037760"/>
            <a:ext cx="33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worthwhile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 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ad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573120" y="5028120"/>
            <a:ext cx="710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句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’s worthwhile doing/to do s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某事是值得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dd7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2504880" y="38016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问题值得讨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683640" y="114228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question is worth discus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682920" y="1904040"/>
            <a:ext cx="68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question is worthy of discu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682920" y="2742480"/>
            <a:ext cx="783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question is worthy of being discu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682560" y="3580560"/>
            <a:ext cx="72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question is worthy to be discu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682560" y="4266360"/>
            <a:ext cx="745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’s worthwhile discussing/to discus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685800" y="5485320"/>
            <a:ext cx="907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iscussing/To discuss the question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orthw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WordArt 2"/>
          <p:cNvSpPr txBox="1"/>
          <p:nvPr/>
        </p:nvSpPr>
        <p:spPr>
          <a:xfrm>
            <a:off x="1752480" y="1905120"/>
            <a:ext cx="59436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0000"/>
                  </a:solidFill>
                  <a:prstDash val="lgDash"/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Thank you!</a:t>
            </a:r>
            <a:endParaRPr b="0" lang="en-US" sz="3200" spc="1" strike="noStrike">
              <a:ln w="12600">
                <a:solidFill>
                  <a:srgbClr val="ff0000"/>
                </a:solidFill>
                <a:prstDash val="lgDash"/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40" name="Picture 3" descr="u=3148938563,1890541495&amp;gp=1"/>
          <p:cNvPicPr/>
          <p:nvPr/>
        </p:nvPicPr>
        <p:blipFill>
          <a:blip r:embed="rId3"/>
          <a:stretch/>
        </p:blipFill>
        <p:spPr>
          <a:xfrm>
            <a:off x="7315200" y="52578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300960" y="213480"/>
            <a:ext cx="745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Can you change the follow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99"/>
                </a:solidFill>
                <a:latin typeface="Arial"/>
              </a:rPr>
              <a:t>attributive clauses into verb-ed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94680" y="1370880"/>
            <a:ext cx="91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) We should drink water which has been boi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85800" y="1980360"/>
            <a:ext cx="55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We should drink boiled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208080" y="2513520"/>
            <a:ext cx="893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 They took the woman who was injured 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earby hospital at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531000" y="3580560"/>
            <a:ext cx="805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They took the injured woman to the near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hospital at 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147600" y="47235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3) The kidnappers were using a car which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to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30280" y="5866560"/>
            <a:ext cx="744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The kidnappers were using a stolen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u=404067225,2382807624&amp;gp=0"/>
          <p:cNvPicPr/>
          <p:nvPr/>
        </p:nvPicPr>
        <p:blipFill>
          <a:blip r:embed="rId1"/>
          <a:stretch/>
        </p:blipFill>
        <p:spPr>
          <a:xfrm>
            <a:off x="8488440" y="6035760"/>
            <a:ext cx="65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226080" y="456480"/>
            <a:ext cx="82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4) The dark-haired man went into the ro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912240" y="1065960"/>
            <a:ext cx="672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The man who was dark-haired w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into the ro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27160" y="2208960"/>
            <a:ext cx="783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5) The name which was mentioned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etter was unknown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837720" y="3275640"/>
            <a:ext cx="708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The name mentioned in the letter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known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25000" y="4342320"/>
            <a:ext cx="763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6) The firemen were trying to rescu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eople who were trapped in the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682920" y="5485320"/>
            <a:ext cx="708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The firemen were trying to rescu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people trapped in the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u=900039057,3148517832&amp;gp=0"/>
          <p:cNvPicPr/>
          <p:nvPr/>
        </p:nvPicPr>
        <p:blipFill>
          <a:blip r:embed="rId1"/>
          <a:stretch/>
        </p:blipFill>
        <p:spPr>
          <a:xfrm>
            <a:off x="7543800" y="5079960"/>
            <a:ext cx="16002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531360" y="762120"/>
            <a:ext cx="79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 flying bird   / the flown g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 falling /falle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rising /risen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 destroyed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 sport loved by many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n inspiring story /the inspired child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10-05T13:41:35Z</dcterms:modified>
  <cp:revision>1</cp:revision>
  <dc:subject/>
  <dc:title>幻灯片 1</dc:title>
</cp:coreProperties>
</file>