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4FBF-138F-4ECA-A682-800AFFA7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5BD8-A7BE-4E94-A75F-3148EAA5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DCC0-9AED-4925-A8EE-135FB293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398B-8090-4D15-A0FC-E400F4E8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A94E-E169-4556-A77A-5EF2ED36C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7D47-5BC0-45F6-8F01-6926E9E0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DA74-61B9-4010-B067-DACB799E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1494-913E-4DC6-8006-1F841508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6C7C-490D-413B-A1DF-6BEABB2F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B649-88F8-485C-AC08-8870FE13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31BD-A7C0-4CF3-AB2A-8A17ACAE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3F9D-9ACA-4D53-8F0E-63DCD1FF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E486-8D2E-4BF1-A27F-C158FC10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EAED-40DB-420C-9042-3779FCD7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F6AC-979D-478F-9AC7-AB035E81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6E6D-A6D0-44E3-BFC5-B90057EC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618E-8934-42E3-8751-A215F78B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90A65-B329-4F2F-BD3D-5A50008C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19CC9-842A-4CD3-90ED-7CA4A41C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2F83A-B226-4387-91E0-ED5A75CD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142BB-6102-4B97-B0D9-7A45F5D6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5D4FF-158D-47E7-912A-43613A53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6414-521C-48C3-ABC5-848E82BD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CDA69-8D36-4201-AFBB-5171D997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7699B-E06A-47C4-930F-C1B72F97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0966A-E724-402C-9CB8-68A97A4A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265BF-9AED-4B46-8822-39628621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780AF-8143-4C23-AF5E-F09025A6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00762-E195-4772-A164-BD79023D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E8F0F-C37C-4C66-80A7-FA78037A6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37B8C-858D-4D56-BC36-FAB0B5A5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268ED-B03E-4C02-9F06-B557FDB2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5A809-717E-4C76-A528-DD83CB9E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4DEC-6A3C-4DD5-A599-53E37594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F4728-E26F-4FC8-81B9-4A4B5D24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BD5B9-BC41-4CE1-9AEE-9DF0A7CF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A2E3E-63C4-4466-8B32-8A332103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3CA29-0796-433A-93C2-8E336A66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E4158-7B1D-4AA4-984C-606725CC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424AF-A8D2-4BA2-A3CC-3C5D521D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AC11B-0017-4101-8BE4-EA262197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FEC2E-C063-43FA-9E70-CCECC88A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8953B-6A9F-4DCB-8074-C7D4276F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044B-EF22-406B-8E93-1C717E76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9933-B340-4877-9174-AB73C290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9213-8F79-455F-9626-DD0611EC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F8A9-C59C-4402-87AE-2EBF163E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0E8A-0EA2-4EFA-B1DF-2E3438E5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52B4-1125-43C6-8874-B7E9D8EAA2E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>
                <a:gd name="textAreaLeft" fmla="*/ 0 w 306720"/>
                <a:gd name="textAreaRight" fmla="*/ 307080 w 3067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>
                    <a:gd name="textAreaLeft" fmla="*/ 0 w 249120"/>
                    <a:gd name="textAreaRight" fmla="*/ 249120 w 24912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0960"/>
                    <a:gd name="textAreaBottom" fmla="*/ 211320 h 21096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400"/>
                    <a:gd name="textAreaBottom" fmla="*/ 698760 h 69840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399960"/>
                    <a:gd name="textAreaBottom" fmla="*/ 400320 h 39996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600"/>
                    <a:gd name="textAreaBottom" fmla="*/ 336960 h 33660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440"/>
                    <a:gd name="textAreaBottom" fmla="*/ 136800 h 13644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000"/>
                    <a:gd name="textAreaBottom" fmla="*/ 198360 h 19800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4800"/>
                    <a:gd name="textAreaBottom" fmla="*/ 695160 h 69480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custGeom>
                  <a:avLst/>
                  <a:gdLst>
                    <a:gd name="textAreaLeft" fmla="*/ 0 w 1204200"/>
                    <a:gd name="textAreaRight" fmla="*/ 1204560 w 120420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320"/>
                    <a:gd name="textAreaBottom" fmla="*/ 193680 h 19332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2920"/>
                    <a:gd name="textAreaBottom" fmla="*/ 233280 h 23292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520"/>
                    <a:gd name="textAreaBottom" fmla="*/ 218880 h 21852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828E-AD7E-4F7B-928A-4F04A7426D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Freeform 9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>
                <a:gd name="textAreaLeft" fmla="*/ 0 w 3571920"/>
                <a:gd name="textAreaRight" fmla="*/ 3572280 w 3571920"/>
                <a:gd name="textAreaTop" fmla="*/ 0 h 1614600"/>
                <a:gd name="textAreaBottom" fmla="*/ 1614960 h 161460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>
                <a:gd name="textAreaLeft" fmla="*/ 0 w 2361960"/>
                <a:gd name="textAreaRight" fmla="*/ 2362320 w 2361960"/>
                <a:gd name="textAreaTop" fmla="*/ 0 h 1459080"/>
                <a:gd name="textAreaBottom" fmla="*/ 1459440 h 145908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Freeform 13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840"/>
                  <a:gd name="textAreaBottom" fmla="*/ 340200 h 339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" name="Freeform 15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880"/>
                  <a:gd name="textAreaBottom" fmla="*/ 975240 h 9748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" name="Freeform 16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" name="Freeform 17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3" name="Group 18"/>
          <p:cNvGrpSpPr/>
          <p:nvPr/>
        </p:nvGrpSpPr>
        <p:grpSpPr>
          <a:xfrm>
            <a:off x="7796160" y="4318200"/>
            <a:ext cx="980640" cy="1159920"/>
            <a:chOff x="7796160" y="4318200"/>
            <a:chExt cx="980640" cy="1159920"/>
          </a:xfrm>
        </p:grpSpPr>
        <p:sp>
          <p:nvSpPr>
            <p:cNvPr id="144" name="Freeform 19"/>
            <p:cNvSpPr/>
            <p:nvPr/>
          </p:nvSpPr>
          <p:spPr>
            <a:xfrm rot="7320000">
              <a:off x="7791480" y="465912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Freeform 20"/>
            <p:cNvSpPr/>
            <p:nvPr/>
          </p:nvSpPr>
          <p:spPr>
            <a:xfrm rot="7320000">
              <a:off x="7767720" y="463788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Freeform 21"/>
            <p:cNvSpPr/>
            <p:nvPr/>
          </p:nvSpPr>
          <p:spPr>
            <a:xfrm rot="7320000">
              <a:off x="7934400" y="462168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7" name="Group 22"/>
            <p:cNvGrpSpPr/>
            <p:nvPr/>
          </p:nvGrpSpPr>
          <p:grpSpPr>
            <a:xfrm>
              <a:off x="7796160" y="4318200"/>
              <a:ext cx="980640" cy="1159920"/>
              <a:chOff x="7796160" y="4318200"/>
              <a:chExt cx="980640" cy="1159920"/>
            </a:xfrm>
          </p:grpSpPr>
          <p:sp>
            <p:nvSpPr>
              <p:cNvPr id="148" name="Freeform 23"/>
              <p:cNvSpPr/>
              <p:nvPr/>
            </p:nvSpPr>
            <p:spPr>
              <a:xfrm rot="7320000">
                <a:off x="7916400" y="506232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" name="Freeform 24"/>
              <p:cNvSpPr/>
              <p:nvPr/>
            </p:nvSpPr>
            <p:spPr>
              <a:xfrm rot="7320000">
                <a:off x="7756920" y="4650840"/>
                <a:ext cx="1058760" cy="4946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4640"/>
                  <a:gd name="textAreaBottom" fmla="*/ 495000 h 4946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Freeform 25"/>
              <p:cNvSpPr/>
              <p:nvPr/>
            </p:nvSpPr>
            <p:spPr>
              <a:xfrm rot="7320000">
                <a:off x="8036280" y="4757760"/>
                <a:ext cx="749160" cy="27972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" name="Freeform 26"/>
              <p:cNvSpPr/>
              <p:nvPr/>
            </p:nvSpPr>
            <p:spPr>
              <a:xfrm rot="7320000">
                <a:off x="8514000" y="455976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Freeform 27"/>
              <p:cNvSpPr/>
              <p:nvPr/>
            </p:nvSpPr>
            <p:spPr>
              <a:xfrm rot="7320000">
                <a:off x="8152920" y="4759560"/>
                <a:ext cx="306360" cy="165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5600"/>
                  <a:gd name="textAreaBottom" fmla="*/ 165960 h 1656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CFAD-9B4C-46E6-961F-8D9BAFFBAB6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8A43-6081-4ACD-A38A-AB3D0D2A4362}" type="slidenum">
              <a:rPr b="0" lang="zh-CN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6"/>
          <p:cNvPicPr/>
          <p:nvPr/>
        </p:nvPicPr>
        <p:blipFill>
          <a:blip r:embed="rId1"/>
          <a:stretch/>
        </p:blipFill>
        <p:spPr>
          <a:xfrm>
            <a:off x="1905120" y="914400"/>
            <a:ext cx="3047760" cy="2895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3"/>
          <p:cNvPicPr/>
          <p:nvPr/>
        </p:nvPicPr>
        <p:blipFill>
          <a:blip r:embed="rId2"/>
          <a:stretch/>
        </p:blipFill>
        <p:spPr>
          <a:xfrm>
            <a:off x="2514600" y="1523880"/>
            <a:ext cx="3048120" cy="3124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5"/>
          <p:cNvPicPr/>
          <p:nvPr/>
        </p:nvPicPr>
        <p:blipFill>
          <a:blip r:embed="rId3"/>
          <a:stretch/>
        </p:blipFill>
        <p:spPr>
          <a:xfrm>
            <a:off x="3124080" y="2133720"/>
            <a:ext cx="3276720" cy="31240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1905480" y="5261040"/>
            <a:ext cx="553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Times New Roman"/>
              </a:rPr>
              <a:t>Are they really beautiful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28440" y="822240"/>
            <a:ext cx="94618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Skimm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Get the main ideas of each par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Para1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: Technology of GM food frighten many peo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Para2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: There are two ways a plant or an animal ca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be modifi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Para3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:Supporters argue that GM plants are healthi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and have larger harve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Para4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: Whether it is safe for animals or humans to e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Para5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: Whether Gm plants are safe for the enviro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Para6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:Many countries have hesitated to giv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permissions for the production of GM foo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u=1837242291,481799694&amp;gp=3"/>
          <p:cNvPicPr/>
          <p:nvPr/>
        </p:nvPicPr>
        <p:blipFill>
          <a:blip r:embed="rId1"/>
          <a:stretch/>
        </p:blipFill>
        <p:spPr>
          <a:xfrm>
            <a:off x="7877160" y="5524560"/>
            <a:ext cx="1266840" cy="133344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3886200" y="83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3962520" y="1981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886200" y="2666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4114800" y="3962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0" y="1752480"/>
            <a:ext cx="8686800" cy="3200400"/>
          </a:xfrm>
          <a:prstGeom prst="flowChartMultidocumen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Comic Sans MS"/>
              </a:rPr>
              <a:t>Language point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5760" y="0"/>
            <a:ext cx="830376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.overdevelo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ow many tourist destinations are at the risk of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eing overdevelop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over-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过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外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额外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verus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verweig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verha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ver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vercook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verpopul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4001040" y="1859040"/>
            <a:ext cx="1527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度使用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超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悬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头顶上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煮得过头了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口过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-25200" y="380880"/>
            <a:ext cx="9431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1)The child is developing we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2)The argument developed into a bit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quarre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3)The place has developed from a fishing po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into a tourist cen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4)The car has developed sign of rust(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锈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5)The site is being developed by a build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compan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6)Please take the film to be develop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7)Don’t develop the bad habit of smok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8)They are developing a new medic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/projec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6454080" y="349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发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3872520" y="1292400"/>
            <a:ext cx="13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演变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;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发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8435520" y="2787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显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3186720" y="3730680"/>
            <a:ext cx="13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开发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;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利用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8282880" y="4159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冲洗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8390880" y="4800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养成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4482000" y="5711760"/>
            <a:ext cx="13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研制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;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策划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6480" y="0"/>
            <a:ext cx="90486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.further (adv./adj./v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a)The hospital is further/farther dow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this ro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b)Phone us if you want to seek furthe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inform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c)He went aboard for further educ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d)Further,it has come to our attention th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we are overdeveloping natural resour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e)We must look further into the mat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f)He joined the club to further his interes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253680" y="958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更远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168080" y="1797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更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7751520" y="2133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进一步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3263040" y="3882960"/>
            <a:ext cx="13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此外</a:t>
            </a: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;</a:t>
            </a: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而且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7472880" y="4876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进一步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5564880" y="6019920"/>
            <a:ext cx="13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促进</a:t>
            </a: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;</a:t>
            </a: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推动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581040" y="60840"/>
            <a:ext cx="678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3.favour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(:support UK, US favor )</a:t>
            </a:r>
            <a:r>
              <a:rPr b="1" i="1" lang="zh-CN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Comic Sans MS"/>
              </a:rPr>
              <a:t>              </a:t>
            </a:r>
            <a:r>
              <a:rPr b="1" i="1" lang="zh-CN" sz="3200" spc="-1" strike="noStrike">
                <a:solidFill>
                  <a:srgbClr val="0000ff"/>
                </a:solidFill>
                <a:latin typeface="Comic Sans MS"/>
              </a:rPr>
              <a:t>n. [U]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  / v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549360" y="883440"/>
            <a:ext cx="673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the support or approval of sth./sb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1696320" y="1447920"/>
            <a:ext cx="380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大部分人都投票支持这个候选人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516960" y="1905120"/>
            <a:ext cx="830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The majority of people voted </a:t>
            </a:r>
            <a:r>
              <a:rPr b="0" i="1" lang="zh-CN" sz="3200" spc="-1" strike="noStrike">
                <a:solidFill>
                  <a:srgbClr val="000000"/>
                </a:solidFill>
                <a:latin typeface="Comic Sans MS"/>
              </a:rPr>
              <a:t>in favour of</a:t>
            </a: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 th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candida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728280" y="3275640"/>
            <a:ext cx="69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He sent her presents in an attempt t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win her favour.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1544040" y="2819520"/>
            <a:ext cx="380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他送礼物给她试图赢得她的偏爱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772560" y="4647240"/>
            <a:ext cx="636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favourable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UK, US favorable :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  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                  </a:t>
            </a:r>
            <a:r>
              <a:rPr b="1" i="1" lang="zh-CN" sz="3200" spc="-1" strike="noStrike">
                <a:solidFill>
                  <a:srgbClr val="0000ff"/>
                </a:solidFill>
                <a:latin typeface="Comic Sans MS"/>
              </a:rPr>
              <a:t>adj.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有利的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580680" y="5485320"/>
            <a:ext cx="850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The opposite is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unfavourable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The weather seems favouable for the flight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ru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607680" y="2285280"/>
            <a:ext cx="33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4. argue :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zh-CN" sz="3200" spc="-1" strike="noStrike">
                <a:solidFill>
                  <a:srgbClr val="0000ff"/>
                </a:solidFill>
                <a:latin typeface="Comic Sans MS"/>
              </a:rPr>
              <a:t>v. [I]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3634920" y="2284920"/>
            <a:ext cx="4640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to speak angrily t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someone, telli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them that you disagre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with them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2548440" y="4327920"/>
            <a:ext cx="61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Comic Sans MS"/>
              </a:rPr>
              <a:t>v. [I or T]  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to give the reas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                         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for your opinion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                         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idea, belief, etc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3028320" y="5942880"/>
            <a:ext cx="17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[+ that]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2209680" y="2666880"/>
            <a:ext cx="609840" cy="3505320"/>
          </a:xfrm>
          <a:custGeom>
            <a:avLst/>
            <a:gdLst>
              <a:gd name="textAreaLeft" fmla="*/ 389520 w 609840"/>
              <a:gd name="textAreaRight" fmla="*/ 610200 w 60984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294120" y="0"/>
            <a:ext cx="813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The exchange rate is </a:t>
            </a:r>
            <a:r>
              <a:rPr b="0" i="1" lang="zh-CN" sz="3200" spc="-1" strike="noStrike">
                <a:solidFill>
                  <a:srgbClr val="ff0000"/>
                </a:solidFill>
                <a:latin typeface="Comic Sans MS"/>
              </a:rPr>
              <a:t>in our favor</a:t>
            </a: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 at pres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67280" y="457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对…有利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394920" y="990720"/>
            <a:ext cx="79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Of the two possible plans ,I </a:t>
            </a:r>
            <a:r>
              <a:rPr b="0" i="1" lang="zh-CN" sz="3200" spc="-1" strike="noStrike">
                <a:solidFill>
                  <a:srgbClr val="ff0000"/>
                </a:solidFill>
                <a:latin typeface="Comic Sans MS"/>
              </a:rPr>
              <a:t>favour </a:t>
            </a: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the firs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6080040" y="144468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赞成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;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偏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392760" y="1141920"/>
            <a:ext cx="608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The children are always arguing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402120" y="2742120"/>
            <a:ext cx="801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Kids, will you stop </a:t>
            </a:r>
            <a:r>
              <a:rPr b="0" i="1" lang="zh-CN" sz="3200" spc="-1" strike="noStrike">
                <a:solidFill>
                  <a:srgbClr val="ff0000"/>
                </a:solidFill>
                <a:latin typeface="Comic Sans MS"/>
              </a:rPr>
              <a:t>arguing with</a:t>
            </a: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 each other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722520" y="4570920"/>
            <a:ext cx="769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They were </a:t>
            </a:r>
            <a:r>
              <a:rPr b="0" i="1" lang="zh-CN" sz="3200" spc="-1" strike="noStrike">
                <a:solidFill>
                  <a:srgbClr val="ff0000"/>
                </a:solidFill>
                <a:latin typeface="Comic Sans MS"/>
              </a:rPr>
              <a:t>arguing over/about</a:t>
            </a: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 which film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to go and se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904760" y="457200"/>
            <a:ext cx="79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孩子们一直在争辩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546560" y="1981080"/>
            <a:ext cx="417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孩子们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你们能不能彼此停止争论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3123720" y="3657600"/>
            <a:ext cx="79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他们对于去看哪一部影片在争论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horz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389880" y="929160"/>
            <a:ext cx="780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The minister </a:t>
            </a:r>
            <a:r>
              <a:rPr b="0" i="1" lang="zh-CN" sz="3200" spc="-1" strike="noStrike">
                <a:solidFill>
                  <a:srgbClr val="ff0000"/>
                </a:solidFill>
                <a:latin typeface="Comic Sans MS"/>
              </a:rPr>
              <a:t>argued for/in favour o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Comic Sans MS"/>
              </a:rPr>
              <a:t>/against</a:t>
            </a: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 making cuts in military spending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639080" y="609480"/>
            <a:ext cx="48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部长争论以赞成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/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反对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削减军队开支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486720" y="2589840"/>
            <a:ext cx="762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703dff"/>
                </a:solidFill>
                <a:latin typeface="Comic Sans MS"/>
              </a:rPr>
              <a:t>The minister </a:t>
            </a:r>
            <a:r>
              <a:rPr b="0" i="1" lang="zh-CN" sz="3200" spc="-1" strike="noStrike">
                <a:solidFill>
                  <a:srgbClr val="ff0000"/>
                </a:solidFill>
                <a:latin typeface="Comic Sans MS"/>
              </a:rPr>
              <a:t>argued that</a:t>
            </a:r>
            <a:r>
              <a:rPr b="0" i="1" lang="zh-CN" sz="3200" spc="-1" strike="noStrike">
                <a:solidFill>
                  <a:srgbClr val="703dff"/>
                </a:solidFill>
                <a:latin typeface="Comic Sans MS"/>
              </a:rPr>
              <a:t> they should cu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703dff"/>
                </a:solidFill>
                <a:latin typeface="Comic Sans MS"/>
              </a:rPr>
              <a:t>down on military spending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538200" y="4647240"/>
            <a:ext cx="64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You can argue the case either w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3936600" y="3733920"/>
            <a:ext cx="79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两种方式你随便用哪一种为这个案子辩护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horz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452160" y="137160"/>
            <a:ext cx="7671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argument :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zh-CN" sz="3200" spc="-1" strike="noStrike">
                <a:solidFill>
                  <a:srgbClr val="0000ff"/>
                </a:solidFill>
                <a:latin typeface="Comic Sans MS"/>
              </a:rPr>
              <a:t>n.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zh-CN" sz="3200" spc="-1" strike="noStrike">
                <a:solidFill>
                  <a:srgbClr val="0000ff"/>
                </a:solidFill>
                <a:latin typeface="Comic Sans MS"/>
              </a:rPr>
              <a:t>[C or U]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 a disagreemen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                 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or the process of disagreeing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445680" y="2284920"/>
            <a:ext cx="7887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The children </a:t>
            </a:r>
            <a:r>
              <a:rPr b="0" i="1" lang="zh-CN" sz="3200" spc="-1" strike="noStrike">
                <a:solidFill>
                  <a:srgbClr val="ff0000"/>
                </a:solidFill>
                <a:latin typeface="Comic Sans MS"/>
              </a:rPr>
              <a:t>had an argument about/over</a:t>
            </a: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what game to play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430560" y="4342320"/>
            <a:ext cx="727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A decision was finally made after som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heated argum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854000" y="1371600"/>
            <a:ext cx="404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孩子们对于玩什么游戏进行了争论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3606120" y="3581280"/>
            <a:ext cx="79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在激烈的辩论后最终做出了一个决定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ru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16"/>
          <p:cNvPicPr/>
          <p:nvPr/>
        </p:nvPicPr>
        <p:blipFill>
          <a:blip r:embed="rId1"/>
          <a:stretch/>
        </p:blipFill>
        <p:spPr>
          <a:xfrm>
            <a:off x="1219320" y="685800"/>
            <a:ext cx="3124080" cy="2666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19"/>
          <p:cNvPicPr/>
          <p:nvPr/>
        </p:nvPicPr>
        <p:blipFill>
          <a:blip r:embed="rId2"/>
          <a:stretch/>
        </p:blipFill>
        <p:spPr>
          <a:xfrm>
            <a:off x="5181480" y="609480"/>
            <a:ext cx="3200400" cy="27432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res_img1"/>
          <p:cNvPicPr/>
          <p:nvPr/>
        </p:nvPicPr>
        <p:blipFill>
          <a:blip r:embed="rId3"/>
          <a:stretch/>
        </p:blipFill>
        <p:spPr>
          <a:xfrm>
            <a:off x="3124080" y="3962520"/>
            <a:ext cx="3200400" cy="26668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5"/>
          <p:cNvSpPr/>
          <p:nvPr/>
        </p:nvSpPr>
        <p:spPr>
          <a:xfrm>
            <a:off x="307080" y="1218600"/>
            <a:ext cx="908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What do the pictures lead you to think of?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889560" y="685080"/>
            <a:ext cx="364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5 </a:t>
            </a: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spell :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zh-CN" sz="3200" spc="-1" strike="noStrike">
                <a:solidFill>
                  <a:srgbClr val="0000ff"/>
                </a:solidFill>
                <a:latin typeface="Comic Sans MS"/>
              </a:rPr>
              <a:t>v. [I or T]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2979360" y="1157760"/>
            <a:ext cx="6060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to form a word or words with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the letters in the correct order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2438280" y="2513520"/>
            <a:ext cx="6072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Comic Sans MS"/>
              </a:rPr>
              <a:t>v.  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spell disaster/trouble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, etc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to cause something bad 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happen in the future;mean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2209680" y="1066680"/>
            <a:ext cx="304920" cy="1752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1967760" y="4815360"/>
            <a:ext cx="5511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"How do you spell 'receive'?" </a:t>
            </a:r>
            <a:r>
              <a:rPr b="0" i="1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R E C E I V E"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2035080" y="4267080"/>
            <a:ext cx="32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你怎样拼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receiv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2514240" y="5969160"/>
            <a:ext cx="47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spelling mistakes  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拼写错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674640" y="913320"/>
            <a:ext cx="722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a)This cold weather could spell troubl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for gardeners.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874160" y="304920"/>
            <a:ext cx="50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这种寒冷的天气可能会给园艺工人带来灾难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85720" y="1905120"/>
            <a:ext cx="39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b)Delay spells loss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293040" y="2379600"/>
            <a:ext cx="8270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6.rather th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a)I</a:t>
            </a:r>
            <a:r>
              <a:rPr b="0" i="1" lang="zh-CN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d like to have coffee rather than te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b)Rather than tell a lie ,he told us everyth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c)</a:t>
            </a:r>
            <a:r>
              <a:rPr b="0" i="1" lang="zh-CN" sz="3200" spc="-1" strike="noStrike">
                <a:solidFill>
                  <a:srgbClr val="800080"/>
                </a:solidFill>
                <a:latin typeface="Comic Sans MS"/>
              </a:rPr>
              <a:t>Rather than</a:t>
            </a: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 go to see the film I </a:t>
            </a:r>
            <a:r>
              <a:rPr b="0" i="1" lang="zh-CN" sz="3200" spc="-1" strike="noStrike">
                <a:solidFill>
                  <a:srgbClr val="800080"/>
                </a:solidFill>
                <a:latin typeface="Comic Sans MS"/>
              </a:rPr>
              <a:t>prefer to</a:t>
            </a: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             </a:t>
            </a: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stay at home,watching TV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                  </a:t>
            </a: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I </a:t>
            </a:r>
            <a:r>
              <a:rPr b="0" i="1" lang="zh-CN" sz="3200" spc="-1" strike="noStrike">
                <a:solidFill>
                  <a:srgbClr val="800080"/>
                </a:solidFill>
                <a:latin typeface="Comic Sans MS"/>
              </a:rPr>
              <a:t>would rather …than</a:t>
            </a:r>
            <a:r>
              <a:rPr b="0" i="1" lang="zh-CN" sz="3200" spc="-1" strike="noStrike">
                <a:solidFill>
                  <a:srgbClr val="0000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                 </a:t>
            </a: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I </a:t>
            </a:r>
            <a:r>
              <a:rPr b="0" i="1" lang="zh-CN" sz="3200" spc="-1" strike="noStrike">
                <a:solidFill>
                  <a:srgbClr val="800080"/>
                </a:solidFill>
                <a:latin typeface="Comic Sans MS"/>
              </a:rPr>
              <a:t>would…rather than</a:t>
            </a:r>
            <a:r>
              <a:rPr b="0" i="1" lang="zh-CN" sz="3200" spc="-1" strike="noStrike">
                <a:solidFill>
                  <a:srgbClr val="0000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                           </a:t>
            </a:r>
            <a:r>
              <a:rPr b="0" i="1" lang="zh-CN" sz="3200" spc="-1" strike="noStrike">
                <a:solidFill>
                  <a:srgbClr val="ff0000"/>
                </a:solidFill>
                <a:latin typeface="Comic Sans MS"/>
              </a:rPr>
              <a:t>区分</a:t>
            </a:r>
            <a:r>
              <a:rPr b="0" i="1" lang="zh-CN" sz="3200" spc="-1" strike="noStrike">
                <a:solidFill>
                  <a:srgbClr val="ff0000"/>
                </a:solidFill>
                <a:latin typeface="Comic Sans MS"/>
              </a:rPr>
              <a:t>: more than,other th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u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8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1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6" dur="2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9" dur="20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2" dur="2000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793800" y="1370520"/>
            <a:ext cx="699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800080"/>
                </a:solidFill>
                <a:latin typeface="Comic Sans MS"/>
              </a:rPr>
              <a:t>As events/it turned out</a:t>
            </a: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, </a:t>
            </a:r>
            <a:r>
              <a:rPr b="0" i="1" lang="zh-CN" sz="3200" spc="-1" strike="noStrike">
                <a:solidFill>
                  <a:srgbClr val="000000"/>
                </a:solidFill>
                <a:latin typeface="Comic Sans MS"/>
              </a:rPr>
              <a:t>we were righ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Comic Sans MS"/>
              </a:rPr>
              <a:t>to have decided to leave early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289440" y="2148480"/>
            <a:ext cx="6712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to be known or discovered finall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and surprisingly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1813680" y="4815360"/>
            <a:ext cx="6618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Comic Sans MS"/>
              </a:rPr>
              <a:t>The truth turned out to be strange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Comic Sans MS"/>
              </a:rPr>
              <a:t>than we had expected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785160" y="3581280"/>
            <a:ext cx="31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[+ to infinitive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2082600" y="4191120"/>
            <a:ext cx="404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事情真相结果要比我们预料的奇怪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1739880" y="457200"/>
            <a:ext cx="438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正如事情结果所证明的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我们决定早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出发是对的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713520" y="-720"/>
            <a:ext cx="26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7. turn out :</a:t>
            </a: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r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746640" y="-720"/>
            <a:ext cx="17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[+ that]</a:t>
            </a: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800640" y="989640"/>
            <a:ext cx="678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800080"/>
                </a:solidFill>
                <a:latin typeface="Comic Sans MS"/>
              </a:rPr>
              <a:t>It turns out that</a:t>
            </a: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 she had known him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when they were childr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1940040" y="533520"/>
            <a:ext cx="45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结果在他们是孩子的时候她就认识了他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266760" y="1892160"/>
            <a:ext cx="8369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1)The whole village </a:t>
            </a:r>
            <a:r>
              <a:rPr b="0" i="1" lang="zh-CN" sz="3200" spc="-1" strike="noStrike">
                <a:solidFill>
                  <a:srgbClr val="ff0000"/>
                </a:solidFill>
                <a:latin typeface="Comic Sans MS"/>
              </a:rPr>
              <a:t>turned out</a:t>
            </a: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 to welcom th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solid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2)If the weather </a:t>
            </a:r>
            <a:r>
              <a:rPr b="0" i="1" lang="zh-CN" sz="3200" spc="-1" strike="noStrike">
                <a:solidFill>
                  <a:srgbClr val="ff0000"/>
                </a:solidFill>
                <a:latin typeface="Comic Sans MS"/>
              </a:rPr>
              <a:t>turns out</a:t>
            </a: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 wet,we</a:t>
            </a:r>
            <a:r>
              <a:rPr b="0" i="1" lang="zh-CN" sz="3200" spc="-1" strike="noStrike">
                <a:solidFill>
                  <a:srgbClr val="0000ff"/>
                </a:solidFill>
                <a:latin typeface="Arial"/>
              </a:rPr>
              <a:t>’</a:t>
            </a: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ll have t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change our pl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3)The factory </a:t>
            </a:r>
            <a:r>
              <a:rPr b="0" i="1" lang="zh-CN" sz="3200" spc="-1" strike="noStrike">
                <a:solidFill>
                  <a:srgbClr val="ff0000"/>
                </a:solidFill>
                <a:latin typeface="Comic Sans MS"/>
              </a:rPr>
              <a:t>turns out</a:t>
            </a: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 900 cars a wee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4)Remember to </a:t>
            </a:r>
            <a:r>
              <a:rPr b="0" i="1" lang="zh-CN" sz="3200" spc="-1" strike="noStrike">
                <a:solidFill>
                  <a:srgbClr val="ff0000"/>
                </a:solidFill>
                <a:latin typeface="Comic Sans MS"/>
              </a:rPr>
              <a:t>turn out</a:t>
            </a: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 the light befor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         </a:t>
            </a: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leav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           </a:t>
            </a: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5)The teacher ordered him to </a:t>
            </a:r>
            <a:r>
              <a:rPr b="0" i="1" lang="zh-CN" sz="3200" spc="-1" strike="noStrike">
                <a:solidFill>
                  <a:srgbClr val="ff0000"/>
                </a:solidFill>
                <a:latin typeface="Comic Sans MS"/>
              </a:rPr>
              <a:t>turn ou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             </a:t>
            </a: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his pokec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              </a:t>
            </a: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6)He was </a:t>
            </a:r>
            <a:r>
              <a:rPr b="0" i="1" lang="zh-CN" sz="3200" spc="-1" strike="noStrike">
                <a:solidFill>
                  <a:srgbClr val="ff0000"/>
                </a:solidFill>
                <a:latin typeface="Comic Sans MS"/>
              </a:rPr>
              <a:t>turned out</a:t>
            </a:r>
            <a:r>
              <a:rPr b="0" i="1" lang="zh-CN" sz="3200" spc="-1" strike="noStrike">
                <a:solidFill>
                  <a:srgbClr val="0000ff"/>
                </a:solidFill>
                <a:latin typeface="Comic Sans MS"/>
              </a:rPr>
              <a:t> of his famil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4406040" y="2435400"/>
            <a:ext cx="13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出来</a:t>
            </a: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;</a:t>
            </a: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出动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4701960" y="3502080"/>
            <a:ext cx="17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结果是</a:t>
            </a: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;</a:t>
            </a: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证明是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7545960" y="3689280"/>
            <a:ext cx="13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生产</a:t>
            </a: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;</a:t>
            </a: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培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3787200" y="4844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关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4396680" y="5835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翻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8202600" y="5987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赶出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u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6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185760" y="457200"/>
            <a:ext cx="9039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Comic Sans MS"/>
              </a:rPr>
              <a:t>Nowhere is this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 truer than with geneticall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modified foo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否定词位于句首，句子要进行部分倒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Eg:Nowhere else can you find such a good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fla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70920" y="3505320"/>
            <a:ext cx="830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否定词与比较级连用表示最高级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Eg: I have never heard a more beautifu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voi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181800" y="685800"/>
            <a:ext cx="911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Research has been limited to increasi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production profits, 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rather than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 making s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that GM foods are saf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1797480" y="2511360"/>
            <a:ext cx="54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rather than 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为并列连词，前后成分注意并列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633960" y="2284920"/>
            <a:ext cx="75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004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广西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We wanted to get home before dark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but it did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t quite ___ as plann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845640" y="4037760"/>
            <a:ext cx="503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make out   B. turn out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C. go on   D. come u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1" name="Picture 4" descr="BUTERFL1"/>
          <p:cNvPicPr/>
          <p:nvPr/>
        </p:nvPicPr>
        <p:blipFill>
          <a:blip r:embed="rId1"/>
          <a:stretch/>
        </p:blipFill>
        <p:spPr>
          <a:xfrm>
            <a:off x="7238880" y="1447920"/>
            <a:ext cx="381240" cy="457200"/>
          </a:xfrm>
          <a:prstGeom prst="rect">
            <a:avLst/>
          </a:prstGeom>
          <a:ln w="0">
            <a:noFill/>
          </a:ln>
        </p:spPr>
      </p:pic>
      <p:sp>
        <p:nvSpPr>
          <p:cNvPr id="372" name="WordArt 5"/>
          <p:cNvSpPr txBox="1"/>
          <p:nvPr/>
        </p:nvSpPr>
        <p:spPr>
          <a:xfrm>
            <a:off x="3200400" y="685800"/>
            <a:ext cx="3429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高考链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cover dir="l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6.06936E-006 C -0.00052 0.00417 -0.00052 0.00879 -0.00173 0.01272 C -0.00312 0.01735 -0.0059 0.02128 -0.00798 0.02544 C -0.01371 0.037 -0.0184 0.05249 -0.02864 0.05712 C -0.03454 0.06544 -0.0427 0.0659 -0.05086 0.06775 C -0.06458 0.07654 -0.05156 0.06636 -0.06041 0.07839 C -0.06441 0.08394 -0.06805 0.08555 -0.07309 0.08879 C -0.07899 0.09712 -0.08211 0.09758 -0.08889 0.10359 C -0.09201 0.11492 -0.10625 0.12995 -0.11441 0.1355 C -0.12083 0.14706 -0.12864 0.15446 -0.13819 0.1607 C -0.14305 0.1674 -0.14861 0.17018 -0.15399 0.1755 C -0.1559 0.17735 -0.15694 0.18012 -0.15885 0.18197 C -0.16406 0.18706 -0.17083 0.18983 -0.17621 0.19469 C -0.18177 0.19977 -0.18368 0.20278 -0.19062 0.20509 C -0.19166 0.20717 -0.19218 0.21018 -0.19375 0.21134 C -0.19548 0.21318 -0.19809 0.21249 -0.2 0.21365 C -0.20173 0.21434 -0.20312 0.21665 -0.20486 0.21781 C -0.20642 0.21873 -0.20798 0.2192 -0.20954 0.21989 C -0.21857 0.23191 -0.20416 0.21365 -0.22552 0.23261 C -0.23906 0.24463 -0.25399 0.25712 -0.26996 0.2622 C -0.27656 0.26798 -0.28385 0.27145 -0.29062 0.277 C -0.2967 0.28209 -0.30173 0.28717 -0.30798 0.2918 C -0.31093 0.29411 -0.31284 0.29827 -0.31597 0.30035 C -0.31892 0.30243 -0.32552 0.30451 -0.32552 0.30451 C -0.33559 0.3133 -0.3243 0.30451 -0.33663 0.31076 C -0.33889 0.31191 -0.34097 0.3133 -0.34288 0.31515 C -0.34409 0.31631 -0.34479 0.31839 -0.34618 0.31931 C -0.34913 0.32116 -0.35555 0.32347 -0.35555 0.32347 C -0.3717 0.33804 -0.34809 0.31769 -0.36666 0.32995 C -0.36805 0.33087 -0.36857 0.33318 -0.36996 0.33411 C -0.37291 0.33596 -0.37951 0.33827 -0.37951 0.33827 C -0.38472 0.34567 -0.39288 0.34613 -0.4 0.34891 C -0.40312 0.35006 -0.40954 0.35307 -0.40954 0.35307 C -0.42257 0.37041 -0.40139 0.34266 -0.41753 0.36162 C -0.4368 0.38405 -0.41857 0.36301 -0.42864 0.3785 C -0.43107 0.3822 -0.43663 0.38914 -0.43663 0.38914 C -0.43715 0.39122 -0.44027 0.40001 -0.43663 0.40186 C -0.43454 0.40301 -0.43229 0.40024 -0.4302 0.39954 C -0.42864 0.39816 -0.42552 0.39538 -0.42552 0.39538 E">
                                      <p:cBhvr>
                                        <p:cTn id="562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163080" y="380880"/>
            <a:ext cx="86601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Comic Sans MS"/>
              </a:rPr>
              <a:t>1)When heated,ice will turn ______wa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Comic Sans MS"/>
              </a:rPr>
              <a:t>2)I didn’t need the umbrella,as it turned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Comic Sans MS"/>
              </a:rPr>
              <a:t>3)It’s immoral to turn ______one’s homela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Comic Sans MS"/>
              </a:rPr>
              <a:t>4)After that many farmers turned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i="1" lang="zh-CN" sz="3200" spc="-1" strike="noStrike">
                <a:solidFill>
                  <a:srgbClr val="000000"/>
                </a:solidFill>
                <a:latin typeface="Comic Sans MS"/>
              </a:rPr>
              <a:t>raising catt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Comic Sans MS"/>
              </a:rPr>
              <a:t>5)Jane turned _______his proposa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Comic Sans MS"/>
              </a:rPr>
              <a:t>6)You must turn_____uniform before leav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Comic Sans MS"/>
              </a:rPr>
              <a:t>7)He didn’t turn______until 10:30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Comic Sans MS"/>
              </a:rPr>
              <a:t>8)It turned _____ that he was a friend of hi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Comic Sans MS"/>
              </a:rPr>
              <a:t>9)The teacher called out their names ____tur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Comic Sans MS"/>
              </a:rPr>
              <a:t>10)Many people had to be turned ______from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zh-CN" sz="3200" spc="-1" strike="noStrike">
                <a:solidFill>
                  <a:srgbClr val="000000"/>
                </a:solidFill>
                <a:latin typeface="Comic Sans MS"/>
              </a:rPr>
              <a:t>the stadium because it’s fu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Comic Sans MS"/>
              </a:rPr>
              <a:t>11)There was nobody _____whom he could tur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5349600" y="457200"/>
            <a:ext cx="8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66"/>
                </a:solidFill>
                <a:latin typeface="Comic Sans MS"/>
              </a:rPr>
              <a:t>i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7782480" y="838080"/>
            <a:ext cx="7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66"/>
                </a:solidFill>
                <a:latin typeface="Comic Sans MS"/>
              </a:rPr>
              <a:t>ou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4267440" y="1295280"/>
            <a:ext cx="153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66"/>
                </a:solidFill>
                <a:latin typeface="Comic Sans MS"/>
              </a:rPr>
              <a:t>again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6804360" y="190512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66"/>
                </a:solidFill>
                <a:latin typeface="Comic Sans MS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3099960" y="274320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66"/>
                </a:solidFill>
                <a:latin typeface="Comic Sans MS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3271320" y="327672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66"/>
                </a:solidFill>
                <a:latin typeface="Comic Sans MS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3316680" y="3683160"/>
            <a:ext cx="6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66"/>
                </a:solidFill>
                <a:latin typeface="Comic Sans MS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10"/>
          <p:cNvSpPr/>
          <p:nvPr/>
        </p:nvSpPr>
        <p:spPr>
          <a:xfrm>
            <a:off x="2448360" y="4267080"/>
            <a:ext cx="7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66"/>
                </a:solidFill>
                <a:latin typeface="Comic Sans MS"/>
              </a:rPr>
              <a:t>ou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7233480" y="480060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66"/>
                </a:solidFill>
                <a:latin typeface="Comic Sans MS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6381000" y="525780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66"/>
                </a:solidFill>
                <a:latin typeface="Comic Sans MS"/>
              </a:rPr>
              <a:t>aw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4213800" y="627840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66"/>
                </a:solidFill>
                <a:latin typeface="Comic Sans MS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WordArt 2"/>
          <p:cNvSpPr txBox="1"/>
          <p:nvPr/>
        </p:nvSpPr>
        <p:spPr>
          <a:xfrm>
            <a:off x="2286000" y="2209680"/>
            <a:ext cx="4876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宋体"/>
              </a:rPr>
              <a:t>Tkank you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</p:spTree>
  </p:cSld>
  <p:transition>
    <p:comb dir="vert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1313640" y="1599120"/>
            <a:ext cx="6881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As a result of mankind and technolog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natural resources have been seriousl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affected and natural disasters attack u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fluently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0" name="Picture 3" descr="u=3759408811,3563482155&amp;gp=3"/>
          <p:cNvPicPr/>
          <p:nvPr/>
        </p:nvPicPr>
        <p:blipFill>
          <a:blip r:embed="rId1"/>
          <a:stretch/>
        </p:blipFill>
        <p:spPr>
          <a:xfrm>
            <a:off x="8153280" y="5486400"/>
            <a:ext cx="990720" cy="1371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u=2702730131,3843643757&amp;gp=2"/>
          <p:cNvPicPr/>
          <p:nvPr/>
        </p:nvPicPr>
        <p:blipFill>
          <a:blip r:embed="rId2"/>
          <a:stretch/>
        </p:blipFill>
        <p:spPr>
          <a:xfrm>
            <a:off x="2895480" y="3276720"/>
            <a:ext cx="4496040" cy="3200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2"/>
          <p:cNvSpPr txBox="1"/>
          <p:nvPr/>
        </p:nvSpPr>
        <p:spPr>
          <a:xfrm>
            <a:off x="1981080" y="1600200"/>
            <a:ext cx="563904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497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Reading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253" name="WordArt 3" descr=""/>
          <p:cNvPicPr/>
          <p:nvPr/>
        </p:nvPicPr>
        <p:blipFill>
          <a:blip r:embed="rId1"/>
          <a:stretch/>
        </p:blipFill>
        <p:spPr>
          <a:xfrm>
            <a:off x="1889280" y="3408480"/>
            <a:ext cx="5870520" cy="14745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82680" y="-360"/>
            <a:ext cx="56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800080"/>
                </a:solidFill>
                <a:latin typeface="Times New Roman"/>
              </a:rPr>
              <a:t>main idea of each paragrap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76200" y="899280"/>
            <a:ext cx="885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aragraph 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Natural resources have bee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seriously affected by carelessnes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302760" y="2056320"/>
            <a:ext cx="814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aragraph 2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Different attitudes towards th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304920" y="3047040"/>
            <a:ext cx="863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aragraph 3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Humans are moving towards 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important point in the relationship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with natu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302400" y="4799520"/>
            <a:ext cx="82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aragraph 4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Humans can only really win b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protecting na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Picture 7" descr="u=1837242291,481799694&amp;gp=3"/>
          <p:cNvPicPr/>
          <p:nvPr/>
        </p:nvPicPr>
        <p:blipFill>
          <a:blip r:embed="rId1"/>
          <a:stretch/>
        </p:blipFill>
        <p:spPr>
          <a:xfrm>
            <a:off x="7877160" y="5524560"/>
            <a:ext cx="1266840" cy="1333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1440" y="273960"/>
            <a:ext cx="637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800080"/>
                </a:solidFill>
                <a:latin typeface="Times New Roman"/>
              </a:rPr>
              <a:t>Discuss the following questions 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-720" y="837360"/>
            <a:ext cx="70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have people done to natu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-1800" y="1370880"/>
            <a:ext cx="91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2) If we continue in this way, what might happe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-3960" y="1828800"/>
            <a:ext cx="862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3)Is everything that is best for nature good fo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eopl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-2160" y="2818440"/>
            <a:ext cx="819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4) Which is more important, economic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evelopment or protecting nature?Why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-1080" y="3885120"/>
            <a:ext cx="762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5) What is the attitude of poorer nation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owards the problem? What about th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ttitude of developed nation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1674720" y="5561640"/>
            <a:ext cx="596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6) How can humans really wi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-720" y="303840"/>
            <a:ext cx="70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have people done to natu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-4320" y="913320"/>
            <a:ext cx="815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They have done a lot to destroy and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damage natu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(…overdevelope…constructing…creating…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-39960" y="2742480"/>
            <a:ext cx="91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2) If we continue in this way, what might happe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-1440" y="3504240"/>
            <a:ext cx="92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The planet we live on will be eventually destroy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-1800" y="4342320"/>
            <a:ext cx="805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3) Which is more important, economic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evelopment or protecting nature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y do you think so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2" name="Picture 7" descr="u=1837242291,481799694&amp;gp=3"/>
          <p:cNvPicPr/>
          <p:nvPr/>
        </p:nvPicPr>
        <p:blipFill>
          <a:blip r:embed="rId1"/>
          <a:stretch/>
        </p:blipFill>
        <p:spPr>
          <a:xfrm>
            <a:off x="7877160" y="5524560"/>
            <a:ext cx="1266840" cy="13334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227520" y="532440"/>
            <a:ext cx="762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4) What is the attitude of poorer nation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owards the problem? What about th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ttitude of developed nation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682920" y="1889640"/>
            <a:ext cx="7314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Poorer nations pay more attention t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economic development but less to th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environment while developed nation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are now concerned about saving na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rather than developing or destriying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378720" y="4418640"/>
            <a:ext cx="71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5) How can humans really win? 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6" name="Picture 5" descr="u=1837242291,481799694&amp;gp=3"/>
          <p:cNvPicPr/>
          <p:nvPr/>
        </p:nvPicPr>
        <p:blipFill>
          <a:blip r:embed="rId1"/>
          <a:stretch/>
        </p:blipFill>
        <p:spPr>
          <a:xfrm>
            <a:off x="7877160" y="5524560"/>
            <a:ext cx="1266840" cy="133344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1431720" y="4816440"/>
            <a:ext cx="670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By protecing natu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After all,food has to  be produced 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a healthy,natural system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2"/>
          <p:cNvSpPr txBox="1"/>
          <p:nvPr/>
        </p:nvSpPr>
        <p:spPr>
          <a:xfrm>
            <a:off x="1981080" y="1600200"/>
            <a:ext cx="563904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497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Reading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79" name="WordArt 3"/>
          <p:cNvSpPr txBox="1"/>
          <p:nvPr/>
        </p:nvSpPr>
        <p:spPr>
          <a:xfrm>
            <a:off x="1828800" y="3203640"/>
            <a:ext cx="594360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GM food: hope or danger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ut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07:16:52Z</dcterms:created>
  <dc:creator/>
  <dc:description/>
  <cp:keywords/>
  <dc:language>en-US</dc:language>
  <cp:lastModifiedBy>Administrator</cp:lastModifiedBy>
  <dcterms:modified xsi:type="dcterms:W3CDTF">2016-10-05T13:31:1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