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F8D-49FD-490B-9CE6-2C94C3E7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E6C-0C50-4E7B-81C8-4D5CBD6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6E2-3ADF-48BC-A143-739970DF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561-8B1D-4958-B035-2AC433B6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1CD-6A99-4E50-816F-9DAB4DFF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80F-7B55-464B-8634-A6689677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767-7452-4F4F-91E6-90E0E82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AF5-6E07-4320-A927-A6A3489D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EB8-F3D0-428F-AB89-709536B8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6FC-A4AC-45F8-B38A-A068E05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425-50C2-4F19-9009-898FAB9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EC5-31CF-4E5F-92AD-75EA41B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821C-AD9B-4108-9ACB-8D60613595D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2607-AD73-4B1D-B4F5-0B4DA044E6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5360" y="682560"/>
            <a:ext cx="108759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Reading Comprehension skills of news stories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扬州中学 窦青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160880"/>
            <a:ext cx="12117240" cy="2671560"/>
          </a:xfrm>
          <a:prstGeom prst="rect">
            <a:avLst/>
          </a:prstGeom>
          <a:ln w="0">
            <a:noFill/>
          </a:ln>
        </p:spPr>
      </p:pic>
      <p:pic>
        <p:nvPicPr>
          <p:cNvPr id="44" name="生活大爆炸主题曲The Big Bang Theory Theme Song.mp3" descr=""/>
          <p:cNvPicPr/>
          <p:nvPr/>
        </p:nvPicPr>
        <p:blipFill>
          <a:blip r:embed="rId3"/>
          <a:stretch/>
        </p:blipFill>
        <p:spPr>
          <a:xfrm>
            <a:off x="247680" y="61117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3316"/>
          <p:cNvSpPr/>
          <p:nvPr/>
        </p:nvSpPr>
        <p:spPr>
          <a:xfrm>
            <a:off x="15238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9" descr="C:/Documents and Settings/Administrator/桌面/YD-5-1.TIF"/>
          <p:cNvPicPr/>
          <p:nvPr/>
        </p:nvPicPr>
        <p:blipFill>
          <a:blip r:embed="rId2"/>
          <a:stretch/>
        </p:blipFill>
        <p:spPr>
          <a:xfrm>
            <a:off x="676440" y="846000"/>
            <a:ext cx="10870920" cy="55562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"/>
          <p:cNvSpPr/>
          <p:nvPr/>
        </p:nvSpPr>
        <p:spPr>
          <a:xfrm>
            <a:off x="4210200" y="228600"/>
            <a:ext cx="44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ad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520" y="365040"/>
            <a:ext cx="10621800" cy="1325520"/>
          </a:xfrm>
          <a:prstGeom prst="rect">
            <a:avLst/>
          </a:prstGeom>
          <a:solidFill>
            <a:srgbClr val="ffff77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 Black"/>
              </a:rPr>
              <a:t>Group Discussion: How do you understand the following statements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9440" y="1825200"/>
            <a:ext cx="1121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If  pluto-which  was  demoted  from  planet   status  to  that  of  “dwarf  plant”  in  2006 -had  feelings , it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wouldn't be too happy to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hear the latest news: Scientists may have found its replacemen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——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1s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It would be one of the most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delicious ironies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in recent scientific histor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——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USA Toda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3. Planet Nine's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potential existence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would help make our own solar system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a little less unique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in the univers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——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he Atlantic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62120" y="1506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Calibri"/>
              </a:rPr>
              <a:t>What should we pay special attention to when we are reading a piece of news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Calibri"/>
              </a:rPr>
              <a:t>1. Grasp the main idea while reading the title and the lea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3300" spc="-1" strike="noStrike">
                <a:solidFill>
                  <a:srgbClr val="000000"/>
                </a:solidFill>
                <a:latin typeface="Calibri"/>
              </a:rPr>
              <a:t>2. Guess the meaning of new words or phrases according to the contex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3300" spc="-1" strike="noStrike">
                <a:solidFill>
                  <a:srgbClr val="000000"/>
                </a:solidFill>
                <a:latin typeface="Calibri"/>
              </a:rPr>
              <a:t>3. Have a deep understanding of people's comments on the issue with the help of the given examples or further explanat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矩形 4" descr=""/>
          <p:cNvPicPr/>
          <p:nvPr/>
        </p:nvPicPr>
        <p:blipFill>
          <a:blip r:embed="rId2"/>
          <a:stretch/>
        </p:blipFill>
        <p:spPr>
          <a:xfrm>
            <a:off x="687240" y="291960"/>
            <a:ext cx="52387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ce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38080" y="21744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Read “Internet Population Booms” and finish the following multiple cho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矩形 3" descr=""/>
          <p:cNvPicPr/>
          <p:nvPr/>
        </p:nvPicPr>
        <p:blipFill>
          <a:blip r:embed="rId1"/>
          <a:stretch/>
        </p:blipFill>
        <p:spPr>
          <a:xfrm>
            <a:off x="750960" y="596880"/>
            <a:ext cx="7513560" cy="920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" descr=""/>
          <p:cNvPicPr/>
          <p:nvPr/>
        </p:nvPicPr>
        <p:blipFill>
          <a:blip r:embed="rId2"/>
          <a:stretch/>
        </p:blipFill>
        <p:spPr>
          <a:xfrm>
            <a:off x="-19080" y="3825720"/>
            <a:ext cx="121698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.What is the main idea of the news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50840" y="1522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hina is far from being an internet-developed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China is still weak in many aspects according to the evaluation based on I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IDI is the most objective criterion for assessing Internet and information development of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The number of the internet users is booming in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十字星 3"/>
          <p:cNvSpPr/>
          <p:nvPr/>
        </p:nvSpPr>
        <p:spPr>
          <a:xfrm>
            <a:off x="957240" y="3998880"/>
            <a:ext cx="622440" cy="820800"/>
          </a:xfrm>
          <a:custGeom>
            <a:avLst/>
            <a:gdLst>
              <a:gd name="textAreaLeft" fmla="*/ 256320 w 622440"/>
              <a:gd name="textAreaRight" fmla="*/ 366120 w 622440"/>
              <a:gd name="textAreaTop" fmla="*/ 338040 h 820800"/>
              <a:gd name="textAreaBottom" fmla="*/ 4827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18415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4"/>
          <p:cNvSpPr/>
          <p:nvPr/>
        </p:nvSpPr>
        <p:spPr>
          <a:xfrm>
            <a:off x="1079640" y="4986360"/>
            <a:ext cx="8664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lue: Title+Para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What does “penetration”  in Para9 mea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sub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ow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. call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十字星 3"/>
          <p:cNvSpPr/>
          <p:nvPr/>
        </p:nvSpPr>
        <p:spPr>
          <a:xfrm>
            <a:off x="1062000" y="3146400"/>
            <a:ext cx="744480" cy="944640"/>
          </a:xfrm>
          <a:custGeom>
            <a:avLst/>
            <a:gdLst>
              <a:gd name="textAreaLeft" fmla="*/ 306720 w 744480"/>
              <a:gd name="textAreaRight" fmla="*/ 437760 w 744480"/>
              <a:gd name="textAreaTop" fmla="*/ 389160 h 944640"/>
              <a:gd name="textAreaBottom" fmla="*/ 555480 h 94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18415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1230480" y="5138640"/>
            <a:ext cx="9621720" cy="1556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宋体"/>
              </a:rPr>
              <a:t>Clue: Para 9 low penetration rate for cell phones in rural China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  <a:ea typeface="宋体"/>
              </a:rPr>
              <a:t>negatively affected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宋体"/>
              </a:rPr>
              <a:t> the measure of China's mobile phon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  <a:ea typeface="宋体"/>
              </a:rPr>
              <a:t>subscrip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" descr=""/>
          <p:cNvPicPr/>
          <p:nvPr/>
        </p:nvPicPr>
        <p:blipFill>
          <a:blip r:embed="rId2"/>
          <a:stretch/>
        </p:blipFill>
        <p:spPr>
          <a:xfrm>
            <a:off x="7493040" y="1347840"/>
            <a:ext cx="36972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1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形标注 11"/>
          <p:cNvSpPr/>
          <p:nvPr/>
        </p:nvSpPr>
        <p:spPr>
          <a:xfrm>
            <a:off x="9505800" y="4641840"/>
            <a:ext cx="1792440" cy="836640"/>
          </a:xfrm>
          <a:prstGeom prst="wedgeEllipseCallout">
            <a:avLst>
              <a:gd name="adj1" fmla="val -85990"/>
              <a:gd name="adj2" fmla="val -10212"/>
            </a:avLst>
          </a:prstGeom>
          <a:solidFill>
            <a:srgbClr val="f6f1c3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ara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椭圆形标注 10"/>
          <p:cNvSpPr/>
          <p:nvPr/>
        </p:nvSpPr>
        <p:spPr>
          <a:xfrm>
            <a:off x="9551880" y="3427560"/>
            <a:ext cx="2567160" cy="836640"/>
          </a:xfrm>
          <a:prstGeom prst="wedgeEllipseCallout">
            <a:avLst>
              <a:gd name="adj1" fmla="val -33152"/>
              <a:gd name="adj2" fmla="val 55240"/>
            </a:avLst>
          </a:prstGeom>
          <a:solidFill>
            <a:srgbClr val="f6f1c3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ara4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椭圆形标注 8"/>
          <p:cNvSpPr/>
          <p:nvPr/>
        </p:nvSpPr>
        <p:spPr>
          <a:xfrm>
            <a:off x="9834480" y="1231920"/>
            <a:ext cx="1976400" cy="836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6f1c3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ara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54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. Which of the following statements about IDI is right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十字星 3"/>
          <p:cNvSpPr/>
          <p:nvPr/>
        </p:nvSpPr>
        <p:spPr>
          <a:xfrm>
            <a:off x="1077840" y="3603600"/>
            <a:ext cx="411120" cy="927000"/>
          </a:xfrm>
          <a:custGeom>
            <a:avLst/>
            <a:gdLst>
              <a:gd name="textAreaLeft" fmla="*/ 169200 w 411120"/>
              <a:gd name="textAreaRight" fmla="*/ 241920 w 411120"/>
              <a:gd name="textAreaTop" fmla="*/ 381960 h 927000"/>
              <a:gd name="textAreaBottom" fmla="*/ 545040 h 92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18415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椭圆形标注 9"/>
          <p:cNvSpPr/>
          <p:nvPr/>
        </p:nvSpPr>
        <p:spPr>
          <a:xfrm>
            <a:off x="10250640" y="2558880"/>
            <a:ext cx="1930320" cy="640080"/>
          </a:xfrm>
          <a:prstGeom prst="wedgeEllipseCallout">
            <a:avLst>
              <a:gd name="adj1" fmla="val -52300"/>
              <a:gd name="adj2" fmla="val 40736"/>
            </a:avLst>
          </a:prstGeom>
          <a:solidFill>
            <a:srgbClr val="f6f1c3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ara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794960"/>
            <a:ext cx="9829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ICT rankings of 2015 indicates China is no longer left beh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Fixed mobile phone subscription is not measured by IDI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IDI is an indicator widely used around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The gross high school enrollment ration is one of China's weakest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1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8880" y="365040"/>
            <a:ext cx="1135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4. What is the author's attitude towards the issue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43200" y="1885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. indiffe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posi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neut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. concern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十字星 3"/>
          <p:cNvSpPr/>
          <p:nvPr/>
        </p:nvSpPr>
        <p:spPr>
          <a:xfrm>
            <a:off x="1625760" y="3770280"/>
            <a:ext cx="880920" cy="927000"/>
          </a:xfrm>
          <a:custGeom>
            <a:avLst/>
            <a:gdLst>
              <a:gd name="textAreaLeft" fmla="*/ 362880 w 880920"/>
              <a:gd name="textAreaRight" fmla="*/ 518040 w 880920"/>
              <a:gd name="textAreaTop" fmla="*/ 381960 h 927000"/>
              <a:gd name="textAreaBottom" fmla="*/ 545040 h 92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18415"/>
          </a:solidFill>
          <a:ln w="1260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4" descr=""/>
          <p:cNvPicPr/>
          <p:nvPr/>
        </p:nvPicPr>
        <p:blipFill>
          <a:blip r:embed="rId1"/>
          <a:stretch/>
        </p:blipFill>
        <p:spPr>
          <a:xfrm>
            <a:off x="7899480" y="2517840"/>
            <a:ext cx="3143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1440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What are the characters of the distractors in a multiple choi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A.too general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B.too specif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C.not mention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.irreleva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矩形 3" descr=""/>
          <p:cNvPicPr/>
          <p:nvPr/>
        </p:nvPicPr>
        <p:blipFill>
          <a:blip r:embed="rId1"/>
          <a:stretch/>
        </p:blipFill>
        <p:spPr>
          <a:xfrm>
            <a:off x="888840" y="565200"/>
            <a:ext cx="3697560" cy="920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9201240" y="4295880"/>
            <a:ext cx="278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矩形 5" descr=""/>
          <p:cNvPicPr/>
          <p:nvPr/>
        </p:nvPicPr>
        <p:blipFill>
          <a:blip r:embed="rId1"/>
          <a:stretch/>
        </p:blipFill>
        <p:spPr>
          <a:xfrm>
            <a:off x="627120" y="398520"/>
            <a:ext cx="11196720" cy="92052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8" descr=""/>
          <p:cNvPicPr/>
          <p:nvPr/>
        </p:nvPicPr>
        <p:blipFill>
          <a:blip r:embed="rId2"/>
          <a:stretch/>
        </p:blipFill>
        <p:spPr>
          <a:xfrm>
            <a:off x="2368440" y="4670280"/>
            <a:ext cx="7499520" cy="92088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9" descr=""/>
          <p:cNvPicPr/>
          <p:nvPr/>
        </p:nvPicPr>
        <p:blipFill>
          <a:blip r:embed="rId3"/>
          <a:stretch/>
        </p:blipFill>
        <p:spPr>
          <a:xfrm>
            <a:off x="3233880" y="2133720"/>
            <a:ext cx="5448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256"/>
            </a:gs>
            <a:gs pos="100000">
              <a:srgbClr val="5276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3551400" y="2633760"/>
            <a:ext cx="5483160" cy="37227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495360" y="328680"/>
            <a:ext cx="5000400" cy="24908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7408800" y="125280"/>
            <a:ext cx="4471920" cy="2684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4"/>
          <a:stretch/>
        </p:blipFill>
        <p:spPr>
          <a:xfrm>
            <a:off x="717480" y="3873600"/>
            <a:ext cx="2675160" cy="2485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9414000" y="4100400"/>
            <a:ext cx="25002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75760" y="964800"/>
            <a:ext cx="11820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sk 1:  Read “New Horizons for Wechat” thoroughly and design two reading comprehension multiple cho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Question 1: Focus on the general understanding of the n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mple questions: What is the main idea of the new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can we infer from the last paragrap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author's attitude towards the iss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Question 2: Focus on understanding the detailed information and com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mple questions: The critics who refer to... think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ich of the following statements is true/wro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does the underlined word/sentence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矩形 3" descr=""/>
          <p:cNvPicPr/>
          <p:nvPr/>
        </p:nvPicPr>
        <p:blipFill>
          <a:blip r:embed="rId1"/>
          <a:stretch/>
        </p:blipFill>
        <p:spPr>
          <a:xfrm>
            <a:off x="258840" y="63360"/>
            <a:ext cx="2963880" cy="9223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5" descr=""/>
          <p:cNvPicPr/>
          <p:nvPr/>
        </p:nvPicPr>
        <p:blipFill>
          <a:blip r:embed="rId2"/>
          <a:stretch/>
        </p:blipFill>
        <p:spPr>
          <a:xfrm>
            <a:off x="3141720" y="77760"/>
            <a:ext cx="16700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53920" y="2053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resent the multiple choices you designed with your partner and illustrate your intention and clu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矩形 3" descr=""/>
          <p:cNvPicPr/>
          <p:nvPr/>
        </p:nvPicPr>
        <p:blipFill>
          <a:blip r:embed="rId1"/>
          <a:stretch/>
        </p:blipFill>
        <p:spPr>
          <a:xfrm>
            <a:off x="917640" y="534960"/>
            <a:ext cx="5932440" cy="9208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" descr=""/>
          <p:cNvPicPr/>
          <p:nvPr/>
        </p:nvPicPr>
        <p:blipFill>
          <a:blip r:embed="rId2"/>
          <a:stretch/>
        </p:blipFill>
        <p:spPr>
          <a:xfrm>
            <a:off x="-17640" y="4098960"/>
            <a:ext cx="12106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224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1. What does the news intend to tell us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1612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Wechat is the most popular digital platform among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. Wechat is playing a new role in realizing students' dreams or making them outstand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 Researchers are exploring ways to become extraordinary onl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. You must spare no effors to produce successful Wechat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8657640" y="5845320"/>
            <a:ext cx="30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by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宋璨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胡若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2. Which of the follwing statements is correc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6282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Du once told Tech in Asia that he wanted to help provide convenience for his classmat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. John Osborn may agree that social is the most important part of ideas and only through authenticity and influence can we build credibility through soci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 One who has experience running a public account may not have one accou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. Emily Inverso believes you have to be creative to succe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1. What is the author's attitude in the news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86000" y="1855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iron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. neg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. indiffer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6169320" y="5084640"/>
            <a:ext cx="48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--By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沈心璇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方于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2.According to “Influential platform”, we can conclude that__________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25200"/>
            <a:ext cx="10909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Social is always core to every idea throughout hist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. Wechat is beneficial to many students' busineses for its flexibility and openne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 Every one who is creative can succeed on digital platform easi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. Articles on Wechat all have quality and original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矩形 3" descr=""/>
          <p:cNvPicPr/>
          <p:nvPr/>
        </p:nvPicPr>
        <p:blipFill>
          <a:blip r:embed="rId1"/>
          <a:stretch/>
        </p:blipFill>
        <p:spPr>
          <a:xfrm>
            <a:off x="272880" y="428760"/>
            <a:ext cx="4183200" cy="92052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1" descr=""/>
          <p:cNvPicPr/>
          <p:nvPr/>
        </p:nvPicPr>
        <p:blipFill>
          <a:blip r:embed="rId2"/>
          <a:stretch/>
        </p:blipFill>
        <p:spPr>
          <a:xfrm>
            <a:off x="3641760" y="1539720"/>
            <a:ext cx="4378320" cy="9208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4"/>
          <p:cNvSpPr/>
          <p:nvPr/>
        </p:nvSpPr>
        <p:spPr>
          <a:xfrm>
            <a:off x="311040" y="2543040"/>
            <a:ext cx="11782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ws is a fresh report of events, facts 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inions that people did not know before the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d your st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ws is not only about what’s taking place of the day, it also concerns background analysis, opinions, human interest stories, et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5" descr=""/>
          <p:cNvPicPr/>
          <p:nvPr/>
        </p:nvPicPr>
        <p:blipFill>
          <a:blip r:embed="rId1"/>
          <a:stretch/>
        </p:blipFill>
        <p:spPr>
          <a:xfrm>
            <a:off x="3240" y="-20520"/>
            <a:ext cx="12191760" cy="6792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111320" y="2130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1.Finish the reading comprehension materials using the reading strategy of news learnt tod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2.Exchange the reading comprehension questions with your classmates and give suggest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矩形 3" descr=""/>
          <p:cNvPicPr/>
          <p:nvPr/>
        </p:nvPicPr>
        <p:blipFill>
          <a:blip r:embed="rId2"/>
          <a:stretch/>
        </p:blipFill>
        <p:spPr>
          <a:xfrm>
            <a:off x="3848040" y="1038240"/>
            <a:ext cx="37400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1" name="内容占位符 3" descr=""/>
          <p:cNvPicPr/>
          <p:nvPr/>
        </p:nvPicPr>
        <p:blipFill>
          <a:blip r:embed="rId1"/>
          <a:stretch/>
        </p:blipFill>
        <p:spPr>
          <a:xfrm>
            <a:off x="-47520" y="34920"/>
            <a:ext cx="12249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77960" y="1353960"/>
            <a:ext cx="105156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many planets are there in the 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793800" y="2055960"/>
            <a:ext cx="10902960" cy="44910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5" descr=""/>
          <p:cNvPicPr/>
          <p:nvPr/>
        </p:nvPicPr>
        <p:blipFill>
          <a:blip r:embed="rId2"/>
          <a:stretch/>
        </p:blipFill>
        <p:spPr>
          <a:xfrm>
            <a:off x="444600" y="276120"/>
            <a:ext cx="3078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01640" y="26618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warf 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mall solar system bo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1"/>
          <a:stretch/>
        </p:blipFill>
        <p:spPr>
          <a:xfrm>
            <a:off x="5799240" y="222120"/>
            <a:ext cx="614196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矩形 4" descr=""/>
          <p:cNvPicPr/>
          <p:nvPr/>
        </p:nvPicPr>
        <p:blipFill>
          <a:blip r:embed="rId2"/>
          <a:stretch/>
        </p:blipFill>
        <p:spPr>
          <a:xfrm>
            <a:off x="692280" y="946080"/>
            <a:ext cx="38908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993600" y="2738520"/>
            <a:ext cx="4492800" cy="38685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" descr=""/>
          <p:cNvPicPr/>
          <p:nvPr/>
        </p:nvPicPr>
        <p:blipFill>
          <a:blip r:embed="rId2"/>
          <a:stretch/>
        </p:blipFill>
        <p:spPr>
          <a:xfrm>
            <a:off x="5578560" y="2766960"/>
            <a:ext cx="5622840" cy="3808440"/>
          </a:xfrm>
          <a:prstGeom prst="rect">
            <a:avLst/>
          </a:prstGeom>
          <a:ln w="0">
            <a:noFill/>
          </a:ln>
        </p:spPr>
      </p:pic>
      <p:pic>
        <p:nvPicPr>
          <p:cNvPr id="59" name="矩形 5" descr=""/>
          <p:cNvPicPr/>
          <p:nvPr/>
        </p:nvPicPr>
        <p:blipFill>
          <a:blip r:embed="rId3"/>
          <a:stretch/>
        </p:blipFill>
        <p:spPr>
          <a:xfrm>
            <a:off x="792000" y="444600"/>
            <a:ext cx="7218360" cy="920520"/>
          </a:xfrm>
          <a:prstGeom prst="rect">
            <a:avLst/>
          </a:prstGeom>
          <a:ln w="0">
            <a:noFill/>
          </a:ln>
        </p:spPr>
      </p:pic>
      <p:pic>
        <p:nvPicPr>
          <p:cNvPr id="60" name="矩形 7" descr=""/>
          <p:cNvPicPr/>
          <p:nvPr/>
        </p:nvPicPr>
        <p:blipFill>
          <a:blip r:embed="rId4"/>
          <a:stretch/>
        </p:blipFill>
        <p:spPr>
          <a:xfrm>
            <a:off x="2502000" y="1523880"/>
            <a:ext cx="72514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7720" y="928800"/>
          <a:ext cx="10515600" cy="533088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76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Hard New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1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Soft New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15"/>
                    </a:solidFill>
                  </a:tcPr>
                </a:tc>
              </a:tr>
              <a:tr h="456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is how journalists refer to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news of the day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is the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most common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type of new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is printed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on the front pag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of a typical newspaper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is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 term for all the news that </a:t>
                      </a:r>
                      <a:r>
                        <a:rPr b="0" lang="zh-CN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isn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'</a:t>
                      </a:r>
                      <a:r>
                        <a:rPr b="0" lang="zh-CN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t time-sens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includes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profil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of people, programs or organizations, etc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 the lead should present the subject of the story by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allusion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(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暗示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;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引喻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cc"/>
                    </a:solidFill>
                  </a:tcPr>
                </a:tc>
              </a:tr>
            </a:tbl>
          </a:graphicData>
        </a:graphic>
      </p:graphicFrame>
      <p:pic>
        <p:nvPicPr>
          <p:cNvPr id="62" name="矩形 2" descr=""/>
          <p:cNvPicPr/>
          <p:nvPr/>
        </p:nvPicPr>
        <p:blipFill>
          <a:blip r:embed="rId2"/>
          <a:stretch/>
        </p:blipFill>
        <p:spPr>
          <a:xfrm>
            <a:off x="3944880" y="123840"/>
            <a:ext cx="437688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95440" y="1809720"/>
            <a:ext cx="10880640" cy="4353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an the news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swer th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hy is 'Planet Nine' in 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itle in quotes(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加引号）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矩形 3" descr=""/>
          <p:cNvPicPr/>
          <p:nvPr/>
        </p:nvPicPr>
        <p:blipFill>
          <a:blip r:embed="rId3"/>
          <a:stretch/>
        </p:blipFill>
        <p:spPr>
          <a:xfrm>
            <a:off x="431640" y="596880"/>
            <a:ext cx="3149640" cy="920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"/>
          <p:cNvPicPr/>
          <p:nvPr/>
        </p:nvPicPr>
        <p:blipFill>
          <a:blip r:embed="rId4"/>
          <a:stretch/>
        </p:blipFill>
        <p:spPr>
          <a:xfrm>
            <a:off x="7651800" y="1787400"/>
            <a:ext cx="44434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2080" y="729720"/>
            <a:ext cx="10969560" cy="132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 Black"/>
              </a:rPr>
              <a:t>Fill in the blanks after reading the first two paragraph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423720" y="2843280"/>
            <a:ext cx="1124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,'Planet Nine' is revealed by _______________and ___________ of ______________________________based on the  ______________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679320" y="2841480"/>
            <a:ext cx="21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On Jan 20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7691400" y="28274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Konstatin Baty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501480" y="3362400"/>
            <a:ext cx="24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ike Br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3517920" y="3343320"/>
            <a:ext cx="71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alifornia Institute of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7"/>
          <p:cNvSpPr/>
          <p:nvPr/>
        </p:nvSpPr>
        <p:spPr>
          <a:xfrm>
            <a:off x="361800" y="3849840"/>
            <a:ext cx="109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he observation of the behavior of objects in the Kuiper be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1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7720" y="1825200"/>
            <a:ext cx="1115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(      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(      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(     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1103400" y="2317680"/>
            <a:ext cx="102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宋体"/>
              </a:rPr>
              <a:t>the news about the latest discovery of Planet N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088280" y="3487680"/>
            <a:ext cx="90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upporting information from the two scient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133280" y="4627440"/>
            <a:ext cx="100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omments from other media about the significa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f the disco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2435400" y="177156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7"/>
          <p:cNvSpPr/>
          <p:nvPr/>
        </p:nvSpPr>
        <p:spPr>
          <a:xfrm>
            <a:off x="2251440" y="287964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2-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8"/>
          <p:cNvSpPr/>
          <p:nvPr/>
        </p:nvSpPr>
        <p:spPr>
          <a:xfrm>
            <a:off x="2195280" y="4095720"/>
            <a:ext cx="9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5-6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矩形 9" descr=""/>
          <p:cNvPicPr/>
          <p:nvPr/>
        </p:nvPicPr>
        <p:blipFill>
          <a:blip r:embed="rId1"/>
          <a:stretch/>
        </p:blipFill>
        <p:spPr>
          <a:xfrm>
            <a:off x="911160" y="520560"/>
            <a:ext cx="2906640" cy="920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"/>
          <p:cNvPicPr/>
          <p:nvPr/>
        </p:nvPicPr>
        <p:blipFill>
          <a:blip r:embed="rId2"/>
          <a:stretch/>
        </p:blipFill>
        <p:spPr>
          <a:xfrm>
            <a:off x="6245280" y="222120"/>
            <a:ext cx="4991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Jacqueline.Dou</cp:lastModifiedBy>
  <dcterms:modified xsi:type="dcterms:W3CDTF">2016-04-06T03:27:31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