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094-A302-4E5F-9A08-978C40B2B4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B84-BE46-4560-B402-6B8029E1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DCE-EAB7-46DE-BB0B-41CA8D7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68E-36EC-45CD-B825-6040B808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AE4-FAD9-4229-86CF-E1BFEBE0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38A-7884-4B16-BE90-D5768E8D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9C0-8C70-4B63-B2F3-B30E261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D2F3-094C-4947-A754-B5B0271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66DD-01B3-4280-99DC-3B66140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0ADC-A299-4CDC-B4F3-0896F1F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C75-8287-4839-B0BD-9382C57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BF8-5EAE-4E56-ADC3-D22D8F2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FDD-FFD9-471F-8DC7-18837742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57D0-3B0F-44EA-B5DE-09C2999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E9C9-144B-4610-9784-552C84E4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7C5-CF40-4348-8287-F81D3D6D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F129-387F-4F5E-8517-6624CC59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D3D8-BF52-4A08-B950-00893729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62D-9C11-4901-8A03-04C47F17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068-1D04-4DD0-A009-33CF1304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E33-68E2-4BB7-BB2A-70C0D5C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8BE-0802-4287-AE05-6279B507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16E-967D-4E57-8B5E-2B76783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FD4-BABD-4414-A5F6-DD4E2A2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9CB-3EFC-4EBE-99E8-3A3B8CA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B53-1CCE-400B-96EC-F3C4007CE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432-20FE-4271-8C95-AB93E06602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28600" y="2057400"/>
            <a:ext cx="8651880" cy="14400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比较法”帮助学生理解核心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——与“变异”相关的专题复习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02400" y="5181480"/>
            <a:ext cx="52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扬州大学附属中学　吴红漫　</a:t>
            </a:r>
            <a:r>
              <a:rPr b="1" i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5150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2011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江苏卷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3)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有丝分裂和减数分裂的过程中均可产生的变异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制时发生碱基对的增添、缺失或改变，导致基因突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非同源染色体之间发生自由组合，导致基因重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非同源染色体之间交换一部分片段，导致染色体结构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着丝点分裂后形成的两条染色体不能移向两极，导致染色体数目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937560" y="175248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-PUA"/>
              </a:rPr>
              <a:t>A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048120" y="533520"/>
            <a:ext cx="29718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真题演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28600" y="226800"/>
            <a:ext cx="868680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四、从“主体”比较基因突变与染色体结构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6040" y="1019160"/>
            <a:ext cx="283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86040" y="1019160"/>
            <a:ext cx="182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79280" y="981000"/>
          <a:ext cx="8604360" cy="5573880"/>
        </p:xfrm>
        <a:graphic>
          <a:graphicData uri="http://schemas.openxmlformats.org/drawingml/2006/table">
            <a:tbl>
              <a:tblPr/>
              <a:tblGrid>
                <a:gridCol w="1658880"/>
                <a:gridCol w="2949840"/>
                <a:gridCol w="39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中宋"/>
                          <a:ea typeface="华文中宋"/>
                        </a:rPr>
                        <a:t>基因突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中宋"/>
                          <a:ea typeface="华文中宋"/>
                        </a:rPr>
                        <a:t>染色体结构变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中宋"/>
                          <a:ea typeface="华文中宋"/>
                        </a:rPr>
                        <a:t>发生变化的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</a:tr>
              <a:tr h="206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中宋"/>
                          <a:ea typeface="华文中宋"/>
                        </a:rPr>
                        <a:t>变化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中宋"/>
                          <a:ea typeface="华文中宋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 u="sng">
                          <a:solidFill>
                            <a:srgbClr val="003300"/>
                          </a:solidFill>
                          <a:uFillTx/>
                          <a:latin typeface="华文中宋"/>
                          <a:ea typeface="华文中宋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</a:tr>
              <a:tr h="206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华文中宋"/>
                          <a:ea typeface="华文中宋"/>
                        </a:rPr>
                        <a:t>产生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d9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2050920" y="148428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基因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（碱基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580000" y="155736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染色体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（片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40000" y="2781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缺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增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替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67280" y="249228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缺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重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倒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华文中宋"/>
              </a:rPr>
              <a:t>易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8000" y="472428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遗传信息改变；产生新基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产生等位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76720" y="4941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基因的数目和排列顺序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98360" y="2224080"/>
          <a:ext cx="8640720" cy="4481640"/>
        </p:xfrm>
        <a:graphic>
          <a:graphicData uri="http://schemas.openxmlformats.org/drawingml/2006/table">
            <a:tbl>
              <a:tblPr/>
              <a:tblGrid>
                <a:gridCol w="1096920"/>
                <a:gridCol w="3703680"/>
                <a:gridCol w="3840120"/>
              </a:tblGrid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交叉互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染色体易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</a:tr>
              <a:tr h="143928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发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发生于＿＿＿＿＿＿＿＿＿＿＿＿＿＿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                        　之间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发生于 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＿＿＿＿＿＿＿＿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之间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</a:tr>
              <a:tr h="95832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</a:tr>
              <a:tr h="52056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</a:tr>
              <a:tr h="1024200">
                <a:tc>
                  <a:txBody>
                    <a:bodyPr lIns="36000" rIns="36000" tIns="36000" bIns="360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产生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正常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异常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的子细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产生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华文中宋"/>
                          <a:ea typeface="华文中宋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正常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异常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的子细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3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5" name=""/>
          <p:cNvSpPr/>
          <p:nvPr/>
        </p:nvSpPr>
        <p:spPr>
          <a:xfrm>
            <a:off x="1628640" y="27208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　　同源染色体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非姐妹染色单体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3122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　　非同源染色体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12920" y="4203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减数第一次分裂前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的四分体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43578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减数分裂或有丝分裂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7480" y="51195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基因重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75360" y="51195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染色体结构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60680" y="56530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正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37120" y="56530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中宋"/>
              </a:rPr>
              <a:t>异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1676520" cy="128268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4120" y="785880"/>
            <a:ext cx="2361960" cy="1357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7086600" y="1600200"/>
            <a:ext cx="114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移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" y="150480"/>
            <a:ext cx="868680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四、从“主体”比较基因突变与染色体结构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rcRect l="0" t="0" r="58587" b="22457"/>
          <a:stretch/>
        </p:blipFill>
        <p:spPr>
          <a:xfrm>
            <a:off x="3132000" y="476280"/>
            <a:ext cx="2952720" cy="20289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2484360" y="5229360"/>
            <a:ext cx="5032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19280" y="1413000"/>
            <a:ext cx="208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华文中宋"/>
              </a:rPr>
              <a:t>缺失或重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94040" y="570852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华文中宋"/>
              </a:rPr>
              <a:t>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33320" y="578016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  <a:ea typeface="华文中宋"/>
              </a:rPr>
              <a:t>倒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rcRect l="56049" t="0" r="0" b="21854"/>
          <a:stretch/>
        </p:blipFill>
        <p:spPr>
          <a:xfrm>
            <a:off x="4716360" y="2492280"/>
            <a:ext cx="4067280" cy="2654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4500720" y="2276640"/>
            <a:ext cx="504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515280" y="5156280"/>
            <a:ext cx="539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4283280" cy="23511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79280" y="404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5280" y="194040"/>
            <a:ext cx="35290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异常的联会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-228960" y="837720"/>
            <a:ext cx="899172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2012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江苏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植株的一条染色体发生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缺失突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获得该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缺失染色体的花粉不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缺失染色体上具有红色显性基因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正常染色体上具有白色隐性基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如以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该植株为父本，测交后代中部分表现为红色性状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解释最合理的是　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428920" cy="1571760"/>
          </a:xfrm>
          <a:prstGeom prst="rect">
            <a:avLst/>
          </a:prstGeom>
          <a:ln w="9360">
            <a:solidFill>
              <a:srgbClr val="e40000"/>
            </a:solidFill>
            <a:miter/>
          </a:ln>
        </p:spPr>
      </p:pic>
      <p:sp>
        <p:nvSpPr>
          <p:cNvPr id="620" name=""/>
          <p:cNvSpPr/>
          <p:nvPr/>
        </p:nvSpPr>
        <p:spPr>
          <a:xfrm>
            <a:off x="457200" y="460044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减数分裂时染色单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的基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变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减数第二次分裂时姐妹染色单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由分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减数第二次分裂时非姐妹染色单体之间自由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减数第一次分裂时非姐妹染色单体之间交叉互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696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-P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00400" y="228600"/>
            <a:ext cx="29718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真题演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1246320" y="4481640"/>
            <a:ext cx="2181240" cy="2074680"/>
            <a:chOff x="1246320" y="4481640"/>
            <a:chExt cx="2181240" cy="2074680"/>
          </a:xfrm>
        </p:grpSpPr>
        <p:sp>
          <p:nvSpPr>
            <p:cNvPr id="624" name=""/>
            <p:cNvSpPr/>
            <p:nvPr/>
          </p:nvSpPr>
          <p:spPr>
            <a:xfrm>
              <a:off x="1246320" y="4481640"/>
              <a:ext cx="2181240" cy="207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1"/>
            <a:srcRect l="965" t="56450" r="53726" b="7589"/>
            <a:stretch/>
          </p:blipFill>
          <p:spPr>
            <a:xfrm>
              <a:off x="1565280" y="4797360"/>
              <a:ext cx="1511280" cy="149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"/>
          <p:cNvGrpSpPr/>
          <p:nvPr/>
        </p:nvGrpSpPr>
        <p:grpSpPr>
          <a:xfrm>
            <a:off x="4978440" y="1389240"/>
            <a:ext cx="2736720" cy="2736720"/>
            <a:chOff x="4978440" y="1389240"/>
            <a:chExt cx="2736720" cy="2736720"/>
          </a:xfrm>
        </p:grpSpPr>
        <p:sp>
          <p:nvSpPr>
            <p:cNvPr id="627" name=""/>
            <p:cNvSpPr/>
            <p:nvPr/>
          </p:nvSpPr>
          <p:spPr>
            <a:xfrm>
              <a:off x="4978440" y="1389240"/>
              <a:ext cx="2736720" cy="27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2">
              <a:lum contrast="12000"/>
            </a:blip>
            <a:srcRect l="52352" t="4710" r="0" b="0"/>
            <a:stretch/>
          </p:blipFill>
          <p:spPr>
            <a:xfrm>
              <a:off x="5505480" y="1749240"/>
              <a:ext cx="1633320" cy="21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1130400" y="1344600"/>
            <a:ext cx="2736720" cy="2736720"/>
            <a:chOff x="1130400" y="1344600"/>
            <a:chExt cx="2736720" cy="2736720"/>
          </a:xfrm>
        </p:grpSpPr>
        <p:sp>
          <p:nvSpPr>
            <p:cNvPr id="630" name=""/>
            <p:cNvSpPr/>
            <p:nvPr/>
          </p:nvSpPr>
          <p:spPr>
            <a:xfrm>
              <a:off x="1130400" y="1344600"/>
              <a:ext cx="2736720" cy="27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>
              <a:lum contrast="12000"/>
            </a:blip>
            <a:srcRect l="0" t="5181" r="47976" b="0"/>
            <a:stretch/>
          </p:blipFill>
          <p:spPr>
            <a:xfrm>
              <a:off x="1595520" y="1733400"/>
              <a:ext cx="1681200" cy="19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"/>
          <p:cNvGrpSpPr/>
          <p:nvPr/>
        </p:nvGrpSpPr>
        <p:grpSpPr>
          <a:xfrm>
            <a:off x="6157800" y="4525920"/>
            <a:ext cx="2181240" cy="2074680"/>
            <a:chOff x="6157800" y="4525920"/>
            <a:chExt cx="2181240" cy="2074680"/>
          </a:xfrm>
        </p:grpSpPr>
        <p:sp>
          <p:nvSpPr>
            <p:cNvPr id="633" name=""/>
            <p:cNvSpPr/>
            <p:nvPr/>
          </p:nvSpPr>
          <p:spPr>
            <a:xfrm>
              <a:off x="6157800" y="4525920"/>
              <a:ext cx="2181240" cy="207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" descr=""/>
            <p:cNvPicPr/>
            <p:nvPr/>
          </p:nvPicPr>
          <p:blipFill>
            <a:blip r:embed="rId4">
              <a:lum contrast="18000"/>
            </a:blip>
            <a:srcRect l="51020" t="55236" r="0" b="6561"/>
            <a:stretch/>
          </p:blipFill>
          <p:spPr>
            <a:xfrm>
              <a:off x="6502320" y="4827240"/>
              <a:ext cx="1513080" cy="146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"/>
          <p:cNvSpPr/>
          <p:nvPr/>
        </p:nvSpPr>
        <p:spPr>
          <a:xfrm>
            <a:off x="7585200" y="1530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精原细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4120" y="1673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卵原细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247760" y="4049640"/>
            <a:ext cx="6480000" cy="398880"/>
            <a:chOff x="1247760" y="4049640"/>
            <a:chExt cx="6480000" cy="398880"/>
          </a:xfrm>
        </p:grpSpPr>
        <p:sp>
          <p:nvSpPr>
            <p:cNvPr id="638" name=""/>
            <p:cNvSpPr/>
            <p:nvPr/>
          </p:nvSpPr>
          <p:spPr>
            <a:xfrm>
              <a:off x="1247760" y="4049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减数分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37560" y="4049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减数分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5000" y="5202360"/>
            <a:ext cx="8200800" cy="470520"/>
            <a:chOff x="405000" y="5202360"/>
            <a:chExt cx="8200800" cy="470520"/>
          </a:xfrm>
        </p:grpSpPr>
        <p:sp>
          <p:nvSpPr>
            <p:cNvPr id="641" name=""/>
            <p:cNvSpPr/>
            <p:nvPr/>
          </p:nvSpPr>
          <p:spPr>
            <a:xfrm>
              <a:off x="405000" y="520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卵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67880" y="5274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精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rot="5400000">
            <a:off x="-829080" y="3618000"/>
            <a:ext cx="3024360" cy="144360"/>
          </a:xfrm>
          <a:custGeom>
            <a:avLst/>
            <a:gdLst>
              <a:gd name="textAreaLeft" fmla="*/ 378000 w 3024360"/>
              <a:gd name="textAreaRight" fmla="*/ 2646360 w 3024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1f4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952800" y="4554360"/>
            <a:ext cx="2181240" cy="2075040"/>
            <a:chOff x="3952800" y="4554360"/>
            <a:chExt cx="2181240" cy="2075040"/>
          </a:xfrm>
        </p:grpSpPr>
        <p:sp>
          <p:nvSpPr>
            <p:cNvPr id="645" name=""/>
            <p:cNvSpPr/>
            <p:nvPr/>
          </p:nvSpPr>
          <p:spPr>
            <a:xfrm>
              <a:off x="3952800" y="4554360"/>
              <a:ext cx="2181240" cy="207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5"/>
            <a:srcRect l="965" t="56450" r="53726" b="7589"/>
            <a:stretch/>
          </p:blipFill>
          <p:spPr>
            <a:xfrm>
              <a:off x="4271760" y="4870440"/>
              <a:ext cx="1511280" cy="14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 rot="5400000">
            <a:off x="6901200" y="3385440"/>
            <a:ext cx="3024360" cy="215640"/>
          </a:xfrm>
          <a:custGeom>
            <a:avLst/>
            <a:gdLst>
              <a:gd name="textAreaLeft" fmla="*/ 378000 w 3024360"/>
              <a:gd name="textAreaRight" fmla="*/ 2646360 w 30243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1f4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484360" y="4121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724360" y="4121280"/>
            <a:ext cx="43200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88000" y="4121280"/>
            <a:ext cx="289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81280" y="1066680"/>
            <a:ext cx="1828800" cy="520560"/>
          </a:xfrm>
          <a:prstGeom prst="rect">
            <a:avLst/>
          </a:prstGeom>
          <a:solidFill>
            <a:srgbClr val="ffe2c5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黑体"/>
              </a:rPr>
              <a:t>二倍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564000" y="1600200"/>
            <a:ext cx="550800" cy="320760"/>
          </a:xfrm>
          <a:prstGeom prst="line">
            <a:avLst/>
          </a:prstGeom>
          <a:ln w="572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648320" y="1600200"/>
            <a:ext cx="644400" cy="320760"/>
          </a:xfrm>
          <a:prstGeom prst="line">
            <a:avLst/>
          </a:prstGeom>
          <a:ln w="572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308520"/>
            <a:ext cx="8458200" cy="5814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从“发育”比较单倍体、二倍体与多倍体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80880" y="537120"/>
            <a:ext cx="8458200" cy="5814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从“发育”比较单倍体、二倍体与多倍体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55640" y="148428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中宋"/>
              </a:rPr>
              <a:t>学习活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个体发育的角度理解“倍性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603360" y="1981080"/>
            <a:ext cx="8692920" cy="426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610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2014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江苏卷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关于染色体变异的叙述，正确的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染色体增加某一片段可提高基因表达水平，是有利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染色体缺失有利于隐性基因表达，可提高个体的生存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染色体易位不改变基因数量，对个体性状不会产生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通过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诱导多倍体的方法可克服远缘杂交不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培育出作物新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980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-P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609480"/>
            <a:ext cx="29718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真题演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28600" y="685800"/>
            <a:ext cx="85345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3. (9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一果蝇品系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一种突变体的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染色体上存在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lB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区段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ClB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表示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B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基因表现显性棒眼性状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;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l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基因的纯合子在胚胎期死亡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(X</a:t>
            </a:r>
            <a:r>
              <a:rPr b="1" lang="zh-CN" sz="2400" spc="-1" strike="noStrike" baseline="30000">
                <a:solidFill>
                  <a:srgbClr val="0066cc"/>
                </a:solidFill>
                <a:latin typeface="华文中宋"/>
                <a:ea typeface="华文中宋"/>
              </a:rPr>
              <a:t>ClB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 X</a:t>
            </a:r>
            <a:r>
              <a:rPr b="1" lang="zh-CN" sz="2400" spc="-1" strike="noStrike" baseline="30000">
                <a:solidFill>
                  <a:srgbClr val="0066cc"/>
                </a:solidFill>
                <a:latin typeface="华文中宋"/>
                <a:ea typeface="华文中宋"/>
              </a:rPr>
              <a:t>ClB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 baseline="30000">
                <a:solidFill>
                  <a:srgbClr val="0066cc"/>
                </a:solidFill>
                <a:latin typeface="华文中宋"/>
                <a:ea typeface="华文中宋"/>
              </a:rPr>
              <a:t>ClB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 Y 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不能存活</a:t>
            </a:r>
            <a:r>
              <a:rPr b="1" lang="zh-CN" sz="2400" spc="-1" strike="noStrike">
                <a:solidFill>
                  <a:srgbClr val="0066cc"/>
                </a:solidFill>
                <a:latin typeface="华文中宋"/>
                <a:ea typeface="华文中宋"/>
              </a:rPr>
              <a:t>);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ClB 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存在时，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X 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染色体间非姐妹染色单体不发生交换；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正常果蝇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X 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染色体无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ClB 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区段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用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 baseline="30000">
                <a:solidFill>
                  <a:srgbClr val="9f9fbf"/>
                </a:solidFill>
                <a:latin typeface="华文中宋"/>
                <a:ea typeface="华文中宋"/>
              </a:rPr>
              <a:t>+ 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表示</a:t>
            </a:r>
            <a:r>
              <a:rPr b="1" lang="zh-CN" sz="2400" spc="-1" strike="noStrike">
                <a:solidFill>
                  <a:srgbClr val="9f9fbf"/>
                </a:solidFill>
                <a:latin typeface="华文中宋"/>
                <a:ea typeface="华文中宋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华文中宋"/>
                <a:ea typeface="华文中宋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果蝇的长翅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Vg)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残翅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vg)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显性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基因位于常染色体上。请回答下列问题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410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867280" cy="30114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664" name=""/>
          <p:cNvSpPr/>
          <p:nvPr/>
        </p:nvSpPr>
        <p:spPr>
          <a:xfrm>
            <a:off x="609480" y="3844800"/>
            <a:ext cx="80773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研究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射线对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常眼果蝇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染色体诱变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示意图。为了鉴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染色体上正常眼基因是否发生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隐性突变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需用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常眼雄果蝇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华文中宋"/>
                <a:ea typeface="华文中宋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果蝇杂交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X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染色体的诱变类型能在其杂交后代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果蝇中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直接显现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来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且能计算出隐性突变频率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合理的解释是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如果用正常眼雄果蝇与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果蝇杂交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能准确计算出隐性突变频率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合理的解释是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2120" y="4724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可遗传变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1523880"/>
            <a:ext cx="304920" cy="3429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0400" y="4724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于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遗传物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改变所引起的变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1268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不可遗传变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1268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于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环境条件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改变所引起的变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内容占位符 1"/>
          <p:cNvSpPr/>
          <p:nvPr/>
        </p:nvSpPr>
        <p:spPr>
          <a:xfrm>
            <a:off x="1523880" y="2362320"/>
            <a:ext cx="7162920" cy="990360"/>
          </a:xfrm>
          <a:prstGeom prst="rect">
            <a:avLst/>
          </a:prstGeom>
          <a:solidFill>
            <a:srgbClr val="e1f4ff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环境条件：水、肥、阳光不同，温度改变，激素处理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内容占位符 1"/>
          <p:cNvSpPr/>
          <p:nvPr/>
        </p:nvSpPr>
        <p:spPr>
          <a:xfrm>
            <a:off x="1447920" y="3581280"/>
            <a:ext cx="7391160" cy="914400"/>
          </a:xfrm>
          <a:prstGeom prst="rect">
            <a:avLst/>
          </a:prstGeom>
          <a:solidFill>
            <a:srgbClr val="e1f4ff"/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环境条件：强烈紫外线、射线、太空辐射、化学诱变剂、一定浓度的秋水仙素、低温、异花传粉等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5219640" y="1942560"/>
            <a:ext cx="685800" cy="304920"/>
          </a:xfrm>
          <a:custGeom>
            <a:avLst/>
            <a:gdLst>
              <a:gd name="textAreaLeft" fmla="*/ 117720 w 685800"/>
              <a:gd name="textAreaRight" fmla="*/ 568080 w 685800"/>
              <a:gd name="textAreaTop" fmla="*/ 106920 h 304920"/>
              <a:gd name="textAreaBottom" fmla="*/ 198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7585"/>
                </a:moveTo>
                <a:lnTo>
                  <a:pt x="9128" y="7585"/>
                </a:lnTo>
                <a:lnTo>
                  <a:pt x="9128" y="0"/>
                </a:lnTo>
                <a:lnTo>
                  <a:pt x="21600" y="10800"/>
                </a:lnTo>
                <a:lnTo>
                  <a:pt x="9128" y="21600"/>
                </a:lnTo>
                <a:lnTo>
                  <a:pt x="9128" y="14015"/>
                </a:lnTo>
                <a:lnTo>
                  <a:pt x="0" y="14015"/>
                </a:lnTo>
                <a:lnTo>
                  <a:pt x="3713" y="10800"/>
                </a:lnTo>
                <a:lnTo>
                  <a:pt x="0" y="7585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4343040" y="4495680"/>
            <a:ext cx="609480" cy="304920"/>
          </a:xfrm>
          <a:custGeom>
            <a:avLst/>
            <a:gdLst>
              <a:gd name="textAreaLeft" fmla="*/ 104760 w 609480"/>
              <a:gd name="textAreaRight" fmla="*/ 504720 w 609480"/>
              <a:gd name="textAreaTop" fmla="*/ 106920 h 304920"/>
              <a:gd name="textAreaBottom" fmla="*/ 198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7585"/>
                </a:moveTo>
                <a:lnTo>
                  <a:pt x="9128" y="7585"/>
                </a:lnTo>
                <a:lnTo>
                  <a:pt x="9128" y="0"/>
                </a:lnTo>
                <a:lnTo>
                  <a:pt x="21600" y="10800"/>
                </a:lnTo>
                <a:lnTo>
                  <a:pt x="9128" y="21600"/>
                </a:lnTo>
                <a:lnTo>
                  <a:pt x="9128" y="14015"/>
                </a:lnTo>
                <a:lnTo>
                  <a:pt x="0" y="14015"/>
                </a:lnTo>
                <a:lnTo>
                  <a:pt x="3713" y="10800"/>
                </a:lnTo>
                <a:lnTo>
                  <a:pt x="0" y="7585"/>
                </a:lnTo>
                <a:close/>
              </a:path>
            </a:pathLst>
          </a:cu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553720" y="5457960"/>
            <a:ext cx="3133080" cy="1095120"/>
            <a:chOff x="5553720" y="5457960"/>
            <a:chExt cx="3133080" cy="1095120"/>
          </a:xfrm>
        </p:grpSpPr>
        <p:sp>
          <p:nvSpPr>
            <p:cNvPr id="521" name=""/>
            <p:cNvSpPr/>
            <p:nvPr/>
          </p:nvSpPr>
          <p:spPr>
            <a:xfrm rot="14238000">
              <a:off x="5524200" y="5676480"/>
              <a:ext cx="685800" cy="304920"/>
            </a:xfrm>
            <a:custGeom>
              <a:avLst/>
              <a:gdLst>
                <a:gd name="textAreaLeft" fmla="*/ 117720 w 685800"/>
                <a:gd name="textAreaRight" fmla="*/ 568080 w 685800"/>
                <a:gd name="textAreaTop" fmla="*/ 106920 h 304920"/>
                <a:gd name="textAreaBottom" fmla="*/ 198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585"/>
                  </a:moveTo>
                  <a:lnTo>
                    <a:pt x="9128" y="7585"/>
                  </a:lnTo>
                  <a:lnTo>
                    <a:pt x="9128" y="0"/>
                  </a:lnTo>
                  <a:lnTo>
                    <a:pt x="21600" y="10800"/>
                  </a:lnTo>
                  <a:lnTo>
                    <a:pt x="9128" y="21600"/>
                  </a:lnTo>
                  <a:lnTo>
                    <a:pt x="9128" y="14015"/>
                  </a:lnTo>
                  <a:lnTo>
                    <a:pt x="0" y="14015"/>
                  </a:lnTo>
                  <a:lnTo>
                    <a:pt x="3713" y="10800"/>
                  </a:lnTo>
                  <a:lnTo>
                    <a:pt x="0" y="7585"/>
                  </a:lnTo>
                  <a:close/>
                </a:path>
              </a:pathLst>
            </a:cu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内容占位符 1"/>
            <p:cNvSpPr/>
            <p:nvPr/>
          </p:nvSpPr>
          <p:spPr>
            <a:xfrm>
              <a:off x="6095880" y="5943600"/>
              <a:ext cx="2590920" cy="60948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黑体"/>
                  <a:ea typeface="黑体"/>
                </a:rPr>
                <a:t>内因、自发产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04920" y="457200"/>
            <a:ext cx="845820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华文中宋"/>
                <a:ea typeface="华文中宋"/>
              </a:rPr>
              <a:t>一、从“起因”比较 “变异”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62120" y="2593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可遗传变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" y="14968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29000" y="2563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于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遗传物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改变所引起的变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268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不可遗传变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1268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于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环境条件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改变所引起的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68320" y="378288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基因突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基因重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染色体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2120" y="51544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2280" y="3173400"/>
            <a:ext cx="2057400" cy="2189160"/>
            <a:chOff x="152280" y="3173400"/>
            <a:chExt cx="2057400" cy="2189160"/>
          </a:xfrm>
        </p:grpSpPr>
        <p:sp>
          <p:nvSpPr>
            <p:cNvPr id="532" name=""/>
            <p:cNvSpPr/>
            <p:nvPr/>
          </p:nvSpPr>
          <p:spPr>
            <a:xfrm>
              <a:off x="152280" y="424044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华文中宋"/>
                  <a:ea typeface="华文中宋"/>
                </a:rPr>
                <a:t>三种来源</a:t>
              </a:r>
              <a:r>
                <a:rPr b="1" lang="zh-CN" sz="3200" spc="-1" strike="noStrike">
                  <a:solidFill>
                    <a:srgbClr val="000066"/>
                  </a:solidFill>
                  <a:latin typeface="华文中宋"/>
                  <a:ea typeface="华文中宋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81080" y="3915000"/>
              <a:ext cx="228600" cy="1447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875520" y="3592440"/>
              <a:ext cx="1143000" cy="30492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3949560" y="38131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华文中宋"/>
                <a:ea typeface="华文中宋"/>
              </a:rPr>
              <a:t>→</a:t>
            </a:r>
            <a:r>
              <a:rPr b="1" lang="zh-CN" sz="2800" spc="-1" strike="noStrike">
                <a:solidFill>
                  <a:srgbClr val="cc00cc"/>
                </a:solidFill>
                <a:latin typeface="华文中宋"/>
                <a:ea typeface="华文中宋"/>
              </a:rPr>
              <a:t>基因结构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42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华文中宋"/>
                <a:ea typeface="华文中宋"/>
              </a:rPr>
              <a:t>→</a:t>
            </a:r>
            <a:r>
              <a:rPr b="1" lang="zh-CN" sz="2800" spc="-1" strike="noStrike">
                <a:solidFill>
                  <a:srgbClr val="cc00cc"/>
                </a:solidFill>
                <a:latin typeface="华文中宋"/>
                <a:ea typeface="华文中宋"/>
              </a:rPr>
              <a:t>非等位基因的重新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4800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华文中宋"/>
                <a:ea typeface="华文中宋"/>
              </a:rPr>
              <a:t>→</a:t>
            </a:r>
            <a:r>
              <a:rPr b="1" lang="zh-CN" sz="2800" spc="-1" strike="noStrike">
                <a:solidFill>
                  <a:srgbClr val="cc00cc"/>
                </a:solidFill>
                <a:latin typeface="华文中宋"/>
                <a:ea typeface="华文中宋"/>
              </a:rPr>
              <a:t>染色体结构或数目的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5486400"/>
            <a:ext cx="5410440" cy="8254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细菌、蓝藻等原核生物和病毒的可遗传变异的来源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15000" y="5759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→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基因突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457200"/>
            <a:ext cx="563868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有关“变异”的概念梳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内容占位符 4"/>
          <p:cNvSpPr/>
          <p:nvPr/>
        </p:nvSpPr>
        <p:spPr>
          <a:xfrm>
            <a:off x="457200" y="838080"/>
            <a:ext cx="771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华文中宋"/>
                <a:ea typeface="华文中宋"/>
              </a:rPr>
              <a:t>思考与感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" descr="G:\生物\123\V267.TIF"/>
          <p:cNvPicPr/>
          <p:nvPr/>
        </p:nvPicPr>
        <p:blipFill>
          <a:blip r:embed="rId1"/>
          <a:stretch/>
        </p:blipFill>
        <p:spPr>
          <a:xfrm>
            <a:off x="685800" y="1905120"/>
            <a:ext cx="762012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539640" y="1268280"/>
          <a:ext cx="8280360" cy="1185840"/>
        </p:xfrm>
        <a:graphic>
          <a:graphicData uri="http://schemas.openxmlformats.org/drawingml/2006/table">
            <a:tbl>
              <a:tblPr/>
              <a:tblGrid>
                <a:gridCol w="908280"/>
                <a:gridCol w="2403360"/>
                <a:gridCol w="2592360"/>
                <a:gridCol w="237636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组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66"/>
                          </a:solidFill>
                          <a:latin typeface="黑体"/>
                          <a:ea typeface="黑体"/>
                        </a:rPr>
                        <a:t>非同源染色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非等位基因间的重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66"/>
                          </a:solidFill>
                          <a:latin typeface="黑体"/>
                          <a:ea typeface="黑体"/>
                        </a:rPr>
                        <a:t>同源染色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非等位基因间的重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工基因重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D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33520" y="2492280"/>
          <a:ext cx="8280360" cy="3222720"/>
        </p:xfrm>
        <a:graphic>
          <a:graphicData uri="http://schemas.openxmlformats.org/drawingml/2006/table">
            <a:tbl>
              <a:tblPr/>
              <a:tblGrid>
                <a:gridCol w="888840"/>
                <a:gridCol w="2438280"/>
                <a:gridCol w="2540160"/>
                <a:gridCol w="24130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发生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黑体"/>
                          <a:ea typeface="黑体"/>
                        </a:rPr>
                        <a:t>　　　　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目的基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导入细胞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图像示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5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378936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282920" y="3854520"/>
            <a:ext cx="1900440" cy="17589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6553080" y="4149720"/>
            <a:ext cx="2195640" cy="9716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468520" y="2708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-PUA"/>
              </a:rPr>
              <a:t>减Ⅰ后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96120" y="266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-PUA"/>
              </a:rPr>
              <a:t>减Ⅰ四分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82800" y="31161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609480"/>
            <a:ext cx="845820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华文中宋"/>
                <a:ea typeface="华文中宋"/>
              </a:rPr>
              <a:t>二、从“时间”比较三类基因重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539640" y="1295280"/>
          <a:ext cx="8136000" cy="4817880"/>
        </p:xfrm>
        <a:graphic>
          <a:graphicData uri="http://schemas.openxmlformats.org/drawingml/2006/table">
            <a:tbl>
              <a:tblPr/>
              <a:tblGrid>
                <a:gridCol w="1368360"/>
                <a:gridCol w="3121200"/>
                <a:gridCol w="364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基因突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基因重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能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2209680" y="17701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新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37080" y="1770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新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基因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95640" y="251928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对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增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缺失、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57800" y="23511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非同源染色体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自由组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同源染色体的非姐妹染色体单体的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交叉互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95640" y="39942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复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39942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减数第一次分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97080" y="4633920"/>
            <a:ext cx="32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异的根本来源；进化的原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43400" y="466560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物变异来源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物多样性重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65200" y="5580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频但普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92720" y="5580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性生殖中普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0880" y="457200"/>
            <a:ext cx="861084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从“程度”比较基因突变与基因重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28600" y="761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析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图根据细胞分裂图来确定变异的类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Image1" descr=""/>
          <p:cNvPicPr/>
          <p:nvPr/>
        </p:nvPicPr>
        <p:blipFill>
          <a:blip r:embed="rId1"/>
          <a:srcRect l="59444" t="83676" r="5218" b="2335"/>
          <a:stretch/>
        </p:blipFill>
        <p:spPr>
          <a:xfrm>
            <a:off x="1676520" y="3200400"/>
            <a:ext cx="5715000" cy="33098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250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80880" y="1600200"/>
          <a:ext cx="807732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2755800"/>
                <a:gridCol w="3645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分裂时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变异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1752480" y="2209680"/>
            <a:ext cx="327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丝分裂后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52480" y="2743200"/>
            <a:ext cx="327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基因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76920" y="2209680"/>
            <a:ext cx="327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减数第二次分裂后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00600" y="2666880"/>
            <a:ext cx="327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基因突变或基因重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609120" y="1295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基因重组是真核生物有性生殖过程中产生可遗传变异的最重要来源，是形成生物多样性的重要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基因重组未产生新基因，只是原有基因的重新组合，只是产生了新的表现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或新品种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自然状况下，原核生物中不会发生基因重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特别提醒"/>
          <p:cNvPicPr/>
          <p:nvPr/>
        </p:nvPicPr>
        <p:blipFill>
          <a:blip r:embed="rId1"/>
          <a:stretch/>
        </p:blipFill>
        <p:spPr>
          <a:xfrm>
            <a:off x="609480" y="228600"/>
            <a:ext cx="1752840" cy="693720"/>
          </a:xfrm>
          <a:prstGeom prst="rect">
            <a:avLst/>
          </a:prstGeom>
          <a:ln w="9360">
            <a:solidFill>
              <a:srgbClr val="e40000"/>
            </a:solidFill>
            <a:miter/>
          </a:ln>
        </p:spPr>
      </p:pic>
      <p:sp>
        <p:nvSpPr>
          <p:cNvPr id="574" name="内容占位符 1"/>
          <p:cNvSpPr/>
          <p:nvPr/>
        </p:nvSpPr>
        <p:spPr>
          <a:xfrm>
            <a:off x="642960" y="4724280"/>
            <a:ext cx="7715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一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性状改变一定是基因突变引起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内容占位符 1"/>
          <p:cNvSpPr/>
          <p:nvPr/>
        </p:nvSpPr>
        <p:spPr>
          <a:xfrm>
            <a:off x="642960" y="5305320"/>
            <a:ext cx="7715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不一定，可能是基因突变，也可能是基因重组、染色体变异或只是由环境改变引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228240" y="918720"/>
            <a:ext cx="8651880" cy="15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014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江苏卷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)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羟胺可使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胞嘧啶分子转变为羟化胞嘧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导致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复制时发生错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若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片段的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两个胞嘧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子转变为羟化胞嘧啶，下列相关叙述正确的是　　　　　　　　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743200" y="2243160"/>
            <a:ext cx="3527280" cy="2170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24000" y="4559400"/>
            <a:ext cx="8651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该片段复制后的子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子上的碱基序列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生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该片段复制后的子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子中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－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碱基对与总碱基对的比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变化一定会引起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编码的蛋白质结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在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细胞核与细胞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均可发生如图所示的错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78600" y="193824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228600"/>
            <a:ext cx="29718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真题演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20T04:40:54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