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3554-1B83-4B05-B393-1660DEAE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8C0-B873-4761-906C-3AC65A64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D41E-1C14-47EE-9C4E-9CB8D085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216A-48B8-40B8-AFEA-B45CF1B3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50E2-95CF-4BF8-AB6C-53E0124B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C1F9-F518-4314-92A5-635A37C3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5CE2-4BD2-471A-9A9E-7AACD3F0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180C-3C52-49D0-B294-1B6D1A59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CCF9-ADAA-48F3-9B81-AA1DF9B0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C988-9582-4DD2-994A-B8829E8C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302B-CD41-434D-A1F7-B8A08F11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5B15-997F-4E81-9A6B-1EBEFC58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895B-1EB7-44FF-B7AE-B78ACC0455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4724640" cy="4546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半保留复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8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858000" cy="1412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76" descr=""/>
          <p:cNvPicPr/>
          <p:nvPr/>
        </p:nvPicPr>
        <p:blipFill>
          <a:blip r:embed="rId2"/>
          <a:srcRect l="4695" t="0" r="9390" b="0"/>
          <a:stretch/>
        </p:blipFill>
        <p:spPr>
          <a:xfrm>
            <a:off x="5715000" y="3505320"/>
            <a:ext cx="3200400" cy="1014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42640"/>
            <a:ext cx="9144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（苏北四市一模）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图中甲、乙、丙分别表示真核细胞内三种物质的合成过程，分析回答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29040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科学家运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▲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技术可探究甲过程的特点。若甲所示模板分子为              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其放在含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培养液中进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次甲过程，则子代中含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占比例为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83120" y="4952880"/>
            <a:ext cx="9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1/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5486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2120" y="227880"/>
            <a:ext cx="8921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（泰州市一模）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题干信息的提取和转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图为肺炎双球菌转化过程示意图，据图回答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32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370400" cy="4953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48320" y="2984040"/>
            <a:ext cx="4495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③过程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s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进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型菌体内与拟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同源区段配对，再经过④过程切除并替换拟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的一段单链，形成一个局部杂合的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该细菌经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次分裂，子代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型菌所占的比值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69640" y="563868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219320"/>
            <a:ext cx="4495680" cy="5375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133720" y="1600200"/>
            <a:ext cx="228600" cy="990720"/>
            <a:chOff x="2133720" y="1600200"/>
            <a:chExt cx="228600" cy="990720"/>
          </a:xfrm>
        </p:grpSpPr>
        <p:sp>
          <p:nvSpPr>
            <p:cNvPr id="55" name=""/>
            <p:cNvSpPr/>
            <p:nvPr/>
          </p:nvSpPr>
          <p:spPr>
            <a:xfrm>
              <a:off x="2133720" y="1600200"/>
              <a:ext cx="0" cy="990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2320" y="1600200"/>
              <a:ext cx="0" cy="990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219320" y="3200400"/>
            <a:ext cx="152280" cy="990720"/>
            <a:chOff x="1219320" y="3200400"/>
            <a:chExt cx="152280" cy="990720"/>
          </a:xfrm>
        </p:grpSpPr>
        <p:sp>
          <p:nvSpPr>
            <p:cNvPr id="58" name=""/>
            <p:cNvSpPr/>
            <p:nvPr/>
          </p:nvSpPr>
          <p:spPr>
            <a:xfrm>
              <a:off x="1219320" y="3200400"/>
              <a:ext cx="0" cy="990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71600" y="3200400"/>
              <a:ext cx="0" cy="990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971800" y="3200400"/>
            <a:ext cx="152280" cy="990720"/>
            <a:chOff x="2971800" y="3200400"/>
            <a:chExt cx="152280" cy="990720"/>
          </a:xfrm>
        </p:grpSpPr>
        <p:sp>
          <p:nvSpPr>
            <p:cNvPr id="61" name=""/>
            <p:cNvSpPr/>
            <p:nvPr/>
          </p:nvSpPr>
          <p:spPr>
            <a:xfrm>
              <a:off x="2971800" y="3200400"/>
              <a:ext cx="0" cy="990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24080" y="3200400"/>
              <a:ext cx="0" cy="990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600200" y="2743200"/>
            <a:ext cx="1143000" cy="228600"/>
            <a:chOff x="1600200" y="2743200"/>
            <a:chExt cx="1143000" cy="228600"/>
          </a:xfrm>
        </p:grpSpPr>
        <p:sp>
          <p:nvSpPr>
            <p:cNvPr id="64" name=""/>
            <p:cNvSpPr/>
            <p:nvPr/>
          </p:nvSpPr>
          <p:spPr>
            <a:xfrm flipH="1">
              <a:off x="1600200" y="274320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38280" y="27432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38400" y="1515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复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”和“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复制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468468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827720"/>
            <a:ext cx="754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）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个双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片段中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个碱基对，其中胸腺嘧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个，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连续复制四次，在第四次复制时需要消耗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个胞嘧啶脱氧核苷酸，复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次后含亲代脱氧核苷酸链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有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2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61040" y="608760"/>
            <a:ext cx="14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（扬州市第二次调研测试）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68120" y="32767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5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3809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4191120" y="1066680"/>
            <a:ext cx="152280" cy="838080"/>
            <a:chOff x="4191120" y="1066680"/>
            <a:chExt cx="152280" cy="838080"/>
          </a:xfrm>
        </p:grpSpPr>
        <p:sp>
          <p:nvSpPr>
            <p:cNvPr id="73" name=""/>
            <p:cNvSpPr/>
            <p:nvPr/>
          </p:nvSpPr>
          <p:spPr>
            <a:xfrm>
              <a:off x="4191120" y="1066680"/>
              <a:ext cx="0" cy="838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3400" y="1066680"/>
              <a:ext cx="0" cy="838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505320" y="2133720"/>
            <a:ext cx="152280" cy="838080"/>
            <a:chOff x="3505320" y="2133720"/>
            <a:chExt cx="152280" cy="838080"/>
          </a:xfrm>
        </p:grpSpPr>
        <p:sp>
          <p:nvSpPr>
            <p:cNvPr id="76" name=""/>
            <p:cNvSpPr/>
            <p:nvPr/>
          </p:nvSpPr>
          <p:spPr>
            <a:xfrm>
              <a:off x="3657600" y="2133720"/>
              <a:ext cx="0" cy="8380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5320" y="2133720"/>
              <a:ext cx="0" cy="838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876920" y="2133720"/>
            <a:ext cx="152280" cy="838080"/>
            <a:chOff x="4876920" y="2133720"/>
            <a:chExt cx="152280" cy="838080"/>
          </a:xfrm>
        </p:grpSpPr>
        <p:sp>
          <p:nvSpPr>
            <p:cNvPr id="79" name=""/>
            <p:cNvSpPr/>
            <p:nvPr/>
          </p:nvSpPr>
          <p:spPr>
            <a:xfrm>
              <a:off x="4876920" y="2133720"/>
              <a:ext cx="0" cy="8380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29200" y="2133720"/>
              <a:ext cx="0" cy="838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895480" y="3352680"/>
            <a:ext cx="152280" cy="838440"/>
            <a:chOff x="2895480" y="3352680"/>
            <a:chExt cx="152280" cy="838440"/>
          </a:xfrm>
        </p:grpSpPr>
        <p:sp>
          <p:nvSpPr>
            <p:cNvPr id="82" name=""/>
            <p:cNvSpPr/>
            <p:nvPr/>
          </p:nvSpPr>
          <p:spPr>
            <a:xfrm>
              <a:off x="2895480" y="3352680"/>
              <a:ext cx="0" cy="838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7760" y="3352680"/>
              <a:ext cx="0" cy="8384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733920" y="3352680"/>
            <a:ext cx="152280" cy="838440"/>
            <a:chOff x="3733920" y="3352680"/>
            <a:chExt cx="152280" cy="838440"/>
          </a:xfrm>
        </p:grpSpPr>
        <p:sp>
          <p:nvSpPr>
            <p:cNvPr id="85" name=""/>
            <p:cNvSpPr/>
            <p:nvPr/>
          </p:nvSpPr>
          <p:spPr>
            <a:xfrm>
              <a:off x="3733920" y="3352680"/>
              <a:ext cx="0" cy="8384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86200" y="3352680"/>
              <a:ext cx="0" cy="8384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5486400" y="3352680"/>
            <a:ext cx="152280" cy="838080"/>
            <a:chOff x="5486400" y="3352680"/>
            <a:chExt cx="152280" cy="838080"/>
          </a:xfrm>
        </p:grpSpPr>
        <p:sp>
          <p:nvSpPr>
            <p:cNvPr id="88" name=""/>
            <p:cNvSpPr/>
            <p:nvPr/>
          </p:nvSpPr>
          <p:spPr>
            <a:xfrm>
              <a:off x="5638680" y="3352680"/>
              <a:ext cx="0" cy="838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86400" y="3352680"/>
              <a:ext cx="0" cy="8380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572000" y="3352680"/>
            <a:ext cx="152280" cy="838440"/>
            <a:chOff x="4572000" y="3352680"/>
            <a:chExt cx="152280" cy="838440"/>
          </a:xfrm>
        </p:grpSpPr>
        <p:sp>
          <p:nvSpPr>
            <p:cNvPr id="91" name=""/>
            <p:cNvSpPr/>
            <p:nvPr/>
          </p:nvSpPr>
          <p:spPr>
            <a:xfrm>
              <a:off x="4572000" y="3352680"/>
              <a:ext cx="0" cy="8384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24280" y="3352680"/>
              <a:ext cx="0" cy="8384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791320" y="129528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1600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一次复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66688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28954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二次复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990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复制一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990720"/>
            <a:ext cx="228600" cy="3276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85320 h 3276360"/>
              <a:gd name="textAreaBottom" fmla="*/ 319104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2743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复制两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73520" y="15192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三、与有丝分裂和减数分裂相结合的题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2286000" cy="1693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1840320"/>
            <a:ext cx="91440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某二倍体生物（染色体数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）染色体上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N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用</a:t>
            </a:r>
            <a:r>
              <a:rPr b="0" lang="zh-CN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充分标记，在置于不含</a:t>
            </a:r>
            <a:r>
              <a:rPr b="0" lang="zh-CN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的培养基中培养，其有丝分裂过程中细胞局部结构变化过程如右图所示。下列有关叙述错误的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图甲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N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解旋酶可从①进入，与③直接相连的具膜细胞器是内质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图乙所处时期核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N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数：染色单体：同源染色体对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4:4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图丙表示细胞处于有丝分裂末期，其判断依据是核膜正在重新构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若经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充分标记的细胞经过两次连续的有丝分裂，则子细胞中含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的染色体数目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05400" y="609480"/>
            <a:ext cx="15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（南京市、盐城市、徐州市二模）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6705360" cy="2354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685800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40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7162560" cy="2112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80880" y="555120"/>
            <a:ext cx="876312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（泰州市一模）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（获取图形中知识的能力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 PCR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将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NA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（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和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NA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聚合酶链式扩增反应相结合的技术，具体过程如下图所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440316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）过程Ⅱ拟对单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DN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进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次循环的扩增，理论上至少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要               个引物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8840" y="228600"/>
            <a:ext cx="197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、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技术相结合的题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31520" y="502920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800" spc="-1" strike="noStrike" baseline="30000">
                <a:solidFill>
                  <a:srgbClr val="ff0000"/>
                </a:solidFill>
                <a:latin typeface="Arial"/>
              </a:rPr>
              <a:t>n-1</a:t>
            </a:r>
            <a:r>
              <a:rPr b="0" lang="zh-CN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5486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4-17T09:04:4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